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A53A0-D1D3-4CB2-A1A4-80340E80F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4114-5887-4854-855A-8511190A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4EBCE-D279-448F-BC7B-63348F91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80856-A436-4C8F-951D-BB3BF5A7C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55AD9-C4B8-40BF-92E1-235E9621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63863-DF0F-4699-AD6A-75B256719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90190-E740-4954-B9B9-6DFC8B50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2B51B-785C-425A-8A0C-8FE3A7F66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20E86-7913-49AD-B69E-BDEF51C1E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47B1-C7FD-4104-812D-D56D341CC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1460-2EDB-47B5-8C88-9FF40149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8D18-020F-4AEC-ABA5-AA66924A7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64EF-9A08-452A-A67E-CB2FD47DA0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nl.wikipedia.org/wiki/Ziektekostenverzekering" TargetMode="External"/><Relationship Id="rId2" Type="http://schemas.openxmlformats.org/officeDocument/2006/relationships/hyperlink" Target="http://nl.wikipedia.org/wiki/Ingezeten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18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  Vergelijk jouw zorgpasje met die van jouw klasgeno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AWB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WB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gemene Wet Bijzondere Ziektekosten</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in Nederland een verplichte, collectieve </a:t>
            </a:r>
            <a:r>
              <a:rPr b="0" lang="nl-NL" sz="2400" spc="-1" strike="noStrike" u="sng">
                <a:solidFill>
                  <a:srgbClr val="ccccff"/>
                </a:solidFill>
                <a:uFillTx/>
                <a:latin typeface="Times New Roman"/>
                <a:ea typeface="Courier New"/>
                <a:hlinkClick r:id="rId1"/>
              </a:rPr>
              <a:t>kering</a:t>
            </a:r>
            <a:r>
              <a:rPr b="0" lang="nl-NL" sz="2400" spc="-1" strike="noStrike">
                <a:solidFill>
                  <a:srgbClr val="000000"/>
                </a:solidFill>
                <a:latin typeface="Times New Roman"/>
                <a:ea typeface="Courier New"/>
              </a:rPr>
              <a:t> voor niet individueel verzekerbare ziektenkosten-risico's.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Verzekerd voor de AWBZ zijn </a:t>
            </a:r>
            <a:r>
              <a:rPr b="0" lang="nl-NL" sz="2400" spc="-1" strike="noStrike" u="sng">
                <a:solidFill>
                  <a:srgbClr val="ccccff"/>
                </a:solidFill>
                <a:uFillTx/>
                <a:latin typeface="Times New Roman"/>
                <a:ea typeface="Courier New"/>
                <a:hlinkClick r:id="rId2"/>
              </a:rPr>
              <a:t>i</a:t>
            </a:r>
            <a:r>
              <a:rPr b="0" lang="nl-NL" sz="2400" spc="-1" strike="noStrike">
                <a:solidFill>
                  <a:srgbClr val="000000"/>
                </a:solidFill>
                <a:latin typeface="Times New Roman"/>
                <a:ea typeface="Courier New"/>
              </a:rPr>
              <a:t>ingezetenen van Nederland en niet-ingezetenen van Nederland die bepaalde inkomsten in Nederland genieten.</a:t>
            </a:r>
            <a:r>
              <a:rPr b="0" lang="nl-NL"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Is een volksverzek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http://nl.wikipedia.org/wiki/Algemene_Wet_Bijzondere_Ziektekost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Annelies de Groot</cp:lastModifiedBy>
  <dcterms:modified xsi:type="dcterms:W3CDTF">2018-11-20T17:29:00Z</dcterms:modified>
  <cp:revision>7</cp:revision>
  <dc:subject/>
  <dc:title>Administratie in de huisartsenpraktijk</dc:title>
</cp:coreProperties>
</file>