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C82FE-A026-4C59-84C0-DB2D50E53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CA338-7986-4038-A3B0-A5314F77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04C32-20A9-4833-9123-F51483EAB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B9AB7-0F30-4182-91DE-89B56F547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A8B7-8E68-426F-BBF6-6D917755F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DA9EF-553E-4DB2-8D9B-0C2F5F9FA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584D5-F148-4F82-84FC-56280EF4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09E6-F9DF-438A-97A4-C0E8C349D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F6E07-BA88-49F3-B990-D168240CB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4986-DE37-42FE-A494-DB8ADEFF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8B5C-3616-48D5-8071-A5EF013D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7B4A-E102-48A3-9B99-FB3D01524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607B-E66D-467D-9872-F7E23E880D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nl.wikipedia.org/wiki/Ziektekostenverzekering" TargetMode="External"/><Relationship Id="rId2" Type="http://schemas.openxmlformats.org/officeDocument/2006/relationships/hyperlink" Target="http://nl.wikipedia.org/wiki/Ingezeten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18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  Vergelijk jouw zorgpasje met die van jouw klasgeno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AWB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WB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gemene Wet Bijzondere Ziektekoste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in Nederland een verplichte, collectieve </a:t>
            </a:r>
            <a:r>
              <a:rPr b="0" lang="nl-NL" sz="2400" spc="-1" strike="noStrike" u="sng">
                <a:solidFill>
                  <a:srgbClr val="ccccff"/>
                </a:solidFill>
                <a:uFillTx/>
                <a:latin typeface="Times New Roman"/>
                <a:ea typeface="Courier New"/>
                <a:hlinkClick r:id="rId1"/>
              </a:rPr>
              <a:t>kering</a:t>
            </a:r>
            <a:r>
              <a:rPr b="0" lang="nl-NL" sz="2400" spc="-1" strike="noStrike">
                <a:solidFill>
                  <a:srgbClr val="000000"/>
                </a:solidFill>
                <a:latin typeface="Times New Roman"/>
                <a:ea typeface="Courier New"/>
              </a:rPr>
              <a:t> voor niet individueel verzekerbare ziektenkosten-risico'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Verzekerd voor de AWBZ zijn </a:t>
            </a:r>
            <a:r>
              <a:rPr b="0" lang="nl-NL" sz="2400" spc="-1" strike="noStrike" u="sng">
                <a:solidFill>
                  <a:srgbClr val="ccccff"/>
                </a:solidFill>
                <a:uFillTx/>
                <a:latin typeface="Times New Roman"/>
                <a:ea typeface="Courier New"/>
                <a:hlinkClick r:id="rId2"/>
              </a:rPr>
              <a:t>i</a:t>
            </a:r>
            <a:r>
              <a:rPr b="0" lang="nl-NL" sz="2400" spc="-1" strike="noStrike">
                <a:solidFill>
                  <a:srgbClr val="000000"/>
                </a:solidFill>
                <a:latin typeface="Times New Roman"/>
                <a:ea typeface="Courier New"/>
              </a:rPr>
              <a:t>ingezetenen van Nederland en niet-ingezetenen van Nederland die bepaalde inkomsten in Nederland genieten.</a:t>
            </a:r>
            <a:r>
              <a:rPr b="0" lang="nl-NL"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een volksverzek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http://nl.wikipedia.org/wiki/Algemene_Wet_Bijzondere_Ziektekost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Annelies de Groot</cp:lastModifiedBy>
  <dcterms:modified xsi:type="dcterms:W3CDTF">2018-11-20T17:29:00Z</dcterms:modified>
  <cp:revision>7</cp:revision>
  <dc:subject/>
  <dc:title>Administratie in de huisartsenpraktijk</dc:title>
</cp:coreProperties>
</file>