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578-799C-43FF-938F-4B27BC9A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514-5B10-424E-BC2C-3C15D455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49E-24C1-4EB3-991C-FBB72717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901-5D6C-440F-AE52-E397FA62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953-5D5F-4383-B749-D69E3AE2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344-22D4-45BA-88EB-9932673D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3D0-3553-4906-B56B-2283C0BD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A84-647F-4414-8DFC-2EB786FD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956-11B2-4C89-86E8-09594EE8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ECE-6F63-48BB-8992-7DFCC8DA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8EF-897E-4C13-B9EA-C0BA19A8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602-4ED3-4BE7-B5ED-E596CD2A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74D7-ABAC-4AE9-9A33-216DE0BA1768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97164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Calibri"/>
              </a:rPr>
              <a:t>Cultuurtechni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ma Gro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fbeelding 1" descr=""/>
          <p:cNvPicPr/>
          <p:nvPr/>
        </p:nvPicPr>
        <p:blipFill>
          <a:blip r:embed="rId2"/>
          <a:stretch/>
        </p:blipFill>
        <p:spPr>
          <a:xfrm>
            <a:off x="0" y="3727440"/>
            <a:ext cx="4172040" cy="3130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0920" y="260280"/>
            <a:ext cx="49071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wer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8000" y="765000"/>
            <a:ext cx="43876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Funderingsmateri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Soorten, eigenschappen, toepas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erken in depot</a:t>
            </a:r>
            <a:br>
              <a:rPr sz="2800"/>
            </a:b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In welke situatie’s (voorbeelden), machine keuzes, hoe te verwerk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erken in sleu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In welke situatie’s (voorbeelden), machine keuzes, hoe te verwerk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erken in cu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In welke situatie’s (voorbeelden), machine keuzes, hoe te verwerk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erken groot oppervlak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 welke situatie’s (voorbeelden), machine keuzes, hoe te verwerk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dichten en zetten van gr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Hoe wordt de grond in bovenstaande situatie’s verdicht? (machinekeuze, waarom, geef verschillende voorbeelde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oen:</a:t>
            </a:r>
            <a:br>
              <a:rPr sz="3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Een korte powerpoint presenta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45 min voorberei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Gebruik, foto’s en filmpjes, geef voorbeel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Gebruik boek blz 213 t/m 230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Klas wordt opgedeeld door de docent in 6 groepjes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5:07:22Z</dcterms:created>
  <dc:creator>Fam. van  Melis</dc:creator>
  <dc:description/>
  <dc:language>en-US</dc:language>
  <cp:lastModifiedBy>Teun van Ooijen</cp:lastModifiedBy>
  <dcterms:modified xsi:type="dcterms:W3CDTF">2017-09-11T06:12:51Z</dcterms:modified>
  <cp:revision>90</cp:revision>
  <dc:subject/>
  <dc:title>welkom</dc:title>
</cp:coreProperties>
</file>