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688-12AF-4083-9AD1-E0F9066A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7B8-C76A-42F8-BDFE-4DA100E0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FE7-DED6-48FD-9C81-4A190A8E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FE4-C9CC-4090-8EEC-CAF61ED2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BAF2-180C-4FC4-A554-C0DC1CBF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BA0-73C0-447B-AF7A-C7B70489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A83-E213-4FC3-8E71-5125D34B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244-E3AD-48C4-AEFE-478CDBAA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1CF-CA67-4494-8162-5268EBE9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E06-FAC2-4E40-9459-32098B12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0BE-7B82-4F84-9BAC-0CD2C380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91D-F994-45A5-BA3B-ACAF8C8C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8214-3832-4D5A-AD08-C59A85C2A426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97164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Calibri"/>
              </a:rPr>
              <a:t>Cultuurtechni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ma Gro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fbeelding 1" descr=""/>
          <p:cNvPicPr/>
          <p:nvPr/>
        </p:nvPicPr>
        <p:blipFill>
          <a:blip r:embed="rId2"/>
          <a:stretch/>
        </p:blipFill>
        <p:spPr>
          <a:xfrm>
            <a:off x="0" y="3727440"/>
            <a:ext cx="4172040" cy="3130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10920" y="260280"/>
            <a:ext cx="49071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nderwer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8000" y="765000"/>
            <a:ext cx="43876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Funderingsmateri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- Soorten, eigenschappen, toepass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werken in depot</a:t>
            </a:r>
            <a:br>
              <a:rPr sz="2800"/>
            </a:b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- In welke situatie’s (voorbeelden), machine keuzes, hoe te verwerk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werken in sleu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- In welke situatie’s (voorbeelden), machine keuzes, hoe te verwerk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werken in cu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- In welke situatie’s (voorbeelden), machine keuzes, hoe te verwerk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werken groot oppervlak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 welke situatie’s (voorbeelden), machine keuzes, hoe te verwerk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dichten en zetten van gr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- Hoe wordt de grond in bovenstaande situatie’s verdicht? (machinekeuze, waarom, geef verschillende voorbeelde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oen:</a:t>
            </a:r>
            <a:br>
              <a:rPr sz="3600"/>
            </a:b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- Een korte powerpoint presenta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- 45 min voorbereid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- Gebruik, foto’s en filmpjes, geef voorbeeld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- Gebruik boek blz 213 t/m 230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- Klas wordt opgedeeld door de docent in 6 groepjes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5:07:22Z</dcterms:created>
  <dc:creator>Fam. van  Melis</dc:creator>
  <dc:description/>
  <dc:language>en-US</dc:language>
  <cp:lastModifiedBy>Teun van Ooijen</cp:lastModifiedBy>
  <dcterms:modified xsi:type="dcterms:W3CDTF">2017-09-11T06:12:51Z</dcterms:modified>
  <cp:revision>90</cp:revision>
  <dc:subject/>
  <dc:title>welkom</dc:title>
</cp:coreProperties>
</file>