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D85-99EA-41A8-91BA-0A5FCF8A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8BF-D729-4317-8F38-FC0C4A82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F4F-C009-44D5-BAF9-572206FC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9CD-34DA-4F97-A262-644C009E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181-B123-49E6-AC7A-563191A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03-2140-4C0B-907F-A76EBC9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B77-7C5A-4503-A918-2CB53CA1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8E6-4536-43C4-82A8-9929F0E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15C-4C82-4D3C-9DBD-1975282D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901-F0B8-406A-AE97-2D5AB47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B70-F639-417D-AA5E-F4C3F38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414-91A4-466B-BC05-182299B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A27-9DA4-4B09-879E-ECEE433AACB2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971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Cultuurtechni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ma Gro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fbeelding 1" descr=""/>
          <p:cNvPicPr/>
          <p:nvPr/>
        </p:nvPicPr>
        <p:blipFill>
          <a:blip r:embed="rId2"/>
          <a:stretch/>
        </p:blipFill>
        <p:spPr>
          <a:xfrm>
            <a:off x="0" y="3727440"/>
            <a:ext cx="4172040" cy="31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49071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765000"/>
            <a:ext cx="43876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Funder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Soorten, eigenschappen, toepa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depot</a:t>
            </a:r>
            <a:br>
              <a:rPr sz="2800"/>
            </a:b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sleu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in cu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erken groot oppervla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welke situatie’s (voorbeelden), machine keuzes, hoe te verwerk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dichten en zetten van gr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- Hoe wordt de grond in bovenstaande situatie’s verdicht? (machinekeuze, waarom, geef verschillende voorbeeld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n:</a:t>
            </a:r>
            <a:br>
              <a:rPr sz="3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Een korte powerpoint presenta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45 min voorberei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, foto’s en filmpjes, geef voorbeel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Gebruik boek blz 213 t/m 230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Klas wordt opgedeeld door de docent in 6 groepje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5:07:22Z</dcterms:created>
  <dc:creator>Fam. van  Melis</dc:creator>
  <dc:description/>
  <dc:language>en-US</dc:language>
  <cp:lastModifiedBy>Teun van Ooijen</cp:lastModifiedBy>
  <dcterms:modified xsi:type="dcterms:W3CDTF">2017-09-11T06:12:51Z</dcterms:modified>
  <cp:revision>90</cp:revision>
  <dc:subject/>
  <dc:title>welkom</dc:title>
</cp:coreProperties>
</file>