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4A1E-A37D-4402-8422-EA442B1B9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7003-14CB-4A97-B837-B93B2D53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1147-68E9-485F-BDA2-805FE2FE6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7218-D162-4A9F-9E6C-672591A7B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B6EC-E0A2-43AF-9753-57A914882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05048-4BEF-4FD1-9894-7D4AF77C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DBA42-C65E-4AE2-9620-F48D3198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9F73-450E-40B6-A63E-B7815345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896D-CE82-4319-8AB0-48F31081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497A-C07E-4AB8-A29C-9FFA9D3C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392F-B54B-42CC-89C9-D32DCF0A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24F9-98D8-409F-8DAE-27017BED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8E66-D008-42D0-A754-7F1A5C62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2061-A235-4D77-BD96-6EAC7DB4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02AC-8DD0-4670-811F-F54F07CE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CADB-0E47-4598-B8CE-9A7265B07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D275-4944-48BE-A259-05833D9C2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42B19-A5F7-4585-8CD6-4A50E3F69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C91A4-3695-4E92-BABA-3BD03F7C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A8D1C-4C18-4C18-97DF-92666D42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4FBAF-0803-4FAC-A409-DEE4DD45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A435F-0B77-44E7-AA85-D9E7AE23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1452-A3EE-4C73-A7F7-9D4CC3C2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871F1-3F07-4873-9F98-FD00E479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E7EBF-21AA-4A66-8420-6BB65A87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9A8BE-358B-4D02-B6F2-E653DEBE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11632-BED7-421E-AE56-5083AA85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1B9D6-9F50-4B64-AEEA-32217245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ACA0F-88A4-4725-85CB-DB9448EEB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1EEFA-CB46-4A1B-82B8-CFA41D8AC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102AD-74A2-475B-AEEF-2DA423951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53E9B-4F11-4DE2-98F0-A7F13A17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23E54-2CD7-4E1F-9E90-7C631515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1875-14E7-4581-8510-564DDECC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6E644-40D1-4423-8E6D-80CA50A3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94A2F-4321-4971-886F-E86C38CF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85DEC-7A89-4541-BD26-ACE1BB0BE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285DC-7A80-47AF-8882-A8F61456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E8581-98DD-402F-B0C9-98092B0C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3CCEF-A3C9-439B-B9D9-4FAF3AA3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003BA-7EC5-4DE5-99C3-E535DF9A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06B6E-5261-4224-9667-04935B5E3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1911C-9CB3-444D-967A-CCA3F78ED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9233-E6FC-4C75-A89D-C09AB6FD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A45A-46DB-4991-96C9-B2C8C9D2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5C5F-52FE-41BF-98BF-BD0498DB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05A8-15A6-4DC5-950A-58165BB4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1E1A-72AE-43E6-8CDE-44D2BED8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CCD7-706B-4184-A20A-AF139A7F4EE1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0F13-2466-4383-952B-62BF29EA2E67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ED68-5BD8-4795-B3F4-6319403D60E1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FF33-84C4-4925-9609-717333897286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el 1" descr=""/>
          <p:cNvPicPr/>
          <p:nvPr/>
        </p:nvPicPr>
        <p:blipFill>
          <a:blip r:embed="rId1"/>
          <a:stretch/>
        </p:blipFill>
        <p:spPr>
          <a:xfrm>
            <a:off x="0" y="401760"/>
            <a:ext cx="7223040" cy="1969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4920" y="436572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97" name="Afbeelding 4" descr="fokke en sukke diarree.jpg"/>
          <p:cNvPicPr/>
          <p:nvPr/>
        </p:nvPicPr>
        <p:blipFill>
          <a:blip r:embed="rId2"/>
          <a:stretch/>
        </p:blipFill>
        <p:spPr>
          <a:xfrm>
            <a:off x="4500720" y="2060640"/>
            <a:ext cx="38541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orkomen beter dan genez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ak kleine beetjes dan heel glas in een ke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 bij tekor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ouill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 (oral rehydration salts) bij braken/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Plaats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nk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ms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0" name="Afbeelding 3" descr="oedeem 2.jpg"/>
          <p:cNvPicPr/>
          <p:nvPr/>
        </p:nvPicPr>
        <p:blipFill>
          <a:blip r:embed="rId1"/>
          <a:stretch/>
        </p:blipFill>
        <p:spPr>
          <a:xfrm>
            <a:off x="3995640" y="2317680"/>
            <a:ext cx="46386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ndere oorzaak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ymfe-oedeem (ledemaa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br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ednis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(hele lichaa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3" name="Afbeelding 4" descr="oedeem.jpg"/>
          <p:cNvPicPr/>
          <p:nvPr/>
        </p:nvPicPr>
        <p:blipFill>
          <a:blip r:embed="rId1"/>
          <a:stretch/>
        </p:blipFill>
        <p:spPr>
          <a:xfrm>
            <a:off x="3419640" y="2924280"/>
            <a:ext cx="50400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spannen glanzende hu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utje in druk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wichtstoename 1-2 kg in paar da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rtademigheid bij inspanning/ plat lig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dlegerige zv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uwen in huid van stuit en ru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988640"/>
            <a:ext cx="8434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a na wat de oorzaak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nderen met zou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wegen: stimuleert doorbloeding/spierfun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nen hoog als z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artfalen: 3 x per week wegen (ma, woe, vri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eunkou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wachte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8" name="Afbeelding 3" descr="wegenschaal.jpg"/>
          <p:cNvPicPr/>
          <p:nvPr/>
        </p:nvPicPr>
        <p:blipFill>
          <a:blip r:embed="rId1"/>
          <a:stretch/>
        </p:blipFill>
        <p:spPr>
          <a:xfrm>
            <a:off x="6732720" y="4724280"/>
            <a:ext cx="19238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Functie van zouten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langrijke zouten: natrium, kal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itscheiden bij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/ 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lasmedicatie (diuretic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, bouillon, medicatie (Kalium tabletten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Afbeelding 3" descr="braken.jpg"/>
          <p:cNvPicPr/>
          <p:nvPr/>
        </p:nvPicPr>
        <p:blipFill>
          <a:blip r:embed="rId1"/>
          <a:stretch/>
        </p:blipFill>
        <p:spPr>
          <a:xfrm>
            <a:off x="6875640" y="2421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ragen?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pic>
        <p:nvPicPr>
          <p:cNvPr id="233" name="Tijdelijke aanduiding voor inhoud 3" descr="griep1.jpg"/>
          <p:cNvPicPr/>
          <p:nvPr/>
        </p:nvPicPr>
        <p:blipFill>
          <a:blip r:embed="rId1"/>
          <a:stretch/>
        </p:blipFill>
        <p:spPr>
          <a:xfrm>
            <a:off x="2484360" y="2421000"/>
            <a:ext cx="4183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nodig voor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voedingsstoff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afvalstoff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ofwisselingsstelsel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tabolism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intak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ink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000 – 16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t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800 – 10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brandingsproces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00 – 4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outpu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ieren 1100 – 18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armen 100 – 2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balans 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Gill Sans MT"/>
              </a:rPr>
              <a:t>Duur: 24 uur (8 uur tot volgende ochtend 8 uu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ega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minder dan vocht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uitdroging (dehydrati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osi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groter dan vocht 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vocht vasthouden (oedee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 – 3% vocht tekor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orstgevo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oge mo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 en up da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4 – 6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ustelo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oeidhe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sselij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nelle/ zwakke po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intelende lichaamsuitei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7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aaieri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demnoo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age bloeddru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inder zich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plooi blijft sta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p houdt o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ep liggende holle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15-20% overlij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2" name="Afbeelding 3" descr="vocht 3.jpg"/>
          <p:cNvPicPr/>
          <p:nvPr/>
        </p:nvPicPr>
        <p:blipFill>
          <a:blip r:embed="rId1"/>
          <a:stretch/>
        </p:blipFill>
        <p:spPr>
          <a:xfrm>
            <a:off x="4427640" y="3933720"/>
            <a:ext cx="44114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Oorzak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 weinig drin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it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or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loed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dicijn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Afbeelding 4" descr="vocht 1.bmp"/>
          <p:cNvPicPr/>
          <p:nvPr/>
        </p:nvPicPr>
        <p:blipFill>
          <a:blip r:embed="rId1"/>
          <a:stretch/>
        </p:blipFill>
        <p:spPr>
          <a:xfrm>
            <a:off x="5003640" y="1989000"/>
            <a:ext cx="27370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nda</dc:creator>
  <dc:description/>
  <dc:language>en-US</dc:language>
  <cp:lastModifiedBy>E. Scheltens-Flink</cp:lastModifiedBy>
  <dcterms:modified xsi:type="dcterms:W3CDTF">2015-08-23T14:35:03Z</dcterms:modified>
  <cp:revision>15</cp:revision>
  <dc:subject/>
  <dc:title>Vocht huishouding</dc:title>
</cp:coreProperties>
</file>