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5465-F64D-4482-B153-61045E4CD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FD2C-2219-4B3F-9409-CF782E82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105A-6725-4C3F-ACFD-F6E531872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87B4-CFFF-4027-A04D-64F58A208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BEE2-AE8B-413E-B167-4675513A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CBCD-0219-4E4E-8861-82460BA5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2712-417C-4DD2-816E-A11C69D1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EC4C-1888-4A0A-9F95-6D81CDFB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3B66-EA0F-482A-8158-901DF80F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62AC-2A28-4822-A348-18256D8D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4CE0-185B-4962-BB8E-B7391097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5CD1-4B20-42B0-B02D-FD8032FC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f2ff"/>
            </a:gs>
            <a:gs pos="100000">
              <a:srgbClr val="708aa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D50A-F9C3-43FC-A670-949330DC4C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ntranet.grundel.nl/grassroots/biologie/Waarnemen/html/huid%20schematisch1.jpg" TargetMode="External"/><Relationship Id="rId2" Type="http://schemas.openxmlformats.org/officeDocument/2006/relationships/hyperlink" Target="http://intranet.grundel.nl/grassroots/biologie/Waarnemen/html/huid%20schematisch1.jpg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 Unicode MS"/>
              </a:rPr>
              <a:t>Wondzorg</a:t>
            </a: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Calibri"/>
              </a:rPr>
              <a:t>Rood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ffff00"/>
                </a:solidFill>
                <a:latin typeface="Calibri"/>
              </a:rPr>
              <a:t>Geel 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Zwa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949480"/>
            <a:ext cx="9144000" cy="960480"/>
            <a:chOff x="0" y="2949480"/>
            <a:chExt cx="9144000" cy="960480"/>
          </a:xfrm>
        </p:grpSpPr>
        <p:sp>
          <p:nvSpPr>
            <p:cNvPr id="44" name="Rectangle 5"/>
            <p:cNvSpPr/>
            <p:nvPr/>
          </p:nvSpPr>
          <p:spPr>
            <a:xfrm>
              <a:off x="0" y="294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0" y="2949480"/>
              <a:ext cx="91440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 u="sng">
                  <a:solidFill>
                    <a:srgbClr val="eb8803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nl-NL" sz="5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nl-NL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Picture 7" descr="Bekijk de afbeelding op ware groott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380880"/>
            <a:ext cx="3168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ternationale verenig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uwe en betere materia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zichten bun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 aan werkv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lassificati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d: meer gestructureerde wond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ijdelijke aanduiding voor inhoud 8" descr="granulatieweefsel.bmp"/>
          <p:cNvPicPr/>
          <p:nvPr/>
        </p:nvPicPr>
        <p:blipFill>
          <a:blip r:embed="rId1"/>
          <a:stretch/>
        </p:blipFill>
        <p:spPr>
          <a:xfrm>
            <a:off x="533520" y="1828800"/>
            <a:ext cx="3560760" cy="2666880"/>
          </a:xfrm>
          <a:prstGeom prst="rect">
            <a:avLst/>
          </a:prstGeom>
          <a:ln w="0">
            <a:noFill/>
          </a:ln>
        </p:spPr>
      </p:pic>
      <p:pic>
        <p:nvPicPr>
          <p:cNvPr id="74" name="Tijdelijke aanduiding voor inhoud 9" descr="granulatieweefsel 1.bmp"/>
          <p:cNvPicPr/>
          <p:nvPr/>
        </p:nvPicPr>
        <p:blipFill>
          <a:blip r:embed="rId2"/>
          <a:stretch/>
        </p:blipFill>
        <p:spPr>
          <a:xfrm>
            <a:off x="4952880" y="3352680"/>
            <a:ext cx="3308400" cy="2514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bservatie bij wondzo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mliggende hu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1. verbandmateria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veelheid 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Afbeelding 3" descr="netverband.jpg"/>
          <p:cNvPicPr/>
          <p:nvPr/>
        </p:nvPicPr>
        <p:blipFill>
          <a:blip r:embed="rId1"/>
          <a:stretch/>
        </p:blipFill>
        <p:spPr>
          <a:xfrm>
            <a:off x="5181480" y="2989440"/>
            <a:ext cx="297180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2. Won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oo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ec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mat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rgische reac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ran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Afbeelding 3" descr="gele wond.jpg"/>
          <p:cNvPicPr/>
          <p:nvPr/>
        </p:nvPicPr>
        <p:blipFill>
          <a:blip r:embed="rId1"/>
          <a:stretch/>
        </p:blipFill>
        <p:spPr>
          <a:xfrm>
            <a:off x="3657600" y="1447920"/>
            <a:ext cx="3510000" cy="2666880"/>
          </a:xfrm>
          <a:prstGeom prst="rect">
            <a:avLst/>
          </a:prstGeom>
          <a:ln w="0">
            <a:noFill/>
          </a:ln>
        </p:spPr>
      </p:pic>
      <p:pic>
        <p:nvPicPr>
          <p:cNvPr id="86" name="Afbeelding 4" descr="rode wond.jpg"/>
          <p:cNvPicPr/>
          <p:nvPr/>
        </p:nvPicPr>
        <p:blipFill>
          <a:blip r:embed="rId2"/>
          <a:stretch/>
        </p:blipFill>
        <p:spPr>
          <a:xfrm>
            <a:off x="4572000" y="3429000"/>
            <a:ext cx="397188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3. Omliggende hu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adig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uid turg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empera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edeemvorm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terug naar vorige plaatje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 wondoppervl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anulerende bod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chtig hou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houd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en van beschadi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ragen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Soorten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Open wond = huid verbro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snij/steek/chirurgi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esloten wond = huid inta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kneuzing, bloeduitstorting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Afbeelding 5" descr="snijwond.bmp"/>
          <p:cNvPicPr/>
          <p:nvPr/>
        </p:nvPicPr>
        <p:blipFill>
          <a:blip r:embed="rId1"/>
          <a:stretch/>
        </p:blipFill>
        <p:spPr>
          <a:xfrm>
            <a:off x="6324480" y="2057400"/>
            <a:ext cx="2486160" cy="1838160"/>
          </a:xfrm>
          <a:prstGeom prst="rect">
            <a:avLst/>
          </a:prstGeom>
          <a:ln w="0">
            <a:noFill/>
          </a:ln>
        </p:spPr>
      </p:pic>
      <p:pic>
        <p:nvPicPr>
          <p:cNvPr id="50" name="Afbeelding 6" descr="bloeduitstorting.jpg"/>
          <p:cNvPicPr/>
          <p:nvPr/>
        </p:nvPicPr>
        <p:blipFill>
          <a:blip r:embed="rId2"/>
          <a:stretch/>
        </p:blipFill>
        <p:spPr>
          <a:xfrm>
            <a:off x="6477120" y="4648320"/>
            <a:ext cx="23144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Oorzak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Mechanisch (scherp/ sto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Thermis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hem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Elektr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Straling </a:t>
            </a: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(zon, laser en radiotherap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Infec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irculatiestoorn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Oncolog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Arial Unicode MS"/>
              </a:rPr>
              <a:t>Wondgenez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Prim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eenvoudi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Spoelen-drogen-stollingsproces-korstje-granulatieweefsel + huid-korstje era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Secund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complex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rootte-diepte-onregelmatig-vuil-ontsteking-dode/slechtdoorbloede hu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30120" y="406440"/>
            <a:ext cx="840744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Lichamelijk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t herst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t complicaties (vertragen herst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maken 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metting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ijn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Psychisch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ijven zichtb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unctie ver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ntracturen door verschromp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rmatie, eerlijk, tijd, luiste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cial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ieze, stinkende wond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sol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oede wondzorg, overlast beperken, luisteren, contact met instanties/lotgeno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CS 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woundcare consultant soci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8120" y="5866920"/>
            <a:ext cx="41148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lassificatie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1938240" y="1647720"/>
            <a:ext cx="4786200" cy="3311640"/>
            <a:chOff x="1938240" y="1647720"/>
            <a:chExt cx="4786200" cy="3311640"/>
          </a:xfrm>
        </p:grpSpPr>
        <p:sp>
          <p:nvSpPr>
            <p:cNvPr id="66" name="Rectangle 5"/>
            <p:cNvSpPr/>
            <p:nvPr/>
          </p:nvSpPr>
          <p:spPr>
            <a:xfrm>
              <a:off x="1938240" y="1647720"/>
              <a:ext cx="4786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6"/>
            <p:cNvGrpSpPr/>
            <p:nvPr/>
          </p:nvGrpSpPr>
          <p:grpSpPr>
            <a:xfrm>
              <a:off x="1938240" y="1780920"/>
              <a:ext cx="3500280" cy="3178440"/>
              <a:chOff x="1938240" y="1780920"/>
              <a:chExt cx="3500280" cy="3178440"/>
            </a:xfrm>
          </p:grpSpPr>
          <p:sp>
            <p:nvSpPr>
              <p:cNvPr id="68" name="Rectangle 7"/>
              <p:cNvSpPr/>
              <p:nvPr/>
            </p:nvSpPr>
            <p:spPr>
              <a:xfrm>
                <a:off x="1938240" y="1780920"/>
                <a:ext cx="35002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8"/>
              <p:cNvSpPr/>
              <p:nvPr/>
            </p:nvSpPr>
            <p:spPr>
              <a:xfrm>
                <a:off x="1938240" y="1780920"/>
                <a:ext cx="3214800" cy="317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  </a:t>
                </a:r>
                <a:r>
                  <a:rPr b="0" lang="nl-NL" sz="21300" spc="-1" strike="noStrike">
                    <a:solidFill>
                      <a:srgbClr val="990000"/>
                    </a:solidFill>
                    <a:latin typeface="Verdana"/>
                  </a:rPr>
                  <a:t> </a:t>
                </a: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0" name="Picture 9" descr="classificatiemodel"/>
          <p:cNvPicPr/>
          <p:nvPr/>
        </p:nvPicPr>
        <p:blipFill>
          <a:blip r:embed="rId1"/>
          <a:stretch/>
        </p:blipFill>
        <p:spPr>
          <a:xfrm>
            <a:off x="1295280" y="1447920"/>
            <a:ext cx="649152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2:02:12Z</dcterms:created>
  <dc:creator>j.snitjer</dc:creator>
  <dc:description/>
  <dc:language>en-US</dc:language>
  <cp:lastModifiedBy>E. Scheltens-Flink</cp:lastModifiedBy>
  <dcterms:modified xsi:type="dcterms:W3CDTF">2015-08-23T15:02:03Z</dcterms:modified>
  <cp:revision>24</cp:revision>
  <dc:subject/>
  <dc:title>Decubitus </dc:title>
</cp:coreProperties>
</file>