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C2E0E-CB2E-4047-B958-4F5C1AB78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40E1F-16DC-432F-AD89-40E5CAD95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5E28C-4CAC-401F-87F0-FAD289B9E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C1FDA-CAC0-439B-870D-7F296D2B1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4F004-21D0-499E-85C5-0232BD999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5AB6D-3903-405A-B6E0-A18FB76AB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697B3-A1B8-4D16-AA55-7AA76E907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94865-824B-4134-8A09-BDF9DA6F5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86ED5-84DE-44BD-88FF-A0A0888D2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C39AF-480E-4D41-8323-3C2864019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C8A00-41A4-4576-813F-D6B84EFB4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10FFC-CBE1-4DA0-AC0A-38B1027DA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f2ff"/>
            </a:gs>
            <a:gs pos="100000">
              <a:srgbClr val="708aa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87674-7896-4EE4-AE60-97BEC693C2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ntranet.grundel.nl/grassroots/biologie/Waarnemen/html/huid%20schematisch1.jpg" TargetMode="External"/><Relationship Id="rId2" Type="http://schemas.openxmlformats.org/officeDocument/2006/relationships/hyperlink" Target="http://intranet.grundel.nl/grassroots/biologie/Waarnemen/html/huid%20schematisch1.jpg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Arial Unicode MS"/>
              </a:rPr>
              <a:t>Wondzorg</a:t>
            </a:r>
            <a:r>
              <a:rPr b="0" lang="nl-NL" sz="44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886200"/>
            <a:ext cx="83059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0000"/>
                </a:solidFill>
                <a:latin typeface="Calibri"/>
              </a:rPr>
              <a:t>Rood</a:t>
            </a: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4000" spc="-1" strike="noStrike">
                <a:solidFill>
                  <a:srgbClr val="ffff00"/>
                </a:solidFill>
                <a:latin typeface="Calibri"/>
              </a:rPr>
              <a:t>Geel </a:t>
            </a: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4000" spc="-1" strike="noStrike">
                <a:solidFill>
                  <a:srgbClr val="000000"/>
                </a:solidFill>
                <a:latin typeface="Calibri"/>
              </a:rPr>
              <a:t>Zwar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3" name="Group 4"/>
          <p:cNvGrpSpPr/>
          <p:nvPr/>
        </p:nvGrpSpPr>
        <p:grpSpPr>
          <a:xfrm>
            <a:off x="0" y="2949480"/>
            <a:ext cx="9144000" cy="960480"/>
            <a:chOff x="0" y="2949480"/>
            <a:chExt cx="9144000" cy="960480"/>
          </a:xfrm>
        </p:grpSpPr>
        <p:sp>
          <p:nvSpPr>
            <p:cNvPr id="44" name="Rectangle 5"/>
            <p:cNvSpPr/>
            <p:nvPr/>
          </p:nvSpPr>
          <p:spPr>
            <a:xfrm>
              <a:off x="0" y="294948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Rectangle 6"/>
            <p:cNvSpPr/>
            <p:nvPr/>
          </p:nvSpPr>
          <p:spPr>
            <a:xfrm>
              <a:off x="0" y="2949480"/>
              <a:ext cx="914400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900" spc="-1" strike="noStrike" u="sng">
                  <a:solidFill>
                    <a:srgbClr val="eb8803"/>
                  </a:solidFill>
                  <a:uFillTx/>
                  <a:latin typeface="Times New Roman"/>
                  <a:hlinkClick r:id="rId1"/>
                </a:rPr>
                <a:t>  </a:t>
              </a:r>
              <a:r>
                <a:rPr b="0" lang="nl-NL" sz="57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nl-NL" sz="9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                 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6" name="Picture 7" descr="Bekijk de afbeelding op ware groott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380880"/>
            <a:ext cx="31687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WC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Internationale verenig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Nieuwe en betere material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Inzichten bundel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Info aan werkv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Classificatie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d: meer gestructureerde wondbehandel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Tijdelijke aanduiding voor inhoud 8" descr="granulatieweefsel.bmp"/>
          <p:cNvPicPr/>
          <p:nvPr/>
        </p:nvPicPr>
        <p:blipFill>
          <a:blip r:embed="rId1"/>
          <a:stretch/>
        </p:blipFill>
        <p:spPr>
          <a:xfrm>
            <a:off x="533520" y="1828800"/>
            <a:ext cx="3560760" cy="2666880"/>
          </a:xfrm>
          <a:prstGeom prst="rect">
            <a:avLst/>
          </a:prstGeom>
          <a:ln w="0">
            <a:noFill/>
          </a:ln>
        </p:spPr>
      </p:pic>
      <p:pic>
        <p:nvPicPr>
          <p:cNvPr id="74" name="Tijdelijke aanduiding voor inhoud 9" descr="granulatieweefsel 1.bmp"/>
          <p:cNvPicPr/>
          <p:nvPr/>
        </p:nvPicPr>
        <p:blipFill>
          <a:blip r:embed="rId2"/>
          <a:stretch/>
        </p:blipFill>
        <p:spPr>
          <a:xfrm>
            <a:off x="4952880" y="3352680"/>
            <a:ext cx="3308400" cy="251460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0000"/>
                </a:solidFill>
                <a:latin typeface="Calibri"/>
              </a:rPr>
              <a:t>Rode won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Observatie bij wondzor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erbandmateria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Wo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Omliggende hui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1. verbandmateria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Hoeveelheid verbandmateria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Soo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Geu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Kleu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Afbeelding 3" descr="netverband.jpg"/>
          <p:cNvPicPr/>
          <p:nvPr/>
        </p:nvPicPr>
        <p:blipFill>
          <a:blip r:embed="rId1"/>
          <a:stretch/>
        </p:blipFill>
        <p:spPr>
          <a:xfrm>
            <a:off x="5181480" y="2989440"/>
            <a:ext cx="2971800" cy="266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2. Wond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Kleu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Geu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Groot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Infecti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Hemato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llergische reac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wondrand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Afbeelding 3" descr="gele wond.jpg"/>
          <p:cNvPicPr/>
          <p:nvPr/>
        </p:nvPicPr>
        <p:blipFill>
          <a:blip r:embed="rId1"/>
          <a:stretch/>
        </p:blipFill>
        <p:spPr>
          <a:xfrm>
            <a:off x="3657600" y="1447920"/>
            <a:ext cx="3510000" cy="2666880"/>
          </a:xfrm>
          <a:prstGeom prst="rect">
            <a:avLst/>
          </a:prstGeom>
          <a:ln w="0">
            <a:noFill/>
          </a:ln>
        </p:spPr>
      </p:pic>
      <p:pic>
        <p:nvPicPr>
          <p:cNvPr id="86" name="Afbeelding 4" descr="rode wond.jpg"/>
          <p:cNvPicPr/>
          <p:nvPr/>
        </p:nvPicPr>
        <p:blipFill>
          <a:blip r:embed="rId2"/>
          <a:stretch/>
        </p:blipFill>
        <p:spPr>
          <a:xfrm>
            <a:off x="4572000" y="3429000"/>
            <a:ext cx="3971880" cy="30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6" dur="5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3. Omliggende hui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schadiging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Kleu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Huid turg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Temperatuu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Oedeemvorm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(terug naar vorige plaatjes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0000"/>
                </a:solidFill>
                <a:latin typeface="Calibri"/>
              </a:rPr>
              <a:t>Rode wond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Schoon wondoppervl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Granulerende bod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handel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ochtig houd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Schoonhoude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oorkomen van beschadig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Vragen?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 Unicode MS"/>
              </a:rPr>
              <a:t>Soorten wond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Unicode MS"/>
              </a:rPr>
              <a:t>Open wond = huid verbrok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Unicode MS"/>
              </a:rPr>
              <a:t>Bv. snij/steek/chirurgis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Unicode MS"/>
              </a:rPr>
              <a:t>Gesloten wond = huid intac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Unicode MS"/>
              </a:rPr>
              <a:t>Bv. kneuzing, bloeduitstortinge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Afbeelding 5" descr="snijwond.bmp"/>
          <p:cNvPicPr/>
          <p:nvPr/>
        </p:nvPicPr>
        <p:blipFill>
          <a:blip r:embed="rId1"/>
          <a:stretch/>
        </p:blipFill>
        <p:spPr>
          <a:xfrm>
            <a:off x="6324480" y="2057400"/>
            <a:ext cx="2486160" cy="1838160"/>
          </a:xfrm>
          <a:prstGeom prst="rect">
            <a:avLst/>
          </a:prstGeom>
          <a:ln w="0">
            <a:noFill/>
          </a:ln>
        </p:spPr>
      </p:pic>
      <p:pic>
        <p:nvPicPr>
          <p:cNvPr id="50" name="Afbeelding 6" descr="bloeduitstorting.jpg"/>
          <p:cNvPicPr/>
          <p:nvPr/>
        </p:nvPicPr>
        <p:blipFill>
          <a:blip r:embed="rId2"/>
          <a:stretch/>
        </p:blipFill>
        <p:spPr>
          <a:xfrm>
            <a:off x="6477120" y="4648320"/>
            <a:ext cx="2314440" cy="19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" dur="5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Arial Unicode MS"/>
              </a:rPr>
              <a:t>Oorzaken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 Unicode MS"/>
              </a:rPr>
              <a:t>Mechanisch (scherp/ stomp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 Unicode MS"/>
              </a:rPr>
              <a:t>Thermisch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 Unicode MS"/>
              </a:rPr>
              <a:t>Chemis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 Unicode MS"/>
              </a:rPr>
              <a:t>Elektris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 Unicode MS"/>
              </a:rPr>
              <a:t>Straling </a:t>
            </a:r>
            <a:r>
              <a:rPr b="0" lang="nl-NL" sz="2000" spc="-1" strike="noStrike">
                <a:solidFill>
                  <a:srgbClr val="000000"/>
                </a:solidFill>
                <a:latin typeface="Arial Unicode MS"/>
              </a:rPr>
              <a:t>(zon, laser en radiotherapi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 Unicode MS"/>
              </a:rPr>
              <a:t>Infecti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 Unicode MS"/>
              </a:rPr>
              <a:t>Circulatiestoorn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 Unicode MS"/>
              </a:rPr>
              <a:t>Oncologis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Arial Unicode MS"/>
              </a:rPr>
              <a:t>Wondgenezing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000000"/>
                </a:solidFill>
                <a:uFillTx/>
                <a:latin typeface="Arial Unicode MS"/>
              </a:rPr>
              <a:t>Primaire genezing </a:t>
            </a:r>
            <a:r>
              <a:rPr b="0" lang="nl-NL" sz="3200" spc="-1" strike="noStrike">
                <a:solidFill>
                  <a:srgbClr val="000000"/>
                </a:solidFill>
                <a:latin typeface="Arial Unicode MS"/>
              </a:rPr>
              <a:t>(eenvoudig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Unicode MS"/>
              </a:rPr>
              <a:t>Spoelen-drogen-stollingsproces-korstje-granulatieweefsel + huid-korstje eraf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000000"/>
                </a:solidFill>
                <a:uFillTx/>
                <a:latin typeface="Arial Unicode MS"/>
              </a:rPr>
              <a:t>Secundaire genezing </a:t>
            </a:r>
            <a:r>
              <a:rPr b="0" lang="nl-NL" sz="3200" spc="-1" strike="noStrike">
                <a:solidFill>
                  <a:srgbClr val="000000"/>
                </a:solidFill>
                <a:latin typeface="Arial Unicode MS"/>
              </a:rPr>
              <a:t>(complex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Unicode MS"/>
              </a:rPr>
              <a:t>Grootte-diepte-onregelmatig-vuil-ontsteking-dode/slechtdoorbloede hui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" dur="5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1656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Tijdelijke aanduiding voor inhoud 3" descr=""/>
          <p:cNvPicPr/>
          <p:nvPr/>
        </p:nvPicPr>
        <p:blipFill>
          <a:blip r:embed="rId1"/>
          <a:stretch/>
        </p:blipFill>
        <p:spPr>
          <a:xfrm>
            <a:off x="330120" y="406440"/>
            <a:ext cx="8407440" cy="577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Arial Unicode MS"/>
              </a:rPr>
              <a:t>Wondverzorging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000000"/>
                </a:solidFill>
                <a:uFillTx/>
                <a:latin typeface="Calibri"/>
              </a:rPr>
              <a:t>Lichamelijke zorg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vordert herste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oorkomt complicaties (vertragen herstel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vorderen doo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Schoonmaken wo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smetting voorkom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Pijn voorkom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" dur="5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" dur="500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9" dur="500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2" dur="500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Arial Unicode MS"/>
              </a:rPr>
              <a:t>Wondverzorg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000000"/>
                </a:solidFill>
                <a:uFillTx/>
                <a:latin typeface="Calibri"/>
              </a:rPr>
              <a:t>Psychische zorg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lijven zichtba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Functie verl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Contracturen door verschrompel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vorderen doo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Informatie, eerlijk, tijd, luistere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9" dur="500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2" dur="500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Arial Unicode MS"/>
              </a:rPr>
              <a:t>Wondverzorg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Sociale zorg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ieze, stinkende wonde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Isoleme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vorderen doo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Goede wondzorg, overlast beperken, luisteren, contact met instanties/lotgenote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9" dur="5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2" dur="500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Arial Unicode MS"/>
              </a:rPr>
              <a:t>WCS </a:t>
            </a:r>
            <a:br>
              <a:rPr sz="4400"/>
            </a:br>
            <a:r>
              <a:rPr b="0" lang="nl-NL" sz="2000" spc="-1" strike="noStrike">
                <a:solidFill>
                  <a:srgbClr val="000000"/>
                </a:solidFill>
                <a:latin typeface="Arial Unicode MS"/>
              </a:rPr>
              <a:t>woundcare consultant socie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8120" y="5866920"/>
            <a:ext cx="4114800" cy="3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233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 Unicode MS"/>
              </a:rPr>
              <a:t>Classificatie mod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5" name="Group 4"/>
          <p:cNvGrpSpPr/>
          <p:nvPr/>
        </p:nvGrpSpPr>
        <p:grpSpPr>
          <a:xfrm>
            <a:off x="1938240" y="1647720"/>
            <a:ext cx="4786200" cy="3311640"/>
            <a:chOff x="1938240" y="1647720"/>
            <a:chExt cx="4786200" cy="3311640"/>
          </a:xfrm>
        </p:grpSpPr>
        <p:sp>
          <p:nvSpPr>
            <p:cNvPr id="66" name="Rectangle 5"/>
            <p:cNvSpPr/>
            <p:nvPr/>
          </p:nvSpPr>
          <p:spPr>
            <a:xfrm>
              <a:off x="1938240" y="1647720"/>
              <a:ext cx="47862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7" name="Group 6"/>
            <p:cNvGrpSpPr/>
            <p:nvPr/>
          </p:nvGrpSpPr>
          <p:grpSpPr>
            <a:xfrm>
              <a:off x="1938240" y="1780920"/>
              <a:ext cx="3500280" cy="3178440"/>
              <a:chOff x="1938240" y="1780920"/>
              <a:chExt cx="3500280" cy="3178440"/>
            </a:xfrm>
          </p:grpSpPr>
          <p:sp>
            <p:nvSpPr>
              <p:cNvPr id="68" name="Rectangle 7"/>
              <p:cNvSpPr/>
              <p:nvPr/>
            </p:nvSpPr>
            <p:spPr>
              <a:xfrm>
                <a:off x="1938240" y="1780920"/>
                <a:ext cx="350028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Rectangle 8"/>
              <p:cNvSpPr/>
              <p:nvPr/>
            </p:nvSpPr>
            <p:spPr>
              <a:xfrm>
                <a:off x="1938240" y="1780920"/>
                <a:ext cx="3214800" cy="3178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89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NL" sz="700" spc="-1" strike="noStrike">
                    <a:solidFill>
                      <a:srgbClr val="990000"/>
                    </a:solidFill>
                    <a:latin typeface="Verdana"/>
                  </a:rPr>
                  <a:t>  </a:t>
                </a:r>
                <a:r>
                  <a:rPr b="0" lang="nl-NL" sz="21300" spc="-1" strike="noStrike">
                    <a:solidFill>
                      <a:srgbClr val="990000"/>
                    </a:solidFill>
                    <a:latin typeface="Verdana"/>
                  </a:rPr>
                  <a:t> </a:t>
                </a:r>
                <a:r>
                  <a:rPr b="0" lang="nl-NL" sz="700" spc="-1" strike="noStrike">
                    <a:solidFill>
                      <a:srgbClr val="99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70" name="Picture 9" descr="classificatiemodel"/>
          <p:cNvPicPr/>
          <p:nvPr/>
        </p:nvPicPr>
        <p:blipFill>
          <a:blip r:embed="rId1"/>
          <a:stretch/>
        </p:blipFill>
        <p:spPr>
          <a:xfrm>
            <a:off x="1295280" y="1447920"/>
            <a:ext cx="6491520" cy="42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8T12:02:12Z</dcterms:created>
  <dc:creator>j.snitjer</dc:creator>
  <dc:description/>
  <dc:language>en-US</dc:language>
  <cp:lastModifiedBy>E. Scheltens-Flink</cp:lastModifiedBy>
  <dcterms:modified xsi:type="dcterms:W3CDTF">2015-08-23T15:02:03Z</dcterms:modified>
  <cp:revision>24</cp:revision>
  <dc:subject/>
  <dc:title>Decubitus </dc:title>
</cp:coreProperties>
</file>