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9.png" ContentType="image/png"/>
  <Override PartName="/ppt/media/image5.png" ContentType="image/pn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5167-7136-4667-AD80-5915B566B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3071-9D80-45B7-853F-9EFD7F3B0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4B31-E549-4884-86D3-326DCCBC9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384D-15F8-4DFA-8868-FEF7017E8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9ECDF-6DDF-4DAB-8DFF-E85334BD1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5AFAF-9745-49ED-8102-C3C19D725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9D667-CA7D-41BB-BC92-73A6A17EE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63CC9-7E40-4AFC-8C5B-2F7C2417F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1AD18-BC8B-49F3-9500-E18FCFCFA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65838-5D45-4BEF-861A-9E63D2466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C6C55-69C2-4A57-90D7-E1B258618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67A6-D439-4EF3-83AD-F890DB425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2BBB5-23A4-4D87-90AC-BB6B5434E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D92D5-BA83-4461-88C9-010AF016A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182BC-FB25-405D-BC58-031B2A56A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EF298-8DB2-4EA8-A51A-54A140FBE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275BD-14A5-43E7-A98F-A11328B6F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E09CC-DC69-4E99-963B-EBECA2F29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CFD4B-60FD-46DF-9F46-8E7EE0A36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E69F9-E3A6-4FBE-A775-4E8313CD5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8050B-0242-4331-A1B5-176B2B0C4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87C52-6EE9-4BEA-B894-F5F851CA1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7A35-AA36-4C54-A20A-40245BC31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0E303-94F8-4D4A-977B-4C78AE11F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CE909-72DF-4804-8920-CA453B5BF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E4B61-D61E-4F4C-ABB4-2652F84B4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3EDCE-E106-4AE1-B47D-EE5B4582F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3BCCE-65A9-4059-9C41-3BFA42571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AA187-9149-4BB4-A9E8-75D6FC562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BDE43-FB6E-49A2-84C1-1F2B795DE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A40A6-A9FE-475A-9D1F-5DDD9E89E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29F37-9571-4058-9DF7-62C128024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446F3-C10F-4E04-B685-9CE76035E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6228-D72B-4F58-90B0-70C790F7A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E68B9-34D1-4B89-A611-884DD894E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D4129-11DA-4EB4-AE86-6FD4D6BA8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FC6B3-3848-467C-9A82-1740A560C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8BCC2-E7DC-4774-979B-2EB28F1B1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F3739-495C-4E42-8BF6-691188F6F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234AF-725E-485C-96BB-EF6F44E71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8D2BE-D62C-4DFE-B0C9-717550DB3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838D2-E0EA-4BD7-8FCE-FE83FDCB2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CC4A9D-641B-42CB-B02E-106C947D1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C496-EF72-4528-95BB-D4F7358A1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C7C6-25D9-4F07-A84A-CA2747587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C902-71D4-4126-B7A5-743AE9521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C783-E94C-4920-8349-15AB5D23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2DA2-08B0-4E47-AE3E-4C4BDE6CA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FE9EA-5885-4204-A457-5E3E47BF20BB}" type="slidenum"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11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2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56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F6274-6368-4B2C-84DF-A29E3F49A16F}" type="slidenum"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106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Gill San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34D42-2650-43B5-B00D-389951B459F7}" type="slidenum"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hthoek met één afgeknipte en afgeronde hoek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Rechthoekige driehoek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Vrije v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Vrije v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75583-CC2F-4D4F-A841-9FD0352AF961}" type="slidenum"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el 1" descr=""/>
          <p:cNvPicPr/>
          <p:nvPr/>
        </p:nvPicPr>
        <p:blipFill>
          <a:blip r:embed="rId1"/>
          <a:stretch/>
        </p:blipFill>
        <p:spPr>
          <a:xfrm>
            <a:off x="0" y="401760"/>
            <a:ext cx="7223040" cy="19699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394920" y="4365720"/>
            <a:ext cx="2592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6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197" name="Afbeelding 4" descr="fokke en sukke diarree.jpg"/>
          <p:cNvPicPr/>
          <p:nvPr/>
        </p:nvPicPr>
        <p:blipFill>
          <a:blip r:embed="rId2"/>
          <a:stretch/>
        </p:blipFill>
        <p:spPr>
          <a:xfrm>
            <a:off x="4500720" y="2060640"/>
            <a:ext cx="385416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cties bij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orkomen beter dan genez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ak kleine beetjes dan heel glas in een kee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anvullen bij tekort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ouillo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RS (oral rehydration salts) bij braken/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5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0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0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5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Plaatsen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Enke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uik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on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oms o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0" name="Afbeelding 3" descr="oedeem 2.jpg"/>
          <p:cNvPicPr/>
          <p:nvPr/>
        </p:nvPicPr>
        <p:blipFill>
          <a:blip r:embed="rId1"/>
          <a:stretch/>
        </p:blipFill>
        <p:spPr>
          <a:xfrm>
            <a:off x="3995640" y="2317680"/>
            <a:ext cx="463860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ndere oorzaak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ymfe-oedeem (ledemaat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bruik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rednis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(hele lichaam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3" name="Afbeelding 4" descr="oedeem.jpg"/>
          <p:cNvPicPr/>
          <p:nvPr/>
        </p:nvPicPr>
        <p:blipFill>
          <a:blip r:embed="rId1"/>
          <a:stretch/>
        </p:blipFill>
        <p:spPr>
          <a:xfrm>
            <a:off x="3419640" y="2924280"/>
            <a:ext cx="504000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spannen glanzende hui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utje in druk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wichtstoename 1-2 kg in paar da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ortademigheid bij inspanning/ plat lig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dlegerige zv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uwen in huid van stuit en ru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cties bij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1988640"/>
            <a:ext cx="8434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a na wat de oorzaak i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inderen met zout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wegen: stimuleert doorbloeding/spierfuncti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nen hoog als zi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artfalen: 3 x per week wegen (ma, woe, vrij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teunkous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Zwachtel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8" name="Afbeelding 3" descr="wegenschaal.jpg"/>
          <p:cNvPicPr/>
          <p:nvPr/>
        </p:nvPicPr>
        <p:blipFill>
          <a:blip r:embed="rId1"/>
          <a:stretch/>
        </p:blipFill>
        <p:spPr>
          <a:xfrm>
            <a:off x="6732720" y="4724280"/>
            <a:ext cx="192384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2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2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7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32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7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2" dur="5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Functie van zouten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langrijke zouten: natrium, kaliu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Uitscheiden bij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ken/ 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lasmedicatie (diuretica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anvullen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RS, bouillon, medicatie (Kalium tabletten)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31" name="Afbeelding 3" descr="braken.jpg"/>
          <p:cNvPicPr/>
          <p:nvPr/>
        </p:nvPicPr>
        <p:blipFill>
          <a:blip r:embed="rId1"/>
          <a:stretch/>
        </p:blipFill>
        <p:spPr>
          <a:xfrm>
            <a:off x="6875640" y="242100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4" dur="5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7" dur="50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ragen?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pic>
        <p:nvPicPr>
          <p:cNvPr id="233" name="Tijdelijke aanduiding voor inhoud 3" descr="griep1.jpg"/>
          <p:cNvPicPr/>
          <p:nvPr/>
        </p:nvPicPr>
        <p:blipFill>
          <a:blip r:embed="rId1"/>
          <a:stretch/>
        </p:blipFill>
        <p:spPr>
          <a:xfrm>
            <a:off x="2484360" y="2421000"/>
            <a:ext cx="418320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nodig voor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plossen van voedingsstoff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plossen van afvalstoff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tofwisselingsstelsel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etabolisme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intak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ormaal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ink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1000 – 16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Et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800 – 10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brandingsprocess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200 – 4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outpu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ormaal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ieren 1100 – 18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ongen 400 – 5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uid 400 – 5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armen 100 – 2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balans 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 u="sng">
                <a:solidFill>
                  <a:srgbClr val="000000"/>
                </a:solidFill>
                <a:uFillTx/>
                <a:latin typeface="Gill Sans MT"/>
              </a:rPr>
              <a:t>Duur: 24 uur (8 uur tot volgende ochtend 8 uur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egatieve vochtbalans =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cht opname minder dan vocht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volg: uitdroging (dehydratie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ositieve vochtbalans =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cht opname groter dan vocht 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volg: vocht vasthouden (oedeem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1 – 3% vocht tekor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orstgevo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oge mon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iratie en up dal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oofdpij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4 – 6 % vocht tek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usteloo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moeidhei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isselij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oofdpij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nelle/ zwakke po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intelende lichaamsuitein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naf 7 % vocht tek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aaieri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demnoo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age bloeddru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minder zich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uidplooi blijft staa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Up houdt op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iep liggende holle o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naf 15-20% overlij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2" name="Afbeelding 3" descr="vocht 3.jpg"/>
          <p:cNvPicPr/>
          <p:nvPr/>
        </p:nvPicPr>
        <p:blipFill>
          <a:blip r:embed="rId1"/>
          <a:stretch/>
        </p:blipFill>
        <p:spPr>
          <a:xfrm>
            <a:off x="4427640" y="3933720"/>
            <a:ext cx="441144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Oorzak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e weinig drin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itt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oort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loed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irati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edicijn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5" name="Afbeelding 4" descr="vocht 1.bmp"/>
          <p:cNvPicPr/>
          <p:nvPr/>
        </p:nvPicPr>
        <p:blipFill>
          <a:blip r:embed="rId1"/>
          <a:stretch/>
        </p:blipFill>
        <p:spPr>
          <a:xfrm>
            <a:off x="5003640" y="1989000"/>
            <a:ext cx="273708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inda</dc:creator>
  <dc:description/>
  <dc:language>en-US</dc:language>
  <cp:lastModifiedBy>E. Scheltens-Flink</cp:lastModifiedBy>
  <dcterms:modified xsi:type="dcterms:W3CDTF">2015-08-23T14:35:03Z</dcterms:modified>
  <cp:revision>15</cp:revision>
  <dc:subject/>
  <dc:title>Vocht huishouding</dc:title>
</cp:coreProperties>
</file>