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D93-8C6C-4A45-880C-E3BAB3E4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184D-2BD5-40A2-B69F-0C8894FA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2D78-C00C-4EE1-B809-FCC0EAC8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63AD-08B5-4065-ABA0-EE28649C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E66-8E71-4D84-A373-577DB552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2A8-5B33-4AE4-A153-704FD264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4E0E-F106-41B6-A564-681562A5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923-30F7-49E5-AC50-ED7E9F07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F50-C02F-4D9B-9CEC-A13C0787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9525-87E9-4302-B1B1-0B25D467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027-4551-4A03-A8E3-8A0B47E0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DD0A-7CC1-4C8A-82B8-391987C6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EDEF-C250-4BB0-B151-E3D6129C52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26920" y="633240"/>
            <a:ext cx="777744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85672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642160" cy="645660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971640" y="516420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tfSVtTSVP7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5616360" cy="4206960"/>
          </a:xfrm>
          <a:prstGeom prst="rect">
            <a:avLst/>
          </a:prstGeom>
          <a:ln w="0">
            <a:noFill/>
          </a:ln>
        </p:spPr>
      </p:pic>
      <p:sp>
        <p:nvSpPr>
          <p:cNvPr id="58" name="Tekstvak 1"/>
          <p:cNvSpPr/>
          <p:nvPr/>
        </p:nvSpPr>
        <p:spPr>
          <a:xfrm>
            <a:off x="1359360" y="609588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lik op de afbee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kstvak 1"/>
          <p:cNvSpPr/>
          <p:nvPr/>
        </p:nvSpPr>
        <p:spPr>
          <a:xfrm>
            <a:off x="1211400" y="549360"/>
            <a:ext cx="471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Digitaal pest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hthoek 3"/>
          <p:cNvSpPr/>
          <p:nvPr/>
        </p:nvSpPr>
        <p:spPr>
          <a:xfrm>
            <a:off x="1042920" y="692280"/>
            <a:ext cx="720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jij doen tege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logg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ster blokker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st-mailtjes negeren, er vooral niet op antwoorden en ook niet terug pest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print maken van het gesprek en jou dit laten zien. Je kunt dan samen kijken hoe je het oplos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beheerder van een website vragen de foto's of filmpjes onmiddellijk te verwijder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over praten met vertrouwde mensen: vrienden, de mentor, een leerkracht, bu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hthoek 3"/>
          <p:cNvSpPr/>
          <p:nvPr/>
        </p:nvSpPr>
        <p:spPr>
          <a:xfrm>
            <a:off x="1042920" y="692280"/>
            <a:ext cx="720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Kun je aangifte doen va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dt je gestalkt, bedreigd, gechanteerd, afgeperst of op een andere manier onder druk gezet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 dan contact op met de politie en doe aangifte, samen met je ouders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bewijs voor nodig: print de tekst, de foto('s) of de website en laat die zien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olen hebben vaak een vertrouwenspersoon bij de politie. (Zorgteamka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dader kan worden vervolgd volgens wetsartikel 285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09760" y="2421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s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kstvak 3"/>
          <p:cNvSpPr/>
          <p:nvPr/>
        </p:nvSpPr>
        <p:spPr>
          <a:xfrm>
            <a:off x="684360" y="981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versta jij onder pes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kstvak 1"/>
          <p:cNvSpPr/>
          <p:nvPr/>
        </p:nvSpPr>
        <p:spPr>
          <a:xfrm>
            <a:off x="539640" y="3860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het verschil tussen plagen en pes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kstvak 2"/>
          <p:cNvSpPr/>
          <p:nvPr/>
        </p:nvSpPr>
        <p:spPr>
          <a:xfrm>
            <a:off x="573120" y="486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e spelen het spel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en nieuwe lln in de kl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24000" y="257040"/>
            <a:ext cx="864072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78544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311040"/>
            <a:ext cx="8497800" cy="63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  <p:sp>
        <p:nvSpPr>
          <p:cNvPr id="50" name="Tekstvak 1"/>
          <p:cNvSpPr/>
          <p:nvPr/>
        </p:nvSpPr>
        <p:spPr>
          <a:xfrm>
            <a:off x="1258920" y="4632480"/>
            <a:ext cx="51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ktnIXiEUQ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39640" y="417600"/>
            <a:ext cx="84250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95120"/>
            <a:ext cx="8713800" cy="65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11:10Z</dcterms:created>
  <dc:creator>Almelo</dc:creator>
  <dc:description/>
  <dc:language>en-US</dc:language>
  <cp:lastModifiedBy>Frank Ruiter</cp:lastModifiedBy>
  <dcterms:modified xsi:type="dcterms:W3CDTF">2016-12-22T09:47:43Z</dcterms:modified>
  <cp:revision>38</cp:revision>
  <dc:subject/>
  <dc:title>SOVA</dc:title>
</cp:coreProperties>
</file>