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C13-F101-4E9D-8F66-7E1DAFFB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550-F37D-4E8D-B41A-3C2F235A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DEF1-3376-4125-805F-792B395B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209-91FF-4BB8-A230-0282CCA9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348-F95C-40D3-82AA-CF6A08DA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3A8-EA80-47B4-8573-0AD3DDF6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373-1302-4DE5-8650-8E40BA9C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9F5-B2D0-465D-B36F-48EC2BD0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F61-06DB-4303-8177-E701B450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46A0-DF5B-446D-81F0-563A3BF8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D07-48BE-4BEE-8955-907B8A79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B6D-1048-4D52-AC37-D38C7A6E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10AB-B1D0-4AFF-9685-64A79632AD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633240"/>
            <a:ext cx="777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8567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642160" cy="64566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971640" y="51642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tfSVtTSVP7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616360" cy="4206960"/>
          </a:xfrm>
          <a:prstGeom prst="rect">
            <a:avLst/>
          </a:prstGeom>
          <a:ln w="0">
            <a:noFill/>
          </a:ln>
        </p:spPr>
      </p:pic>
      <p:sp>
        <p:nvSpPr>
          <p:cNvPr id="58" name="Tekstvak 1"/>
          <p:cNvSpPr/>
          <p:nvPr/>
        </p:nvSpPr>
        <p:spPr>
          <a:xfrm>
            <a:off x="1359360" y="60958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afbee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vak 1"/>
          <p:cNvSpPr/>
          <p:nvPr/>
        </p:nvSpPr>
        <p:spPr>
          <a:xfrm>
            <a:off x="1211400" y="549360"/>
            <a:ext cx="47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Digitaal pest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hthoek 3"/>
          <p:cNvSpPr/>
          <p:nvPr/>
        </p:nvSpPr>
        <p:spPr>
          <a:xfrm>
            <a:off x="1042920" y="692280"/>
            <a:ext cx="72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jij doen tege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logg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ster blokker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st-mailtjes negeren, er vooral niet op antwoorden en ook niet terug pest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print maken van het gesprek en jou dit laten zien. Je kunt dan samen kijken hoe je het oplos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beheerder van een website vragen de foto's of filmpjes onmiddellijk te verwijder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over praten met vertrouwde mensen: vrienden, de mentor, een leerkracht, bu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hoek 3"/>
          <p:cNvSpPr/>
          <p:nvPr/>
        </p:nvSpPr>
        <p:spPr>
          <a:xfrm>
            <a:off x="1042920" y="692280"/>
            <a:ext cx="72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un je aangifte doen va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dt je gestalkt, bedreigd, gechanteerd, afgeperst of op een andere manier onder druk gezet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 dan contact op met de politie en doe aangifte, samen met je ouders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bewijs voor nodig: print de tekst, de foto('s) of de website en laat die zien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olen hebben vaak een vertrouwenspersoon bij de politie. (Zorgteamka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dader kan worden vervolgd volgens wetsartikel 285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09760" y="2421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684360" y="981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versta jij onder pes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1"/>
          <p:cNvSpPr/>
          <p:nvPr/>
        </p:nvSpPr>
        <p:spPr>
          <a:xfrm>
            <a:off x="539640" y="3860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plagen en pes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kstvak 2"/>
          <p:cNvSpPr/>
          <p:nvPr/>
        </p:nvSpPr>
        <p:spPr>
          <a:xfrm>
            <a:off x="573120" y="486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 spelen het spe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en nieuwe lln in de kl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24000" y="257040"/>
            <a:ext cx="86407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78544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311040"/>
            <a:ext cx="849780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  <p:sp>
        <p:nvSpPr>
          <p:cNvPr id="50" name="Tekstvak 1"/>
          <p:cNvSpPr/>
          <p:nvPr/>
        </p:nvSpPr>
        <p:spPr>
          <a:xfrm>
            <a:off x="1258920" y="4632480"/>
            <a:ext cx="51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ktnIXiEUQ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9640" y="417600"/>
            <a:ext cx="8425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5120"/>
            <a:ext cx="871380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11:10Z</dcterms:created>
  <dc:creator>Almelo</dc:creator>
  <dc:description/>
  <dc:language>en-US</dc:language>
  <cp:lastModifiedBy>Frank Ruiter</cp:lastModifiedBy>
  <dcterms:modified xsi:type="dcterms:W3CDTF">2016-12-22T09:47:43Z</dcterms:modified>
  <cp:revision>38</cp:revision>
  <dc:subject/>
  <dc:title>SOVA</dc:title>
</cp:coreProperties>
</file>