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C09-78D7-4A3B-A4C7-1245B6CB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5BC-1A01-47E1-BEC4-83239A8E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160-912A-481C-B7F8-BE1BADB6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D13-C622-4BF4-8496-F948F781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92E-7895-4219-B32A-02B20056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6557-875C-454A-9580-7E0E002F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503-4591-455F-AFAC-1807F371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C77-6690-434E-9F82-9B2FCDDC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068-2926-4094-BC34-EC1C0637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E68-3938-41C8-B50B-94B8E190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84C-868C-4631-9800-DDF14FB5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266-4009-43A1-9AF2-B4432AEC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9E82-E28C-419F-9DFB-4495E208D5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633240"/>
            <a:ext cx="77774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85672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642160" cy="64566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971640" y="51642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tfSVtTSVP7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616360" cy="4206960"/>
          </a:xfrm>
          <a:prstGeom prst="rect">
            <a:avLst/>
          </a:prstGeom>
          <a:ln w="0">
            <a:noFill/>
          </a:ln>
        </p:spPr>
      </p:pic>
      <p:sp>
        <p:nvSpPr>
          <p:cNvPr id="58" name="Tekstvak 1"/>
          <p:cNvSpPr/>
          <p:nvPr/>
        </p:nvSpPr>
        <p:spPr>
          <a:xfrm>
            <a:off x="1359360" y="609588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afbee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vak 1"/>
          <p:cNvSpPr/>
          <p:nvPr/>
        </p:nvSpPr>
        <p:spPr>
          <a:xfrm>
            <a:off x="1211400" y="549360"/>
            <a:ext cx="47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Digitaal pest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hthoek 3"/>
          <p:cNvSpPr/>
          <p:nvPr/>
        </p:nvSpPr>
        <p:spPr>
          <a:xfrm>
            <a:off x="1042920" y="692280"/>
            <a:ext cx="720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jij doen tege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logg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ster blokker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st-mailtjes negeren, er vooral niet op antwoorden en ook niet terug pest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print maken van het gesprek en jou dit laten zien. Je kunt dan samen kijken hoe je het oplos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beheerder van een website vragen de foto's of filmpjes onmiddellijk te verwijder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over praten met vertrouwde mensen: vrienden, de mentor, een leerkracht, bu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hthoek 3"/>
          <p:cNvSpPr/>
          <p:nvPr/>
        </p:nvSpPr>
        <p:spPr>
          <a:xfrm>
            <a:off x="1042920" y="692280"/>
            <a:ext cx="72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un je aangifte doen va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dt je gestalkt, bedreigd, gechanteerd, afgeperst of op een andere manier onder druk gezet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 dan contact op met de politie en doe aangifte, samen met je ouders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bewijs voor nodig: print de tekst, de foto('s) of de website en laat die zien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olen hebben vaak een vertrouwenspersoon bij de politie. (Zorgteamka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dader kan worden vervolgd volgens wetsartikel 285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09760" y="2421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684360" y="981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versta jij onder pes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kstvak 1"/>
          <p:cNvSpPr/>
          <p:nvPr/>
        </p:nvSpPr>
        <p:spPr>
          <a:xfrm>
            <a:off x="539640" y="3860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plagen en pes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kstvak 2"/>
          <p:cNvSpPr/>
          <p:nvPr/>
        </p:nvSpPr>
        <p:spPr>
          <a:xfrm>
            <a:off x="573120" y="486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 spelen het spel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en nieuwe lln in de kl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24000" y="257040"/>
            <a:ext cx="864072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78544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311040"/>
            <a:ext cx="849780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  <p:sp>
        <p:nvSpPr>
          <p:cNvPr id="50" name="Tekstvak 1"/>
          <p:cNvSpPr/>
          <p:nvPr/>
        </p:nvSpPr>
        <p:spPr>
          <a:xfrm>
            <a:off x="1258920" y="4632480"/>
            <a:ext cx="51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ktnIXiEUQ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9640" y="417600"/>
            <a:ext cx="8425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5120"/>
            <a:ext cx="871380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11:10Z</dcterms:created>
  <dc:creator>Almelo</dc:creator>
  <dc:description/>
  <dc:language>en-US</dc:language>
  <cp:lastModifiedBy>Frank Ruiter</cp:lastModifiedBy>
  <dcterms:modified xsi:type="dcterms:W3CDTF">2016-12-22T09:47:43Z</dcterms:modified>
  <cp:revision>38</cp:revision>
  <dc:subject/>
  <dc:title>SOVA</dc:title>
</cp:coreProperties>
</file>