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6026-87C4-480A-AFE8-B79895F7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BFCD-D200-4663-9CA7-6AF1A7D3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2313-CF84-426A-A901-859B5CF2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4EC3-6698-49D1-A79B-09AAF7E3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4F03-24F1-4152-BDEC-8B87D646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6464-3931-4B2E-B013-2A7BC441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FA35-F4D2-40F5-BC7C-174C99E5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AA9-5AFC-4408-B6BF-FA6F276E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741B-06C2-4F37-BBA0-87ECE5C3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EC96-8F13-4B9A-89E7-10CE5B3E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ED85-4BB7-429E-ADEA-8EF6CEA5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CE68-126F-42FB-A1DB-196729ED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7A77-D58B-47A4-99F2-A824869BB7C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826920" y="633240"/>
            <a:ext cx="777744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885672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642160" cy="645660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971640" y="516420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youtube.googleapis.com/v/tfSVtTSVP7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5616360" cy="4206960"/>
          </a:xfrm>
          <a:prstGeom prst="rect">
            <a:avLst/>
          </a:prstGeom>
          <a:ln w="0">
            <a:noFill/>
          </a:ln>
        </p:spPr>
      </p:pic>
      <p:sp>
        <p:nvSpPr>
          <p:cNvPr id="58" name="Tekstvak 1"/>
          <p:cNvSpPr/>
          <p:nvPr/>
        </p:nvSpPr>
        <p:spPr>
          <a:xfrm>
            <a:off x="1359360" y="609588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lik op de afbee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kstvak 1"/>
          <p:cNvSpPr/>
          <p:nvPr/>
        </p:nvSpPr>
        <p:spPr>
          <a:xfrm>
            <a:off x="1211400" y="549360"/>
            <a:ext cx="471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Digitaal pest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hthoek 3"/>
          <p:cNvSpPr/>
          <p:nvPr/>
        </p:nvSpPr>
        <p:spPr>
          <a:xfrm>
            <a:off x="1042920" y="692280"/>
            <a:ext cx="720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jij doen tegen digitaal pe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logg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ester blokker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st-mailtjes negeren, er vooral niet op antwoorden en ook niet terug pest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print maken van het gesprek en jou dit laten zien. Je kunt dan samen kijken hoe je het oplos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beheerder van een website vragen de foto's of filmpjes onmiddellijk te verwijder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over praten met vertrouwde mensen: vrienden, de mentor, een leerkracht, bu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hthoek 3"/>
          <p:cNvSpPr/>
          <p:nvPr/>
        </p:nvSpPr>
        <p:spPr>
          <a:xfrm>
            <a:off x="1042920" y="692280"/>
            <a:ext cx="720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Kun je aangifte doen van digitaal pe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dt je gestalkt, bedreigd, gechanteerd, afgeperst of op een andere manier onder druk gezet?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em dan contact op met de politie en doe aangifte, samen met je ouders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is bewijs voor nodig: print de tekst, de foto('s) of de website en laat die zien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olen hebben vaak een vertrouwenspersoon bij de politie. (Zorgteamka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dader kan worden vervolgd volgens wetsartikel 285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09760" y="2421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s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kstvak 3"/>
          <p:cNvSpPr/>
          <p:nvPr/>
        </p:nvSpPr>
        <p:spPr>
          <a:xfrm>
            <a:off x="684360" y="98100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versta jij onder pes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kstvak 1"/>
          <p:cNvSpPr/>
          <p:nvPr/>
        </p:nvSpPr>
        <p:spPr>
          <a:xfrm>
            <a:off x="539640" y="3860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het verschil tussen plagen en pes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kstvak 2"/>
          <p:cNvSpPr/>
          <p:nvPr/>
        </p:nvSpPr>
        <p:spPr>
          <a:xfrm>
            <a:off x="573120" y="4869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e spelen het spel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en nieuwe lln in de kl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24000" y="257040"/>
            <a:ext cx="8640720" cy="64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878544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311040"/>
            <a:ext cx="8497800" cy="63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785080" cy="6564600"/>
          </a:xfrm>
          <a:prstGeom prst="rect">
            <a:avLst/>
          </a:prstGeom>
          <a:ln w="0">
            <a:noFill/>
          </a:ln>
        </p:spPr>
      </p:pic>
      <p:sp>
        <p:nvSpPr>
          <p:cNvPr id="50" name="Tekstvak 1"/>
          <p:cNvSpPr/>
          <p:nvPr/>
        </p:nvSpPr>
        <p:spPr>
          <a:xfrm>
            <a:off x="1258920" y="4632480"/>
            <a:ext cx="51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youtube.googleapis.com/v/ktnIXiEUQ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39640" y="417600"/>
            <a:ext cx="84250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95120"/>
            <a:ext cx="8713800" cy="652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78508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11:10Z</dcterms:created>
  <dc:creator>Almelo</dc:creator>
  <dc:description/>
  <dc:language>en-US</dc:language>
  <cp:lastModifiedBy>Frank Ruiter</cp:lastModifiedBy>
  <dcterms:modified xsi:type="dcterms:W3CDTF">2016-12-22T09:47:43Z</dcterms:modified>
  <cp:revision>38</cp:revision>
  <dc:subject/>
  <dc:title>SOVA</dc:title>
</cp:coreProperties>
</file>