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9ED6-7D9C-485C-93E6-469D1E93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03FB-28B7-4547-9626-345D343B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50D-EF1B-4279-820A-3E23C2B3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156A-00E2-42E1-9404-1B8A8642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E14-554C-46A4-8E43-7EC49B32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E59-4D73-4C05-9A7F-BEDA8925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C5D3-75B9-4DFC-8D43-C15493F9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4BC1-FE6E-48D1-B2BE-59DDC24D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0A1-1393-4111-84EA-C0C6210F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F26-15F1-4167-A84E-418ED301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3B51-949B-41CD-AD26-08DD220C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8DD-1AAC-442D-8C2F-81706744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F83B-86ED-4B13-9010-8B201B850E0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26920" y="633240"/>
            <a:ext cx="777744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85672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642160" cy="645660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971640" y="516420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tfSVtTSVP7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5616360" cy="4206960"/>
          </a:xfrm>
          <a:prstGeom prst="rect">
            <a:avLst/>
          </a:prstGeom>
          <a:ln w="0">
            <a:noFill/>
          </a:ln>
        </p:spPr>
      </p:pic>
      <p:sp>
        <p:nvSpPr>
          <p:cNvPr id="58" name="Tekstvak 1"/>
          <p:cNvSpPr/>
          <p:nvPr/>
        </p:nvSpPr>
        <p:spPr>
          <a:xfrm>
            <a:off x="1359360" y="609588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lik op de afbee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kstvak 1"/>
          <p:cNvSpPr/>
          <p:nvPr/>
        </p:nvSpPr>
        <p:spPr>
          <a:xfrm>
            <a:off x="1211400" y="549360"/>
            <a:ext cx="471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Digitaal pest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hthoek 3"/>
          <p:cNvSpPr/>
          <p:nvPr/>
        </p:nvSpPr>
        <p:spPr>
          <a:xfrm>
            <a:off x="1042920" y="692280"/>
            <a:ext cx="720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jij doen tege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logg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ster blokker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st-mailtjes negeren, er vooral niet op antwoorden en ook niet terug pest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print maken van het gesprek en jou dit laten zien. Je kunt dan samen kijken hoe je het oplos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beheerder van een website vragen de foto's of filmpjes onmiddellijk te verwijder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over praten met vertrouwde mensen: vrienden, de mentor, een leerkracht, bu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hthoek 3"/>
          <p:cNvSpPr/>
          <p:nvPr/>
        </p:nvSpPr>
        <p:spPr>
          <a:xfrm>
            <a:off x="1042920" y="692280"/>
            <a:ext cx="720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Kun je aangifte doen va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dt je gestalkt, bedreigd, gechanteerd, afgeperst of op een andere manier onder druk gezet?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 dan contact op met de politie en doe aangifte, samen met je ouders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bewijs voor nodig: print de tekst, de foto('s) of de website en laat die zien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olen hebben vaak een vertrouwenspersoon bij de politie. (Zorgteamka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dader kan worden vervolgd volgens wetsartikel 285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09760" y="2421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s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kstvak 3"/>
          <p:cNvSpPr/>
          <p:nvPr/>
        </p:nvSpPr>
        <p:spPr>
          <a:xfrm>
            <a:off x="684360" y="9810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versta jij onder pes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kstvak 1"/>
          <p:cNvSpPr/>
          <p:nvPr/>
        </p:nvSpPr>
        <p:spPr>
          <a:xfrm>
            <a:off x="539640" y="3860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het verschil tussen plagen en pes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kstvak 2"/>
          <p:cNvSpPr/>
          <p:nvPr/>
        </p:nvSpPr>
        <p:spPr>
          <a:xfrm>
            <a:off x="573120" y="486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e spelen het spel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en nieuwe lln in de kl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24000" y="257040"/>
            <a:ext cx="864072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78544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311040"/>
            <a:ext cx="8497800" cy="63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  <p:sp>
        <p:nvSpPr>
          <p:cNvPr id="50" name="Tekstvak 1"/>
          <p:cNvSpPr/>
          <p:nvPr/>
        </p:nvSpPr>
        <p:spPr>
          <a:xfrm>
            <a:off x="1258920" y="4632480"/>
            <a:ext cx="51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ktnIXiEUQ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39640" y="417600"/>
            <a:ext cx="84250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95120"/>
            <a:ext cx="8713800" cy="652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11:10Z</dcterms:created>
  <dc:creator>Almelo</dc:creator>
  <dc:description/>
  <dc:language>en-US</dc:language>
  <cp:lastModifiedBy>Frank Ruiter</cp:lastModifiedBy>
  <dcterms:modified xsi:type="dcterms:W3CDTF">2016-12-22T09:47:43Z</dcterms:modified>
  <cp:revision>38</cp:revision>
  <dc:subject/>
  <dc:title>SOVA</dc:title>
</cp:coreProperties>
</file>