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66432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80AEC-C26E-402D-BA35-2C8638C8E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E8EEB-ECAA-42AC-AE3D-460DEF3B2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B1ACA-DAED-4452-A5CE-1587F8326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34C7F-B066-40E4-90CD-D56508C4A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5B225-E0FF-4991-8C75-3F2E7EEE5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7D15E-2FAA-4979-B618-85DC4F592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650CE-C67F-422F-B583-4E94EA385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FDFB2-673B-436D-944C-45626F4DC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8A029-6BA2-4D91-A7D7-31FC07452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5D2F8-332B-42F5-A484-BD7B55223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07349-1409-436C-A4B8-F71161C9C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7DCCA-1404-47BD-B392-600A8F6C2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86182-C431-41D6-AAF4-7004ED669418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"/>
          <p:cNvPicPr/>
          <p:nvPr/>
        </p:nvPicPr>
        <p:blipFill>
          <a:blip r:embed="rId1"/>
          <a:stretch/>
        </p:blipFill>
        <p:spPr>
          <a:xfrm>
            <a:off x="826920" y="633240"/>
            <a:ext cx="7777440" cy="581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179280" y="149400"/>
            <a:ext cx="8856720" cy="66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250920" y="203040"/>
            <a:ext cx="8642160" cy="6456600"/>
          </a:xfrm>
          <a:prstGeom prst="rect">
            <a:avLst/>
          </a:prstGeom>
          <a:ln w="0">
            <a:noFill/>
          </a:ln>
        </p:spPr>
      </p:pic>
      <p:sp>
        <p:nvSpPr>
          <p:cNvPr id="56" name="Tekstvak 2"/>
          <p:cNvSpPr/>
          <p:nvPr/>
        </p:nvSpPr>
        <p:spPr>
          <a:xfrm>
            <a:off x="971640" y="5164200"/>
            <a:ext cx="51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https://youtube.googleapis.com/v/tfSVtTSVP7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1332000" y="1557360"/>
            <a:ext cx="5616360" cy="4206960"/>
          </a:xfrm>
          <a:prstGeom prst="rect">
            <a:avLst/>
          </a:prstGeom>
          <a:ln w="0">
            <a:noFill/>
          </a:ln>
        </p:spPr>
      </p:pic>
      <p:sp>
        <p:nvSpPr>
          <p:cNvPr id="58" name="Tekstvak 1"/>
          <p:cNvSpPr/>
          <p:nvPr/>
        </p:nvSpPr>
        <p:spPr>
          <a:xfrm>
            <a:off x="1359360" y="6095880"/>
            <a:ext cx="229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Klik op de afbeel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kstvak 1"/>
          <p:cNvSpPr/>
          <p:nvPr/>
        </p:nvSpPr>
        <p:spPr>
          <a:xfrm>
            <a:off x="1211400" y="549360"/>
            <a:ext cx="4714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400" spc="-1" strike="noStrike">
                <a:solidFill>
                  <a:srgbClr val="000000"/>
                </a:solidFill>
                <a:latin typeface="Arial"/>
              </a:rPr>
              <a:t>Digitaal peste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hthoek 3"/>
          <p:cNvSpPr/>
          <p:nvPr/>
        </p:nvSpPr>
        <p:spPr>
          <a:xfrm>
            <a:off x="1042920" y="692280"/>
            <a:ext cx="720108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Wat jij doen tegen digitaal peste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Uitloggen.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e pester blokkeren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est-mailtjes negeren, er vooral niet op antwoorden en ook niet terug pesten.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en print maken van het gesprek en jou dit laten zien. Je kunt dan samen kijken hoe je het oplost.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e beheerder van een website vragen de foto's of filmpjes onmiddellijk te verwijderen.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rover praten met vertrouwde mensen: vrienden, de mentor, een leerkracht, bur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hthoek 3"/>
          <p:cNvSpPr/>
          <p:nvPr/>
        </p:nvSpPr>
        <p:spPr>
          <a:xfrm>
            <a:off x="1042920" y="692280"/>
            <a:ext cx="720108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Kun je aangifte doen van digitaal peste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ordt je gestalkt, bedreigd, gechanteerd, afgeperst of op een andere manier onder druk gezet?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Neem dan contact op met de politie en doe aangifte, samen met je ouders.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r is bewijs voor nodig: print de tekst, de foto('s) of de website en laat die zien.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cholen hebben vaak een vertrouwenspersoon bij de politie. (Zorgteamkam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e dader kan worden vervolgd volgens wetsartikel 285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509760" y="242100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est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kstvak 3"/>
          <p:cNvSpPr/>
          <p:nvPr/>
        </p:nvSpPr>
        <p:spPr>
          <a:xfrm>
            <a:off x="684360" y="981000"/>
            <a:ext cx="770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Wat versta jij onder peste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kstvak 1"/>
          <p:cNvSpPr/>
          <p:nvPr/>
        </p:nvSpPr>
        <p:spPr>
          <a:xfrm>
            <a:off x="539640" y="3860640"/>
            <a:ext cx="835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at is het verschil tussen plagen en pest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kstvak 2"/>
          <p:cNvSpPr/>
          <p:nvPr/>
        </p:nvSpPr>
        <p:spPr>
          <a:xfrm>
            <a:off x="573120" y="4869000"/>
            <a:ext cx="792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We spelen het spel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een nieuwe lln in de klas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324000" y="257040"/>
            <a:ext cx="8640720" cy="645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179280" y="149400"/>
            <a:ext cx="8785440" cy="656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395280" y="311040"/>
            <a:ext cx="8497800" cy="634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250920" y="203040"/>
            <a:ext cx="8785080" cy="6564600"/>
          </a:xfrm>
          <a:prstGeom prst="rect">
            <a:avLst/>
          </a:prstGeom>
          <a:ln w="0">
            <a:noFill/>
          </a:ln>
        </p:spPr>
      </p:pic>
      <p:sp>
        <p:nvSpPr>
          <p:cNvPr id="50" name="Tekstvak 1"/>
          <p:cNvSpPr/>
          <p:nvPr/>
        </p:nvSpPr>
        <p:spPr>
          <a:xfrm>
            <a:off x="1258920" y="4632480"/>
            <a:ext cx="510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https://youtube.googleapis.com/v/ktnIXiEUQ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539640" y="417600"/>
            <a:ext cx="8425080" cy="62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250920" y="195120"/>
            <a:ext cx="8713800" cy="652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250920" y="203040"/>
            <a:ext cx="8785080" cy="656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2:11:10Z</dcterms:created>
  <dc:creator>Almelo</dc:creator>
  <dc:description/>
  <dc:language>en-US</dc:language>
  <cp:lastModifiedBy>Frank Ruiter</cp:lastModifiedBy>
  <dcterms:modified xsi:type="dcterms:W3CDTF">2016-12-22T09:47:43Z</dcterms:modified>
  <cp:revision>38</cp:revision>
  <dc:subject/>
  <dc:title>SOVA</dc:title>
</cp:coreProperties>
</file>