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2.wmf" ContentType="image/x-wmf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A23-B65B-489C-80AF-C004CA12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95C-2985-489D-943A-916B54AC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A33-9041-4728-88FA-4B00CEF9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253-2CB4-4152-9428-FD027607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F466-0BAA-4269-A691-40295F9F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63BC-D96D-4AD2-832C-04339194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898E-50DC-40D3-96F9-0FF56929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15C2-3B7D-4CBA-99BC-3BD9B62C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DA33-F9AD-4170-B15B-13BAF149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F3B6-F85E-417B-9065-BE08D808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8684-B0D5-423D-ADD2-B1775381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9A0-2209-4B0A-B1C7-5C6B7ECD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931E-64C1-41E1-B102-FBBB3B84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0FDE-9B6D-487B-9B9A-9DAE370F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68A8-A577-4C4F-A4DC-7975F0FE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F9C8-FBA4-481B-A345-9560A438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A827-D1EB-40F3-B0F2-6E0D4E34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859-4A25-4156-A8DD-57BB1B94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8F1-E9F0-4E83-B392-D9BB5E3B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864-F059-4DDD-97FA-6F9ACE61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D08-94C1-49FC-940E-83BA9B09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F26-66B2-4C9D-BF01-EF7FAFCE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D9A-3DDD-4293-A18C-B56DD3CF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F0C-943E-4BE2-9EED-94122705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57DA-B7C1-4423-9A5D-F0A17D50A400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FA55-C687-4755-BE67-2521055B3A76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Titel van de cursus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2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en van stinkpot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230720" cy="4906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49120" y="1676520"/>
            <a:ext cx="413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inkpoot infecti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fectie door een bacter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leeft in afgesloten zuurstofarme omgev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begint tussen de klauwhelf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ontstaan diepe kloven in het balgebi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veroorzaakt afwijkende groei van hoornweefsel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gevolg zoolzwe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stinkpoot infec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ygiëne in de st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roostervlo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egelmatig schoonschuiv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oxran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chone boxen gebruik zaagsel of gemalen str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ntila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frisse stal geeft minder infectiedru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en van stinkpoot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infecties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kap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egnemen overtollig hoorn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oven weg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innenklauw  het meeste gewicht ge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nkele dagen na het bekapp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formalinebaden 3% oploss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an stinkpoot infecties 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in de stal aanpass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ventueel kalk in boxen strooi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geven van 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3% formalineoplossing in lauw wat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durende 2 tot 3 da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d moet zo schoon mogelijk blij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lke 4 tot 6 weken her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13605" t="0" r="13605" b="0"/>
          <a:stretch/>
        </p:blipFill>
        <p:spPr>
          <a:xfrm>
            <a:off x="838080" y="1981080"/>
            <a:ext cx="354348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13062" t="0" r="13062" b="0"/>
          <a:stretch/>
        </p:blipFill>
        <p:spPr>
          <a:xfrm>
            <a:off x="4724280" y="1981080"/>
            <a:ext cx="3508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iekte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?? Welke nog onduidelij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ijnlijke rode aardbei-achtige  p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balgebie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 de klauwhelf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de kroonr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cht opstaande lange haartj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uidwoeke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sleep van bacterie door aankoop van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metting jongvee door droge koeien bij de drachtige pinken te laten lo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moeilijk uit te r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speelt hier ook een grote r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dividuele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zeer goed schoonma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oetsen met doek (papi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inspuiten met oxytetracycline o.i.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er en lincomycine (</a:t>
            </a: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100 ml +20 gram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eker een paar dagen herhal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ppel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 van de klauwen in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lossingen van water m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tracyc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incomyc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lauw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aak va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gen lichaamsla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cherming van het lev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voetbaden afwisselend gebruik maken van antibiotica (resistentie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utbaden 10% (2 dagen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3% (2 dag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aken klauwen harder waardoor de Mortellaro minder kans krijg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produc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ink- of kopersulfaatoplossingen (goedkop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plossen in water en beetje zeep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In diverse middelen te koop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l met kwast insm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met spuit op klauw bre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en andere koper- of zink- oplossingen afwisselend gebruiken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bruik van voetbaden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Middelen afwisselend gebruiken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Formaline is voor mens en dier giftig bij inademing (formaldehydegas)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Zink - en of kopersulfaten ook belastend voor het milieu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middelen werken minder goed in aanwezigheid van mest (eiwit)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4465800" cy="51814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7440" y="17524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ang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p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waterbad ervoo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eerste strontopva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in melkstal klauwen schoonspui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enk ook aan de rooster bij het voerhek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a de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engte zodanig dat koe er goed door loop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 moet helmaal on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mest in bad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en werking forma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passen bij opspatten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brandbla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iet direct na bekappen voetba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brandt in open wond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4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ernatief voor een voetba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De HOEF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ZUINIGER IN GEBRUI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VERVUILING MIND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MAKKELIJK SCHOON TE HOUDE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rcRect l="9263" t="0" r="9263" b="0"/>
          <a:stretch/>
        </p:blipFill>
        <p:spPr>
          <a:xfrm>
            <a:off x="304920" y="1828800"/>
            <a:ext cx="4530600" cy="3962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rcRect l="0" t="0" r="4429" b="0"/>
          <a:stretch/>
        </p:blipFill>
        <p:spPr>
          <a:xfrm>
            <a:off x="4495680" y="1828800"/>
            <a:ext cx="429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namen voor dezelfde ziekte zij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haarwo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ei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lakke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panatitiu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erschijnsele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lotselinge kreupelheid aan een 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oo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eetlus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melkproduc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dervoet gezwollen en wa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.n. in kootholte en boven tussenklauwsple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at is he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tsteking van het onderhuidse tussenklauwweefs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 een veel voorkomende bacterie (necrosebacil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cterie dringt de huid binnen via kleine wondj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ntstaan klauwproblem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815328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de klauwgroei of de been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bacteriën of verminderde weer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tink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ortellar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ontsteking  (tussenteenflegmoon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complic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neest de wond niet snel genoeg dan ontstaat er weefselversterf en een diepe wo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ntstaan van gevoelige weefselwoekeri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aantasting gewrich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0" t="0" r="0" b="13499"/>
          <a:stretch/>
        </p:blipFill>
        <p:spPr>
          <a:xfrm>
            <a:off x="4724280" y="2049480"/>
            <a:ext cx="381024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nez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ntibiotic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ulfa’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ppassen voor residuen in de mel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78280" y="1828800"/>
            <a:ext cx="354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orkome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an beschadiging de klauwhui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pui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ri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toppella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uwe betonvlo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26160" y="1523880"/>
            <a:ext cx="431784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84932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493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357280" y="1849320"/>
          <a:ext cx="44262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7280" y="1849320"/>
                    <a:ext cx="4426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and  van de achterben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hoorngroei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fwijkende st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ruk op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neuz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57150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17680" y="838080"/>
          <a:ext cx="2543040" cy="586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7680" y="838080"/>
                    <a:ext cx="254304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029200" y="914400"/>
          <a:ext cx="3043080" cy="5715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9200" y="914400"/>
                    <a:ext cx="3043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57989" r="0" b="0"/>
          <a:stretch/>
        </p:blipFill>
        <p:spPr>
          <a:xfrm>
            <a:off x="4952880" y="1752480"/>
            <a:ext cx="3481560" cy="4191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0" b="41121"/>
          <a:stretch/>
        </p:blipFill>
        <p:spPr>
          <a:xfrm>
            <a:off x="1143000" y="1600200"/>
            <a:ext cx="3400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 van een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14400" y="1563840"/>
            <a:ext cx="71247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snede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2240" y="1523880"/>
            <a:ext cx="6603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oolzweer behandel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453240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952880" y="175248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Wegnemen overtollig     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hoor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Zool verdunnen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rondom de zwe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ventueel een klosj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onder 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ezon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klauwhelf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Rinze</cp:lastModifiedBy>
  <cp:lastPrinted>2000-05-24T15:55:52Z</cp:lastPrinted>
  <dcterms:modified xsi:type="dcterms:W3CDTF">2008-05-14T13:18:58Z</dcterms:modified>
  <cp:revision>16</cp:revision>
  <dc:subject/>
  <dc:title>Relatie voeding en klauwgezondheid</dc:title>
</cp:coreProperties>
</file>