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246-D3B7-4319-9DF1-76B8FEEB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274-CE42-4CD8-AB54-8697E366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0FC-D328-4C9E-B735-F9286A7B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AF4-9478-432A-ACD2-17B76C8B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C3C7-2BD3-49DA-8DFF-9D4C9518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EEED-BEC1-4CFE-867C-E27F07D9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8AC9-21B8-41F1-9D81-EF04700C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3E6B-9490-467F-9B74-F09A23CB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6E72-70C5-42F2-82E8-F6DBED72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76F8-59AB-4367-A9B0-729FBDEB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FF92-C640-403C-8D4E-87EBBC1F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7A2-A129-43ED-92A2-98C5D38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515D-ABF9-4B4E-8B0F-BD989273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93D4-BC46-4804-B2FC-F5FDB345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0030-3E88-42E6-AFA4-4D5E50BD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40BD-AF1B-4581-A4E9-0676BE20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7420-138C-4663-A5B0-5343E120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4B7-766D-4395-A601-347529DE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747-611C-4FAD-AD3A-EFB70119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8DC-F31E-42A8-8FD8-987C41EA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164-3C3C-4444-AE61-B1556B9A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A3F-EC33-4D58-AE68-9AF9DE4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EA7-82F3-4525-B1E3-280B7791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582-E638-4827-92DD-B3E5566A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6BBA-ACDB-4D30-BB58-F83967AB5079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A166-F272-4C8C-86ED-9D0C72878094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Voer voor Gezondheid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1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te doen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ennisverbetering bij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ehou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stalklima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vlo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doet de voeding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voeding heeft grote invloed op d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klauwen worden doorbloed met eindbloedvaten                                              ( vergelijkbaar met lever en nier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een goede doorbloeding is er voldoende aanvoer van voedingsstoffen voor de hoorngroei van de klauw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en goede doorbloeding geeft ook een goed functioneren van de afweer tegen ziektekiem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lechte 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eer slijtage als groe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etsbaarder door geringere weerstan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en zijn een groot risic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 geeft ander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te kijken naar evenwicht en constant gelijk aanbod van voer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 in de praktijk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verdag weiden en ‘s nachts maïs   overmaat eiwit en te kort ruwvo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uwvoer voor voerhek en KV per computer we weten niet wat het dier opneemt.       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 kan ongewenste variaties aanbrengen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raskuilen met teveel suiker en te weinig r.c. zijn te snel verteerd.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is beter dan genez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het basisrantsoen in balans te bre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nel rantsoen geeft pensverzu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veel OEB een basisch milieu (NH</a:t>
            </a:r>
            <a:r>
              <a:rPr b="0" lang="nl-NL" sz="32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nl-NL" sz="3200" spc="-1" strike="noStrike" baseline="30000">
                <a:solidFill>
                  <a:srgbClr val="0033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ide geven penswandbeschadigingen, zodat de pens minder goed functioneer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volgen beschadigingen penswan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kunnen nu stoffen in het bloed en de darm terecht komen die er eigenlijk niet in thuis hor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welke stoffen?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iwitachtige stoff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bacterië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ifstoffen van pensverzuring of pensvervuil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PENSVERZU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SNELLE KOOLHYDRATEN VERTE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hoogde  productie propionzuur / melkzu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inhoud te zuur     pH lager dan 6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wand gaat 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vangenhe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e  eet ook minder en heeft koor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elatie voeding en klauwgezondhei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48960"/>
            <a:ext cx="3809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0000"/>
                </a:solidFill>
                <a:latin typeface="Times New Roman"/>
              </a:rPr>
              <a:t>Is die er?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380988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80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0" t="0" r="0" b="30934"/>
          <a:stretch/>
        </p:blipFill>
        <p:spPr>
          <a:xfrm>
            <a:off x="4952880" y="2895480"/>
            <a:ext cx="361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reemde stoffen in het bloed kunnen verstoppingen of beschadigingen van haarvaten veroorzak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aardoor werken zowel de aanvoer als afvoer onvoldoen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afvoer betekent vochtophoping tussen klauwbeen en hoor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kan van hoorn losscheu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scheurt los van het hoor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t irritatie of beschadiging van zool aan onderkant van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bekappen is dit zichtbaar aan blauwe of rode verkleuring in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minder ernstige aandoening zie je slechts lichte verkleu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oms herkenbaar aan dubbele of losse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91200" cy="6019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360" y="609480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00"/>
                </a:solidFill>
                <a:latin typeface="Times New Roman"/>
              </a:rPr>
              <a:t>bevangenheid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antsoeneis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ijd voldoende herkauwmateria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erkauwen stimuleert de speekselproductie en daardoor wordt de pens beter gebuffer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aliteit ruwvoer (RC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rijgen vaak grote voerveranderingen te verwerken in combinatie met een grote verandering in de hormoonhuishou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rg gedurende de laatste 2 weken van de droogstand voor het rantsoen van de melk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 ze ook krachtvoer 1 a 2 k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dieren hebben een vaak een grotere persistentie dan overige 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te vroeg of te snel afbouwen van KV gift kan energie of eiwit te kort optreden. Dit heeft effect op de klauwgezondhei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t zie je pas na 6 tot 8 we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48960"/>
            <a:ext cx="76960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deze dieren hoort voedselopname op peil te blijven. Is erg lastig!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ng om melk te geven is groo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nergie tekort wegnemen doo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antsoen van perfect ruwvoer en voldoende energierijk  KV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Inlei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en geven de koe al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latie voeding klauw is indir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uten in voeding kunnen op termijn problemen gev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849320"/>
            <a:ext cx="784872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chermt het levende weefsel i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taat uit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w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 hoornwand wordt gevormd door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Hoorngroei  3 tot 7 mm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per maand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oorn is het afgestorven deel v.d. opperhu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opperhuid wordt gevoed door de lederhuid (het lev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hoornwand wordt gevormd 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zolen onder de lederhuid onder het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3129" r="0" b="3129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reupelheid kost veel gel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er kreupele koe ongeveer 230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mgerekend per koe op het bedrijf 24-58 gulden per jaa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astitis 15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ruchtbaarheids-problemen 13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49520"/>
          <a:ext cx="34196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49520"/>
                    <a:ext cx="34196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osten door: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de melkprodu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lenging van de TK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ing gewichtstoenam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handelingskost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bekapp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rena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vanging vroegtijdig geruimde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rbeidskosten veehoud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Gerrit Schott</cp:lastModifiedBy>
  <cp:lastPrinted>2000-05-24T15:55:52Z</cp:lastPrinted>
  <dcterms:modified xsi:type="dcterms:W3CDTF">2005-03-16T10:41:44Z</dcterms:modified>
  <cp:revision>16</cp:revision>
  <dc:subject/>
  <dc:title>Relatie voeding en klauwgezondheid</dc:title>
</cp:coreProperties>
</file>