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2.wmf" ContentType="image/x-wmf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54C-4C93-4AD6-9C05-83A6AE31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A18-FF35-43E2-A316-D16D3F10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590A-34D9-4022-B323-424EC7E3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FBB9-E755-43FB-9540-5DD64E00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1D66-6363-4DEB-948F-92552BBB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F5E4-A26F-4B93-B550-63EE9278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B3B6-1023-454C-867B-A19C4E3D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A52B-E0BA-4878-8E2E-94C719FF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6517-00CB-4CC9-9E3D-0F90AA72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A8BA-EF6C-42E1-BC6F-E1D242FE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9F88-C81E-464C-BD8C-08D4E15C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A5D-1862-4743-BAAA-A11C5408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B17C-7D3A-47E3-84E6-B69E5BBF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2E79-76CE-4097-9F93-8B7BF582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7704-6984-48C5-B649-9685B133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0371-064A-4675-92B1-1423DE16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F622-75C8-4F66-91A1-B4E44C07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009-AD2F-4012-972D-A8EBD2CC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534-4834-4D60-932D-EB1F2BE1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FBF-B0C5-4209-96FC-45D63C25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D2E-A88F-433D-8F94-1D13A445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772-C5B9-495F-B347-042A2DEC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765-8222-46DD-92E1-65D07455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0AB-8B58-4AAA-9759-5A226ABA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AD0C-0201-4CB0-8033-D80F71234ACE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33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5103-EEBD-47F4-9EED-660018C50653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2438280"/>
          </a:xfrm>
          <a:prstGeom prst="rect">
            <a:avLst/>
          </a:prstGeom>
          <a:solidFill>
            <a:srgbClr val="8bae6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800" spc="-1" strike="noStrike">
                <a:solidFill>
                  <a:srgbClr val="ffffff"/>
                </a:solidFill>
                <a:latin typeface="Times New Roman"/>
              </a:rPr>
              <a:t>Titel van de cursus</a:t>
            </a:r>
            <a:endParaRPr b="0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Relatie voeding en klauwgezondheid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deel 2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beelden van stinkpot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230720" cy="4906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49120" y="1676520"/>
            <a:ext cx="413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tinkpoot infecti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fectie door een bacter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leeft in afgesloten zuurstofarme omgev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begint tussen de klauwhelft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r ontstaan diepe kloven in het balgebi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veroorzaakt afwijkende groei van hoornweefsel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gevolg zoolzwe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orzaken van stinkpoot infec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nvoldoende hygiëne in de st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roostervloe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regelmatig schoonschuiv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oxran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schone boxen gebruik zaagsel of gemalen str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entilati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frisse stal geeft minder infectiedru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en van stinkpoot </a:t>
            </a:r>
            <a:r>
              <a:rPr b="0" i="1" lang="nl-NL" sz="3600" spc="-1" strike="noStrike">
                <a:solidFill>
                  <a:srgbClr val="ffffff"/>
                </a:solidFill>
                <a:latin typeface="Times New Roman"/>
              </a:rPr>
              <a:t>infecties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kapp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wegnemen overtollig hoorn buit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oven weghal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innenklauw  het meeste gewicht gev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nkele dagen na het bekapp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formalinebaden 3% oplossin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komen 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van stinkpoot infecties 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ygiëne in de stal aanpass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ventueel kalk in boxen strooi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gelmatig geven van 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3% formalineoplossing in lauw wat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gedurende 2 tot 3 da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d moet zo schoon mogelijk blijv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lke 4 tot 6 weken herhal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13605" t="0" r="13605" b="0"/>
          <a:stretch/>
        </p:blipFill>
        <p:spPr>
          <a:xfrm>
            <a:off x="838080" y="1981080"/>
            <a:ext cx="354348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13062" t="0" r="13062" b="0"/>
          <a:stretch/>
        </p:blipFill>
        <p:spPr>
          <a:xfrm>
            <a:off x="4724280" y="1981080"/>
            <a:ext cx="35085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Ziekte van 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?? Welke nog onduidelijk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ijnlijke rode aardbei-achtige  plek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 balgebie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 de klauwhelft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 de kroonr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cht opstaande lange haartj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uidwoekeri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orzaken van 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sleep van bacterie door aankoop van di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smetting jongvee door droge koeien bij de drachtige pinken te laten lop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moeilijk uit te r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ygiëne speelt hier ook een grote r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dividuele behande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lekjes zeer goed schoonma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spuit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oetsen met doek (papier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lekjes inspuiten met oxytetracycline o.i.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er en lincomycine (</a:t>
            </a: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100 ml +20 gram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eker een paar dagen herhal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oppel behande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spuiten van de klauwen in melkst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lossingen van water me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tracycl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incomyc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lauw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aak van de klauw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ragen lichaamslas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scherming van het lev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3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Preventieve koppel behandelin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gelmatig voetbaden afwisselend gebruik maken van antibiotica (resistentie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outbaden 10% (2 dagen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rmaline 3% (2 dagen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Maken klauwen harder waardoor de Mortellaro minder kans krijg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 (4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Preventieve koppel behandelin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ndere product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ink- of kopersulfaatoplossingen (goedkoper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oplossen in water en beetje zeep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In diverse middelen te koop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el met kwast insmer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met spuit op klauw breng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rmaline en andere koper- of zink- oplossingen afwisselend gebruiken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ebruik van voetbaden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Middelen afwisselend gebruiken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Formaline is voor mens en dier giftig bij inademing (formaldehydegas)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Zink - en of kopersulfaten ook belastend voor het milieu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ze middelen werken minder goed in aanwezigheid van mest (eiwit)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4465800" cy="51814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57440" y="17524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ang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iep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waterbad ervoo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eerste strontopva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in melkstal klauwen schoonspuit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enk ook aan de rooster bij het voerhek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na de melkst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engte zodanig dat koe er goed door loop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 moet helmaal ond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veel mest in bad </a:t>
            </a:r>
            <a:r>
              <a:rPr b="0" lang="nl-NL" sz="28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geen werking formal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passen bij opspatten </a:t>
            </a:r>
            <a:r>
              <a:rPr b="0" lang="nl-NL" sz="28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 brandbla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niet direct na bekappen voetba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brandt in open wond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 (4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lternatief voor een voetba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De HOEF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ZUINIGER IN GEBRUI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VERVUILING MIND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MAKKELIJK SCHOON TE HOUDE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rcRect l="9263" t="0" r="9263" b="0"/>
          <a:stretch/>
        </p:blipFill>
        <p:spPr>
          <a:xfrm>
            <a:off x="304920" y="1828800"/>
            <a:ext cx="4530600" cy="3962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rcRect l="0" t="0" r="4429" b="0"/>
          <a:stretch/>
        </p:blipFill>
        <p:spPr>
          <a:xfrm>
            <a:off x="4495680" y="1828800"/>
            <a:ext cx="429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ndere namen voor dezelfde ziekte zijn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haarwo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ei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lakke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panatitiu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verschijnsele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lotselinge kreupelheid aan een 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oor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inder eetlus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inder melkproducti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ndervoet gezwollen en wa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.n. in kootholte en boven tussenklauwsplee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Wat is he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ntsteking van het onderhuidse tussenklauwweefs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oor een veel voorkomende bacterie (necrosebacil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cterie dringt de huid binnen via kleine wondj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ntstaan klauwproblem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815328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oor de klauwgroei of de beenstan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zwe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oor bacteriën of verminderde weerstan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tink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ortellar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ontsteking  (tussenteenflegmoon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complica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eneest de wond niet snel genoeg dan ontstaat er weefselversterf en een diepe won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ontstaan van gevoelige weefselwoekering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aantasting gewricht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0" t="0" r="0" b="13499"/>
          <a:stretch/>
        </p:blipFill>
        <p:spPr>
          <a:xfrm>
            <a:off x="4724280" y="2049480"/>
            <a:ext cx="381024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nez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antibiotic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ulfa’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ppassen voor residuen in de melk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778280" y="1828800"/>
            <a:ext cx="354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orkomen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an beschadiging de klauwhui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oo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pui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ri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stoppellan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ruwe betonvloer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26160" y="1523880"/>
            <a:ext cx="431784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003300"/>
                </a:solidFill>
                <a:latin typeface="Times New Roman"/>
              </a:rPr>
              <a:t>Samenvatting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84932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493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003300"/>
                </a:solidFill>
                <a:latin typeface="Times New Roman"/>
              </a:rPr>
              <a:t>Samenvatting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357280" y="1849320"/>
          <a:ext cx="44262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7280" y="1849320"/>
                    <a:ext cx="4426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tand  van de achterben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veel hoorngroei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Afwijkende st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ruk op buit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neuzin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zweren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57150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003300"/>
                </a:solidFill>
                <a:latin typeface="Times New Roman"/>
              </a:rPr>
              <a:t>Ontstaan van een zoolzweer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17680" y="838080"/>
          <a:ext cx="2543040" cy="586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7680" y="838080"/>
                    <a:ext cx="254304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029200" y="914400"/>
          <a:ext cx="3043080" cy="5715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9200" y="914400"/>
                    <a:ext cx="3043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003300"/>
                </a:solidFill>
                <a:latin typeface="Times New Roman"/>
              </a:rPr>
              <a:t>Ontstaan van een zoolzweer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57989" r="0" b="0"/>
          <a:stretch/>
        </p:blipFill>
        <p:spPr>
          <a:xfrm>
            <a:off x="4952880" y="1752480"/>
            <a:ext cx="3481560" cy="4191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0" b="41121"/>
          <a:stretch/>
        </p:blipFill>
        <p:spPr>
          <a:xfrm>
            <a:off x="1143000" y="1600200"/>
            <a:ext cx="3400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beeld van een zoolzwee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14400" y="1563840"/>
            <a:ext cx="712476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oorsnede zoolzwee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92240" y="1523880"/>
            <a:ext cx="6603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Zoolzweer behandel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453240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952880" y="175248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Wegnemen overtollig     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hoor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Zool verdunnen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rondom de zwe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Eventueel een klosj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onder d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gezond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klauwhelf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9:26:40Z</dcterms:created>
  <dc:creator>Henk Bosman</dc:creator>
  <dc:description/>
  <dc:language>en-US</dc:language>
  <cp:lastModifiedBy>Rinze</cp:lastModifiedBy>
  <cp:lastPrinted>2000-05-24T15:55:52Z</cp:lastPrinted>
  <dcterms:modified xsi:type="dcterms:W3CDTF">2008-05-14T13:18:58Z</dcterms:modified>
  <cp:revision>16</cp:revision>
  <dc:subject/>
  <dc:title>Relatie voeding en klauwgezondheid</dc:title>
</cp:coreProperties>
</file>