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768-90F3-439E-98A9-77E627C6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08B-3558-4173-BAEE-23E8A2F1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F6C-0FAD-4D41-9CFC-83FBC71B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CD6-B259-4844-9DEF-B73AD7EE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80CB-2B0D-427F-889C-3F34C645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20E6-3164-4474-A004-45D337B1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3573-63E3-486B-B6A2-BEF64F54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F3C-F5D1-45C8-A1CD-4A236188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B2A6-58E4-492E-894D-16F47EF3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6A05-2552-4658-ABEF-ADEDA30C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08E8-B1B0-408D-8A95-5424CA05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052-B12B-48C0-85E3-272E8818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6911-F20F-47B8-9FA6-E2F7B54F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FAA9-8F6C-40EA-8C6F-914DC97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1C8C-44D3-4EB4-AD32-04F383BA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4BDD-BFE1-4788-B96C-EB78CEC8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6DD2-0B3A-466F-AF1D-CE83DF9D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FE2-204C-4732-8AA4-2B818E9B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D3B-C62F-4931-BE6B-C7C914E6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7C1-598A-4BF4-8EE1-7DCBD1BC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C17-4EB7-4719-A1A6-EA103550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C48-B462-47F8-8510-80423433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F99-7284-4C45-854E-F717742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CF7-EADB-488F-8553-621D06D4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8D78-671F-421F-BA9F-0B8B0F5A24B0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F519-8F68-4831-BE19-24678D40DA46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Voer voor Gezondheid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1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te doen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ennisverbetering bij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ehou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stalklima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vlo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doet de voeding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voeding heeft grote invloed op d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klauwen worden doorbloed met eindbloedvaten                                              ( vergelijkbaar met lever en nie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een goede doorbloeding is er voldoende aanvoer van voedingsstoffen voor de hoorngroei van de klauw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en goede doorbloeding geeft ook een goed functioneren van de afweer tegen ziektekiem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lechte 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eer slijtage als groe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etsbaarder door geringere weerstan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en zijn een groot risic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 geeft ander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te kijken naar evenwicht en constant gelijk aanbod van voer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 in de praktijk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verdag weiden en ‘s nachts maïs   overmaat eiwit en te kort ruwvo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uwvoer voor voerhek en KV per computer we weten niet wat het dier opneemt.       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 kan ongewenste variaties aanbrengen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raskuilen met teveel suiker en te weinig r.c. zijn te snel verteerd.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is beter dan genez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het basisrantsoen in balans te bre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nel rantsoen geeft pensverzu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veel OEB een basisch milieu (NH</a:t>
            </a:r>
            <a:r>
              <a:rPr b="0" lang="nl-NL" sz="32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nl-NL" sz="3200" spc="-1" strike="noStrike" baseline="30000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ide geven penswandbeschadigingen, zodat de pens minder goed functioneer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volgen beschadigingen penswan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kunnen nu stoffen in het bloed en de darm terecht komen die er eigenlijk niet in thuis hor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welke stoffen?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iwitachtige stoff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bacterië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ifstoffen van pensverzuring of pensvervuil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PENSVERZU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SNELLE KOOLHYDRATEN VER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hoogde  productie propionzuur / melkzu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inhoud te zuur     pH lager dan 6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wand gaat 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vangenhe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e  eet ook minder en heeft koor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elatie voeding en klauwgezondhei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8960"/>
            <a:ext cx="3809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0000"/>
                </a:solidFill>
                <a:latin typeface="Times New Roman"/>
              </a:rPr>
              <a:t>Is die er?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38098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80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0" t="0" r="0" b="30934"/>
          <a:stretch/>
        </p:blipFill>
        <p:spPr>
          <a:xfrm>
            <a:off x="4952880" y="2895480"/>
            <a:ext cx="361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reemde stoffen in het bloed kunnen verstoppingen of beschadigingen van haarvaten veroorzak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aardoor werken zowel de aanvoer als afvoer onvoldo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afvoer betekent vochtophoping tussen klauwbeen en hoor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kan van hoorn losscheu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scheurt los van het hoor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t irritatie of beschadiging van zool aan onderkant van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bekappen is dit zichtbaar aan blauwe of rode verkleuring in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minder ernstige aandoening zie je slechts lichte verkleu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oms herkenbaar aan dubbele of losse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9120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360" y="609480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00"/>
                </a:solidFill>
                <a:latin typeface="Times New Roman"/>
              </a:rPr>
              <a:t>bevangenheid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antsoeneis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ijd voldoende herkauwmateria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erkauwen stimuleert de speekselproductie en daardoor wordt de pens beter gebuffer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aliteit ruwvoer (RC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rijgen vaak grote voerveranderingen te verwerken in combinatie met een grote verandering in de hormoonhuishou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rg gedurende de laatste 2 weken van de droogstand voor het rantsoen van de melk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 ze ook krachtvoer 1 a 2 k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dieren hebben een vaak een grotere persistentie dan overige 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te vroeg of te snel afbouwen van KV gift kan energie of eiwit te kort optreden. Dit heeft effect op de klauwgezondhei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t zie je pas na 6 tot 8 we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48960"/>
            <a:ext cx="76960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deze dieren hoort voedselopname op peil te blijven. Is erg lastig!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ng om melk te geven is groo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nergie tekort wegnemen doo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antsoen van perfect ruwvoer en voldoende energierijk  KV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en geven de koe al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latie voeding klauw is indir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uten in voeding kunnen op termijn problemen gev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849320"/>
            <a:ext cx="784872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chermt het levende weefsel i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taat uit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w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 hoornwand wordt gevormd door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Hoorngroei  3 tot 7 mm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per maand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oorn is het afgestorven deel v.d. opperhu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opperhuid wordt gevoed door de lederhuid (het lev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hoornwand wordt gevormd 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zolen onder de lederhuid onder het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3129" r="0" b="3129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reupelheid kost veel gel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er kreupele koe ongeveer 230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mgerekend per koe op het bedrijf 24-58 gulden per jaa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astitis 15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ruchtbaarheids-problemen 13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49520"/>
          <a:ext cx="341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341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osten door: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de melkprodu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lenging van de TK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ing gewichtstoenam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handelingskost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bekapp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rena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vanging vroegtijdig geruimde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rbeidskosten veehoud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Gerrit Schott</cp:lastModifiedBy>
  <cp:lastPrinted>2000-05-24T15:55:52Z</cp:lastPrinted>
  <dcterms:modified xsi:type="dcterms:W3CDTF">2005-03-16T10:41:44Z</dcterms:modified>
  <cp:revision>16</cp:revision>
  <dc:subject/>
  <dc:title>Relatie voeding en klauwgezondheid</dc:title>
</cp:coreProperties>
</file>