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2.wmf" ContentType="image/x-wmf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F9B2-44DD-4364-B9E8-C18225A5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185E-7109-4ADD-AEDE-F33F9190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6472-F60D-42DC-A339-B423A809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0776-CBF2-4537-A4D9-D9651ECAC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FE25-FAD7-498A-B438-CBA48790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CC71-8C4C-4D70-AC4A-08FDF1FB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5010-1DDA-42FE-A9EC-3546D2FE9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C0D8-E266-4207-ABCB-B8926A7CD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6BFD-1AB4-4B01-9456-105FA95A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3CA2-A380-40F8-803B-77B4C26F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50C4-EAEC-4A0C-8612-8FD92BF5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863-059C-4A53-A55D-75331995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1D6D-586C-4647-A468-AF10A50A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5CC3-1A10-442B-B970-1D77CBA9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E616-CE30-4A4E-B266-DE20B28D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1E94-F6C2-4749-939A-78B737B0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6F63-DFF6-4253-A962-E28856A1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9950-AF5C-4005-8CDC-1C12D38F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611-FC66-4663-A198-62554C7E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8768-753A-452A-82B7-B856623E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730-C837-4B16-ABFD-6FED461A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052-9883-49F4-908F-A74DB9D7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3FC2-09F3-42EC-B5FC-026DD676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771C-BE6B-41E7-8D62-8757537F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493A-C8D6-48F2-9DBE-DF5D782A3301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33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02BB-A329-4F5B-A1F3-49134BEA154D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2438280"/>
          </a:xfrm>
          <a:prstGeom prst="rect">
            <a:avLst/>
          </a:prstGeom>
          <a:solidFill>
            <a:srgbClr val="8bae6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800" spc="-1" strike="noStrike">
                <a:solidFill>
                  <a:srgbClr val="ffffff"/>
                </a:solidFill>
                <a:latin typeface="Times New Roman"/>
              </a:rPr>
              <a:t>Titel van de cursus</a:t>
            </a:r>
            <a:endParaRPr b="0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Relatie voeding en klauwgezondheid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deel 2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beelden van stinkpot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0" y="1600200"/>
            <a:ext cx="4230720" cy="4906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49120" y="1676520"/>
            <a:ext cx="413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tinkpoot infectie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fectie door een bacter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leeft in afgesloten zuurstofarme omgev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begint tussen de klauwhelft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r ontstaan diepe kloven in het balgebie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veroorzaakt afwijkende groei van hoornweefsel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gevolg zoolzwe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orzaken van stinkpoot infec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nvoldoende hygiëne in de st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roostervloe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regelmatig schoonschuiv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oxran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schone boxen gebruik zaagsel of gemalen stro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entilati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frisse stal geeft minder infectiedruk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en van stinkpoot </a:t>
            </a:r>
            <a:r>
              <a:rPr b="0" i="1" lang="nl-NL" sz="3600" spc="-1" strike="noStrike">
                <a:solidFill>
                  <a:srgbClr val="ffffff"/>
                </a:solidFill>
                <a:latin typeface="Times New Roman"/>
              </a:rPr>
              <a:t>infecties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kapp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wegnemen overtollig hoorn buit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oven weghal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innenklauw  het meeste gewicht gev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nkele dagen na het bekapp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formalinebaden 3% oplossin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komen 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van stinkpoot infecties 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ygiëne in de stal aanpass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ventueel kalk in boxen strooi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gelmatig geven van 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3% formalineoplossing in lauw wat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gedurende 2 tot 3 da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d moet zo schoon mogelijk blijv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elke 4 tot 6 weken herhal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13605" t="0" r="13605" b="0"/>
          <a:stretch/>
        </p:blipFill>
        <p:spPr>
          <a:xfrm>
            <a:off x="838080" y="1981080"/>
            <a:ext cx="354348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rcRect l="13062" t="0" r="13062" b="0"/>
          <a:stretch/>
        </p:blipFill>
        <p:spPr>
          <a:xfrm>
            <a:off x="4724280" y="1981080"/>
            <a:ext cx="35085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Ziekte van 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?? Welke nog onduidelijk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ijnlijke rode aardbei-achtige  plek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 balgebie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 de klauwhelft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 de kroonr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cht opstaande lange haartj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uidwoekeri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orzaken van Mortellaro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sleep van bacterie door aankoop van di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smetting jongvee door droge koeien bij de drachtige pinken te laten lop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acterie moeilijk uit te r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ygiëne speelt hier ook een grote r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Individuele behande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lekjes zeer goed schoonma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spuit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oetsen met doek (papier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lekjes inspuiten met oxytetracycline o.i.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er en lincomycine (</a:t>
            </a: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100 ml +20 gram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eker een paar dagen herhal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oppel behande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spuiten van de klauwen in melkst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lossingen van water me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tracycl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incomyc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lauw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aak van de klauw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ragen lichaamslas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scherming van het lev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(3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Preventieve koppel behandelin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gelmatig voetbaden afwisselend gebruik maken van antibiotica (resistentie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outbaden 10% (2 dagen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rmaline 3% (2 dagen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Maken klauwen harder waardoor de Mortellaro minder kans krijg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Behandeling van Mortellaro  (4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Preventieve koppel behandeling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ndere product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ink- of kopersulfaatoplossingen (goedkoper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oplossen in water en beetje zeep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In diverse middelen te koop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el met kwast insmer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-20088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met spuit op klauw breng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rmaline en andere koper- of zink- oplossingen afwisselend gebruiken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05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ebruik van voetbaden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Middelen afwisselend gebruiken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Formaline is voor mens en dier giftig bij inademing (formaldehydegas)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3300"/>
                </a:solidFill>
                <a:latin typeface="Times New Roman"/>
              </a:rPr>
              <a:t>Zink - en of kopersulfaten ook belastend voor het milieu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ze middelen werken minder goed in aanwezigheid van mest (eiwit)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4465800" cy="518148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257440" y="17524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ang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iep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choon genoe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waterbad ervoor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eerste strontopvang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in melkstal klauwen schoonspuit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enk ook aan de rooster bij het voerhek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tbad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na de melkst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lengte zodanig dat koe er goed door loop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 moet helmaal ond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veel mest in bad </a:t>
            </a:r>
            <a:r>
              <a:rPr b="0" lang="nl-NL" sz="28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geen werking formalin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ppassen bij opspatten </a:t>
            </a:r>
            <a:r>
              <a:rPr b="0" lang="nl-NL" sz="2800" spc="-1" strike="noStrike">
                <a:solidFill>
                  <a:srgbClr val="003300"/>
                </a:solidFill>
                <a:latin typeface="Symbol"/>
                <a:ea typeface="Symbol"/>
              </a:rPr>
              <a:t></a:t>
            </a: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 brandbla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niet direct na bekappen voetba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brandt in open wond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tbaden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 (4)</a:t>
            </a:r>
            <a:endParaRPr b="0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lternatief voor een voetba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De HOEF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ZUINIGER IN GEBRUIK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VERVUILING MINDER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3300"/>
                </a:solidFill>
                <a:latin typeface="Times New Roman"/>
              </a:rPr>
              <a:t>MAKKELIJK SCHOON TE HOUDEN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rcRect l="9263" t="0" r="9263" b="0"/>
          <a:stretch/>
        </p:blipFill>
        <p:spPr>
          <a:xfrm>
            <a:off x="304920" y="1828800"/>
            <a:ext cx="4530600" cy="39625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rcRect l="0" t="0" r="4429" b="0"/>
          <a:stretch/>
        </p:blipFill>
        <p:spPr>
          <a:xfrm>
            <a:off x="4495680" y="1828800"/>
            <a:ext cx="4297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ndere namen voor dezelfde ziekte zijn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haarwo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ei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lakke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panatitiu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000" spc="-1" strike="noStrike">
                <a:solidFill>
                  <a:srgbClr val="ffffff"/>
                </a:solidFill>
                <a:latin typeface="Times New Roman"/>
              </a:rPr>
              <a:t>verschijnselen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lotselinge kreupelheid aan een 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oor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inder eetlus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inder melkproductie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ndervoet gezwollen en warm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.n. in kootholte en boven tussenklauwsplee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Wat is het?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ntsteking van het onderhuidse tussenklauwweefs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oor een veel voorkomende bacterie (necrosebacil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cterie dringt de huid binnen via kleine wondje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Ontstaan klauwproblem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815328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oor de klauwgroei of de beenstan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zwer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oor bacteriën of verminderde weerstan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tinkpoo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ortellaro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ussenklauwontsteking  (tussenteenflegmoon)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complica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eneest de wond niet snel genoeg dan ontstaat er weefselversterf en een diepe won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ontstaan van gevoelige weefselwoekering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aantasting gewricht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rcRect l="0" t="0" r="0" b="13499"/>
          <a:stretch/>
        </p:blipFill>
        <p:spPr>
          <a:xfrm>
            <a:off x="4724280" y="2049480"/>
            <a:ext cx="3810240" cy="38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nez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antibiotica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sulfa’s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ppassen voor residuen in de melk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778280" y="1828800"/>
            <a:ext cx="354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Tussenteenflemoon 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orkomen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an beschadiging de klauwhui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oo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pui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grint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stoppelland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33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00"/>
                </a:solidFill>
                <a:latin typeface="Times New Roman"/>
              </a:rPr>
              <a:t>ruwe betonvloeren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826160" y="1523880"/>
            <a:ext cx="431784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003300"/>
                </a:solidFill>
                <a:latin typeface="Times New Roman"/>
              </a:rPr>
              <a:t>Samenvatting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849320"/>
          <a:ext cx="77724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4932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003300"/>
                </a:solidFill>
                <a:latin typeface="Times New Roman"/>
              </a:rPr>
              <a:t>Samenvatting</a:t>
            </a:r>
            <a:endParaRPr b="0" i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357280" y="1849320"/>
          <a:ext cx="442620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57280" y="1849320"/>
                    <a:ext cx="4426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tand  van de achterben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849320"/>
            <a:ext cx="2438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Teveel hoorngroei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Afwijkende st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ruk op buitenklauw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neuzing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zweren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571500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003300"/>
                </a:solidFill>
                <a:latin typeface="Times New Roman"/>
              </a:rPr>
              <a:t>Ontstaan van een zoolzweer 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417680" y="838080"/>
          <a:ext cx="2543040" cy="5867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7680" y="838080"/>
                    <a:ext cx="2543040" cy="586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5029200" y="914400"/>
          <a:ext cx="3043080" cy="5715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9200" y="914400"/>
                    <a:ext cx="30430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003300"/>
                </a:solidFill>
                <a:latin typeface="Times New Roman"/>
              </a:rPr>
              <a:t>Ontstaan van een zoolzweer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57989" r="0" b="0"/>
          <a:stretch/>
        </p:blipFill>
        <p:spPr>
          <a:xfrm>
            <a:off x="4952880" y="1752480"/>
            <a:ext cx="3481560" cy="4191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rcRect l="0" t="0" r="0" b="41121"/>
          <a:stretch/>
        </p:blipFill>
        <p:spPr>
          <a:xfrm>
            <a:off x="1143000" y="1600200"/>
            <a:ext cx="3400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beeld van een zoolzwee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14400" y="1563840"/>
            <a:ext cx="712476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oorsnede zoolzweer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092240" y="1523880"/>
            <a:ext cx="66038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Zoolzweer behandel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4532400" cy="5257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952880" y="1752480"/>
            <a:ext cx="3733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Wegnemen overtollig     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hoor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Zool verdunnen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rondom de zwe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Eventueel een klosj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onder d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gezonde 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klauwhelf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9:26:40Z</dcterms:created>
  <dc:creator>Henk Bosman</dc:creator>
  <dc:description/>
  <dc:language>en-US</dc:language>
  <cp:lastModifiedBy>Rinze</cp:lastModifiedBy>
  <cp:lastPrinted>2000-05-24T15:55:52Z</cp:lastPrinted>
  <dcterms:modified xsi:type="dcterms:W3CDTF">2008-05-14T13:18:58Z</dcterms:modified>
  <cp:revision>16</cp:revision>
  <dc:subject/>
  <dc:title>Relatie voeding en klauwgezondheid</dc:title>
</cp:coreProperties>
</file>