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6C7A-985D-4143-AA97-FEACF1AA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B042-A620-4C56-B5B5-1EA7F05C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458-4178-444B-8375-8FC1B753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649-2281-4FBE-9A38-C3F85448A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3D88-079A-4BD1-A8A5-A32E09827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6CE5-2868-445C-9F04-A469CF2D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8E62-F010-4E0A-A54E-5502087F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EA85-8412-4DD4-B35A-2F48EE9E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4B65-E5C9-4C58-920B-030895D8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E006-A2D7-45B5-B822-C576A42C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80B5-B0E2-40ED-A6C9-33793693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399-72F0-4D13-A7C9-64812E71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37FC-79B2-4819-9261-3BD1D023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D232-AB8B-4B47-80A9-E26D5C25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0C94-A337-4985-AB68-5ED74BE7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98164-F6F6-4E5F-9670-A662071A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849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98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3F6DE-397A-455E-8B04-A8F05A58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EEB1-E6CF-49D7-A130-35883768D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1C8-1DEA-4220-858A-035DC5FB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0BB5-1527-474F-B9AC-C7B978B3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27B9-1D53-4293-A035-B1093F60C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817-9AA5-4853-9E01-73A41C77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98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1ED1-F092-4D01-9843-4E99592C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849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8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D169-3B5E-4E59-8876-6CB1902B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5238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400800"/>
            <a:ext cx="9144000" cy="152280"/>
          </a:xfrm>
          <a:prstGeom prst="rect">
            <a:avLst/>
          </a:prstGeom>
          <a:gradFill rotWithShape="0">
            <a:gsLst>
              <a:gs pos="0">
                <a:srgbClr val="f1f7e9"/>
              </a:gs>
              <a:gs pos="100000">
                <a:srgbClr val="8dba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53080"/>
            <a:ext cx="9144000" cy="1800"/>
          </a:xfrm>
          <a:prstGeom prst="line">
            <a:avLst/>
          </a:prstGeom>
          <a:ln w="19080">
            <a:solidFill>
              <a:srgbClr val="366b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533520"/>
            <a:ext cx="8534520" cy="685800"/>
          </a:xfrm>
          <a:prstGeom prst="rect">
            <a:avLst/>
          </a:prstGeom>
          <a:solidFill>
            <a:srgbClr val="33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895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289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45BD-A98E-4F43-A614-33A397129825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8" name=""/>
            <p:cNvSpPr/>
            <p:nvPr/>
          </p:nvSpPr>
          <p:spPr>
            <a:xfrm>
              <a:off x="0" y="6400800"/>
              <a:ext cx="9144000" cy="152280"/>
            </a:xfrm>
            <a:prstGeom prst="rect">
              <a:avLst/>
            </a:prstGeom>
            <a:gradFill rotWithShape="0">
              <a:gsLst>
                <a:gs pos="0">
                  <a:srgbClr val="f1f7e9"/>
                </a:gs>
                <a:gs pos="100000">
                  <a:srgbClr val="8dba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144000" cy="3657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657600"/>
              <a:ext cx="9144000" cy="144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6553080"/>
              <a:ext cx="9144000" cy="304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6553080"/>
              <a:ext cx="9144000" cy="1800"/>
            </a:xfrm>
            <a:prstGeom prst="line">
              <a:avLst/>
            </a:prstGeom>
            <a:ln w="19080">
              <a:solidFill>
                <a:srgbClr val="366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480" y="2514600"/>
              <a:ext cx="8534520" cy="685800"/>
            </a:xfrm>
            <a:prstGeom prst="rect">
              <a:avLst/>
            </a:prstGeom>
            <a:solidFill>
              <a:srgbClr val="33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10DD-F4DA-4278-9B57-5BAC854A5686}" type="slidenum">
              <a:rPr b="0" lang="nl-NL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2438280"/>
          </a:xfrm>
          <a:prstGeom prst="rect">
            <a:avLst/>
          </a:prstGeom>
          <a:solidFill>
            <a:srgbClr val="8bae6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8800" spc="-1" strike="noStrike">
                <a:solidFill>
                  <a:srgbClr val="ffffff"/>
                </a:solidFill>
                <a:latin typeface="Times New Roman"/>
              </a:rPr>
              <a:t>Voer voor Gezondheid</a:t>
            </a:r>
            <a:endParaRPr b="0" i="1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Relatie voeding en klauwgezondheid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3300"/>
                </a:solidFill>
                <a:latin typeface="Times New Roman"/>
              </a:rPr>
              <a:t>deel 1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Wat te doen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ennisverbetering bij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eehoud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ing stalklimaa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ing vlo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en voeding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beteren vo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Wat doet de voeding?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voeding heeft grote invloed op de bloedsamenstel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klauwen worden doorbloed met eindbloedvaten                                              ( vergelijkbaar met lever en nier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oorbloe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een goede doorbloeding is er voldoende aanvoer van voedingsstoffen voor de hoorngroei van de klauw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en goede doorbloeding geeft ook een goed functioneren van de afweer tegen ziektekiem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Slechte doorbloe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voeding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nvoldoende hoornvorm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hoornvorm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meer slijtage als groei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wetsbaarder door geringere weerstand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82296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dingssituaties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rwisselingen zijn een groot risico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oerwisseling geeft andere bloedsamenstell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robeer te kijken naar evenwicht en constant gelijk aanbod van voer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edingssituaties in de praktijk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overdag weiden en ‘s nachts maïs   overmaat eiwit en te kort ruwvo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uwvoer voor voerhek en KV per computer we weten niet wat het dier opneemt.       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er kan ongewenste variaties aanbrengen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raskuilen met teveel suiker en te weinig r.c. zijn te snel verteerd.     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Voorkomen is beter dan genez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robeer het basisrantsoen in balans te bre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nel rantsoen geeft pensverzu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 veel OEB een basisch milieu (NH</a:t>
            </a:r>
            <a:r>
              <a:rPr b="0" lang="nl-NL" sz="3200" spc="-1" strike="noStrike" baseline="-25000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nl-NL" sz="3200" spc="-1" strike="noStrike" baseline="30000">
                <a:solidFill>
                  <a:srgbClr val="003300"/>
                </a:solidFill>
                <a:latin typeface="Times New Roman"/>
              </a:rPr>
              <a:t>+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ide geven penswandbeschadigingen, zodat de pens minder goed functioneer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808000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evolgen beschadigingen penswan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r kunnen nu stoffen in het bloed en de darm terecht komen die er eigenlijk niet in thuis hor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welke stoffen?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eiwitachtige stoffen 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bacterië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00"/>
                </a:solidFill>
                <a:latin typeface="Times New Roman"/>
              </a:rPr>
              <a:t>gifstoffen van pensverzuring of pensvervuil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PENSVERZUR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TE SNELLE KOOLHYDRATEN VERTERIN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hoogde  productie propionzuur / melkzuu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ensinhoud te zuur     pH lager dan 6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enswand gaat lek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vangenhei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2" marL="1040040" indent="-207720">
              <a:spcBef>
                <a:spcPts val="799"/>
              </a:spcBef>
              <a:buClr>
                <a:srgbClr val="00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oe  eet ook minder en heeft koort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Relatie voeding en klauwgezondhei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848960"/>
            <a:ext cx="380988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0000"/>
                </a:solidFill>
                <a:latin typeface="Times New Roman"/>
              </a:rPr>
              <a:t>Is die er?</a:t>
            </a:r>
            <a:endParaRPr b="0" lang="en-US" sz="54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33520" y="1676520"/>
          <a:ext cx="3809880" cy="27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380988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3"/>
          <a:srcRect l="0" t="0" r="0" b="30934"/>
          <a:stretch/>
        </p:blipFill>
        <p:spPr>
          <a:xfrm>
            <a:off x="4952880" y="2895480"/>
            <a:ext cx="361980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oede doorbloeding van groot belang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reemde stoffen in het bloed kunnen verstoppingen of beschadigingen van haarvaten veroorzak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aardoor werken zowel de aanvoer als afvoer onvoldoend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lechte afvoer betekent vochtophoping tussen klauwbeen en hoor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en kan van hoorn losscheu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Goede doorbloeding van groot belang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been scheurt los van het hoor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eft irritatie of beschadiging van zool aan onderkant van klauwbe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bekappen is dit zichtbaar aan blauwe of rode verkleuring in zo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minder ernstige aandoening zie je slechts lichte verkleuring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Soms herkenbaar aan dubbele of losse zoo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057400" y="228600"/>
            <a:ext cx="5191200" cy="6019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276360" y="6094800"/>
            <a:ext cx="34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00"/>
                </a:solidFill>
                <a:latin typeface="Times New Roman"/>
              </a:rPr>
              <a:t>bevangenheid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Rantsoeneisen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ltijd voldoende herkauwmateriaal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erkauwen stimuleert de speekselproductie en daardoor wordt de pens beter gebufferd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waliteit ruwvoer (RC)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(1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Pas afgekalfde di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aarz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eren met slepende melkziekte of andere infectie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2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pas afgekalfde dier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rijgen vaak grote voerveranderingen te verwerken in combinatie met een grote verandering in de hormoonhuishouding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zorg gedurende de laatste 2 weken van de droogstand voor het rantsoen van de melkk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geef ze ook krachtvoer 1 a 2 kg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3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vaarz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ze dieren hebben een vaak een grotere persistentie dan overige koei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te vroeg of te snel afbouwen van KV gift kan energie of eiwit te kort optreden. Dit heeft effect op de klauwgezondheid.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it zie je pas na 6 tot 8 wek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ieren met verhoogd risico (4)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848960"/>
            <a:ext cx="76960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00"/>
                </a:solidFill>
                <a:latin typeface="Times New Roman"/>
              </a:rPr>
              <a:t>dieren met slepende melkziekte of andere infect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ij deze dieren hoort voedselopname op peil te blijven. Is erg lastig!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rang om melk te geven is groo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energie tekort wegnemen door: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antsoen van perfect ruwvoer en voldoende energierijk  KV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Inleiding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Klauwen geven de koe alles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Relatie voeding klauw is indirec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Fouten in voeding kunnen op termijn problemen geven.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e bouw van een klau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695760"/>
            <a:ext cx="340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849320"/>
            <a:ext cx="784872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schoen beschermt het levende weefsel in de klauw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schoen bestaat uit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wand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zoo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ba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 hoornwand wordt gevormd door bij de overgang kroonrand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wand v.d.scho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De bouw van een klauw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371600" y="3695760"/>
            <a:ext cx="3406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845820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Hoorngroei  3 tot 7 mm </a:t>
            </a:r>
            <a:r>
              <a:rPr b="0" i="1" lang="nl-NL" sz="3600" spc="-1" strike="noStrike">
                <a:solidFill>
                  <a:srgbClr val="ffffff"/>
                </a:solidFill>
                <a:latin typeface="Times New Roman"/>
              </a:rPr>
              <a:t>per maand</a:t>
            </a:r>
            <a:endParaRPr b="0" i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4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hoorn is het afgestorven deel v.d. opperhuid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de opperhuid wordt gevoed door de lederhuid (het leven)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e hoornwand wordt gevormd  bij de overgang kroonrand </a:t>
            </a:r>
            <a:r>
              <a:rPr b="0" lang="nl-NL" sz="3200" spc="-1" strike="noStrike">
                <a:solidFill>
                  <a:srgbClr val="003300"/>
                </a:solidFill>
                <a:latin typeface="Symbol"/>
                <a:ea typeface="Symbol"/>
              </a:rPr>
              <a:t></a:t>
            </a: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 wand v.d.scho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nieuwe zolen onder de lederhuid onder het klauwbe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0" t="3129" r="0" b="3129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reupelheid kost veel geld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84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Per kreupele koe ongeveer 230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omgerekend per koe op het bedrijf 24-58 gulden per jaa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mastitis 155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vruchtbaarheids-problemen 135 gulden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09480" y="2549520"/>
          <a:ext cx="3419640" cy="201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49520"/>
                    <a:ext cx="341964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7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Kosten door:</a:t>
            </a:r>
            <a:r>
              <a:rPr b="0" i="1" lang="nl-NL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minderde melkproducti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lenging van de TKT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mindering gewichtstoename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behandelingskosten 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klauwbekapper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00"/>
                </a:solidFill>
                <a:latin typeface="Times New Roman"/>
              </a:rPr>
              <a:t>dierenarts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vervanging vroegtijdig geruimde dieren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00"/>
                </a:solidFill>
                <a:latin typeface="Times New Roman"/>
              </a:rPr>
              <a:t>arbeidskosten veehouder</a:t>
            </a:r>
            <a:endParaRPr b="0" lang="en-US" sz="32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3T09:26:40Z</dcterms:created>
  <dc:creator>Henk Bosman</dc:creator>
  <dc:description/>
  <dc:language>en-US</dc:language>
  <cp:lastModifiedBy>Gerrit Schott</cp:lastModifiedBy>
  <cp:lastPrinted>2000-05-24T15:55:52Z</cp:lastPrinted>
  <dcterms:modified xsi:type="dcterms:W3CDTF">2005-03-16T10:41:44Z</dcterms:modified>
  <cp:revision>16</cp:revision>
  <dc:subject/>
  <dc:title>Relatie voeding en klauwgezondheid</dc:title>
</cp:coreProperties>
</file>