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57A-1B6B-4D46-A59A-A5D764C0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F7C-64FD-4C72-912B-2495A7CD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6C8-FCF8-4E6C-B392-D775B5AE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635-8E2E-454A-8B87-6059A67C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1926-5F99-45DA-91F6-1C7F5C1E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3A9E-E06D-45BD-BC72-38C5F4F5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C5C0-EA92-4EB9-84A3-402B0A84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E8AE-E918-4718-9354-56FFCE8A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9BA5-CF57-4255-857D-AF694156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A934-AADC-432E-8C8B-A0072C63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2CCD-92FC-4983-BF4D-D4598908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CC5-33CA-4A78-9866-37E3968D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4499-BE5D-4FCA-813C-433DBA4B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9322-480E-44AF-AAAD-98284C2E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81E4-5584-499D-8DBB-161EE57E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59E3-586A-432D-8C73-D3F87F68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66A5-AE56-4A3A-B5C3-AE8743F9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3E2A-D142-42D0-B8A3-754985EF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9C3-2047-4667-8C23-0B0A8E84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0DD-96FA-4585-BCD0-11E757D2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712-2CDF-4724-9C2E-2C80EE39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45C-B111-4300-A370-AFC32B0B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6B4-1AA8-4F40-8D4B-4ACBB08C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C59-80C2-4066-85C9-BE215438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29F6-43DD-44BB-AF8C-A7DA92C7AFEA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F581-832F-4AB1-8AFF-AB89862E7B97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Voer voor Gezondheid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1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te doen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ennisverbetering bij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ehou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stalklima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vlo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doet de voeding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voeding heeft grote invloed op d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klauwen worden doorbloed met eindbloedvaten                                              ( vergelijkbaar met lever en nier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een goede doorbloeding is er voldoende aanvoer van voedingsstoffen voor de hoorngroei van de klauw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en goede doorbloeding geeft ook een goed functioneren van de afweer tegen ziektekiem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lechte 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eer slijtage als groei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etsbaarder door geringere weerstan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en zijn een groot risic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 geeft ander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te kijken naar evenwicht en constant gelijk aanbod van voer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 in de praktijk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verdag weiden en ‘s nachts maïs   overmaat eiwit en te kort ruwvo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uwvoer voor voerhek en KV per computer we weten niet wat het dier opneemt.       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 kan ongewenste variaties aanbrengen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raskuilen met teveel suiker en te weinig r.c. zijn te snel verteerd.    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is beter dan genez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het basisrantsoen in balans te bre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nel rantsoen geeft pensverzu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veel OEB een basisch milieu (NH</a:t>
            </a:r>
            <a:r>
              <a:rPr b="0" lang="nl-NL" sz="32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nl-NL" sz="3200" spc="-1" strike="noStrike" baseline="30000">
                <a:solidFill>
                  <a:srgbClr val="0033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ide geven penswandbeschadigingen, zodat de pens minder goed functioneer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volgen beschadigingen penswan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kunnen nu stoffen in het bloed en de darm terecht komen die er eigenlijk niet in thuis hor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welke stoffen?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iwitachtige stoff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bacterië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ifstoffen van pensverzuring of pensvervuil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PENSVERZUR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SNELLE KOOLHYDRATEN VERTE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hoogde  productie propionzuur / melkzuu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inhoud te zuur     pH lager dan 6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wand gaat 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vangenhe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e  eet ook minder en heeft koort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elatie voeding en klauwgezondhei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848960"/>
            <a:ext cx="3809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0000"/>
                </a:solidFill>
                <a:latin typeface="Times New Roman"/>
              </a:rPr>
              <a:t>Is die er?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676520"/>
          <a:ext cx="380988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380988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rcRect l="0" t="0" r="0" b="30934"/>
          <a:stretch/>
        </p:blipFill>
        <p:spPr>
          <a:xfrm>
            <a:off x="4952880" y="2895480"/>
            <a:ext cx="36198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reemde stoffen in het bloed kunnen verstoppingen of beschadigingen van haarvaten veroorzak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aardoor werken zowel de aanvoer als afvoer onvoldoend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afvoer betekent vochtophoping tussen klauwbeen en hoor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kan van hoorn losscheu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scheurt los van het hoor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t irritatie of beschadiging van zool aan onderkant van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bekappen is dit zichtbaar aan blauwe of rode verkleuring in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minder ernstige aandoening zie je slechts lichte verkleu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oms herkenbaar aan dubbele of losse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91200" cy="6019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76360" y="6094800"/>
            <a:ext cx="34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00"/>
                </a:solidFill>
                <a:latin typeface="Times New Roman"/>
              </a:rPr>
              <a:t>bevangenheid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antsoeneis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ijd voldoende herkauwmateria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erkauwen stimuleert de speekselproductie en daardoor wordt de pens beter gebuffer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aliteit ruwvoer (RC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rijgen vaak grote voerveranderingen te verwerken in combinatie met een grote verandering in de hormoonhuishoud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rg gedurende de laatste 2 weken van de droogstand voor het rantsoen van de melk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 ze ook krachtvoer 1 a 2 k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dieren hebben een vaak een grotere persistentie dan overige 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te vroeg of te snel afbouwen van KV gift kan energie of eiwit te kort optreden. Dit heeft effect op de klauwgezondhei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t zie je pas na 6 tot 8 we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848960"/>
            <a:ext cx="76960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deze dieren hoort voedselopname op peil te blijven. Is erg lastig!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ng om melk te geven is groo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nergie tekort wegnemen door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antsoen van perfect ruwvoer en voldoende energierijk  KV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Inlei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en geven de koe all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latie voeding klauw is indirec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uten in voeding kunnen op termijn problemen gev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849320"/>
            <a:ext cx="784872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chermt het levende weefsel i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taat uit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w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 hoornwand wordt gevormd door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Hoorngroei  3 tot 7 mm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per maand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oorn is het afgestorven deel v.d. opperhu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opperhuid wordt gevoed door de lederhuid (het lev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hoornwand wordt gevormd 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zolen onder de lederhuid onder het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3129" r="0" b="3129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reupelheid kost veel gel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er kreupele koe ongeveer 230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mgerekend per koe op het bedrijf 24-58 gulden per jaa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astitis 15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ruchtbaarheids-problemen 13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2549520"/>
          <a:ext cx="341964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49520"/>
                    <a:ext cx="341964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osten door: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de melkprodu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lenging van de TK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ing gewichtstoenam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handelingskost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bekapp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rena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vanging vroegtijdig geruimde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rbeidskosten veehoud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Gerrit Schott</cp:lastModifiedBy>
  <cp:lastPrinted>2000-05-24T15:55:52Z</cp:lastPrinted>
  <dcterms:modified xsi:type="dcterms:W3CDTF">2005-03-16T10:41:44Z</dcterms:modified>
  <cp:revision>16</cp:revision>
  <dc:subject/>
  <dc:title>Relatie voeding en klauwgezondheid</dc:title>
</cp:coreProperties>
</file>