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22.wmf" ContentType="image/x-wmf"/>
  <Override PartName="/ppt/media/image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21.wmf" ContentType="image/x-wmf"/>
  <Override PartName="/ppt/media/image18.jpeg" ContentType="image/jpeg"/>
  <Override PartName="/ppt/media/image16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1978-FC9B-41F8-A35D-A17824327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8FF6-5A3C-4105-8F48-20149F5C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0000-6B41-4F32-BD0A-46CA75F4A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7FEB-0218-43AF-B7BA-EC2A45870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A072-A0EA-4ECB-B499-F457A1110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BA69-1F02-402C-85E2-69B9AA16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FA05-C378-4B5A-BDE4-FDC6CC8B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C6C0-C295-495A-9E0F-1316E8F8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E910-E577-48E7-ABBD-9E4C5DDE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32F7-A615-489C-9D6C-61726F9F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20AF-C04F-41F6-BCDD-3850967B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75CA-DE9A-4C8D-9810-43C65C15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9DDC-3D87-4B2D-975D-1EE17D87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680D-40C3-4714-BF31-AB028976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42214-0B5F-435B-AB75-762192A2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0DAD-5304-4C27-AAB4-41235FB44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56DC-E398-444F-86C8-C3CB75503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535E-7F5F-4CE7-B947-4B161607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95F8-8D13-4D07-8096-7C7621F3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24C4-3F15-4112-A3C0-9547D04F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50DC-4A58-4061-8CBC-F1079128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698C-9C16-49EE-A708-1FDF272C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D3B4-2BD0-43E9-9F2A-4BD7E492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1F50-DE7C-4AD3-A7BF-EB7DE689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33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128A-9B68-4A73-9CD7-FE9072F27466}" type="slidenum"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33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04D9-B24B-426C-9F41-D3888783B334}" type="slidenum"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2438280"/>
          </a:xfrm>
          <a:prstGeom prst="rect">
            <a:avLst/>
          </a:prstGeom>
          <a:solidFill>
            <a:srgbClr val="8bae6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8800" spc="-1" strike="noStrike">
                <a:solidFill>
                  <a:srgbClr val="ffffff"/>
                </a:solidFill>
                <a:latin typeface="Times New Roman"/>
              </a:rPr>
              <a:t>Titel van de cursus</a:t>
            </a:r>
            <a:endParaRPr b="0" i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3300"/>
                </a:solidFill>
                <a:latin typeface="Times New Roman"/>
              </a:rPr>
              <a:t>Relatie voeding en klauwgezondheid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3300"/>
                </a:solidFill>
                <a:latin typeface="Times New Roman"/>
              </a:rPr>
              <a:t>deel 2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orbeelden van stinkpote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4230720" cy="4906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49120" y="1676520"/>
            <a:ext cx="4138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Stinkpoot infectie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Infectie door een bacteri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acterie leeft in afgesloten zuurstofarme omgev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acterie begint tussen de klauwhelft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Er ontstaan diepe kloven in het balgebie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acterie veroorzaakt afwijkende groei van hoornweefsel </a:t>
            </a:r>
            <a:r>
              <a:rPr b="0" lang="nl-NL" sz="3200" spc="-1" strike="noStrike">
                <a:solidFill>
                  <a:srgbClr val="003300"/>
                </a:solidFill>
                <a:latin typeface="Symbol"/>
                <a:ea typeface="Symbol"/>
              </a:rPr>
              <a:t>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 gevolg zoolzweer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Oorzaken van stinkpoot infectie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Onvoldoende hygiëne in de sta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roostervloer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regelmatig schoonschuiv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boxrand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schone boxen gebruik zaagsel of gemalen stro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ventilati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frisse stal geeft minder infectiedruk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Behandelen van stinkpoot </a:t>
            </a:r>
            <a:r>
              <a:rPr b="0" i="1" lang="nl-NL" sz="3600" spc="-1" strike="noStrike">
                <a:solidFill>
                  <a:srgbClr val="ffffff"/>
                </a:solidFill>
                <a:latin typeface="Times New Roman"/>
              </a:rPr>
              <a:t>infecties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ekapp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wegnemen overtollig hoorn buitenklauw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loven weghal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binnenklauw  het meeste gewicht gev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oetbad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enkele dagen na het bekapp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formalinebaden 3% oplossing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orkomen </a:t>
            </a:r>
            <a:r>
              <a:rPr b="0" i="1" lang="nl-NL" sz="4000" spc="-1" strike="noStrike">
                <a:solidFill>
                  <a:srgbClr val="ffffff"/>
                </a:solidFill>
                <a:latin typeface="Times New Roman"/>
              </a:rPr>
              <a:t>van stinkpoot infecties 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Hygiëne in de stal aanpass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eventueel kalk in boxen strooi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Regelmatig geven van voetbad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3% formalineoplossing in lauw wate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gedurende 2 tot 3 dag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bad moet zo schoon mogelijk blijv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elke 4 tot 6 weken herhal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Mortellar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rcRect l="13605" t="0" r="13605" b="0"/>
          <a:stretch/>
        </p:blipFill>
        <p:spPr>
          <a:xfrm>
            <a:off x="838080" y="1981080"/>
            <a:ext cx="354348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rcRect l="13062" t="0" r="13062" b="0"/>
          <a:stretch/>
        </p:blipFill>
        <p:spPr>
          <a:xfrm>
            <a:off x="4724280" y="1981080"/>
            <a:ext cx="350856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Ziekte van Mortellar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acterie ?? Welke nog onduidelijk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ijnlijke rode aardbei-achtige  plekk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p balgebie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ussen de klauwhelft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p de kroonran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Recht opstaande lange haartje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Huidwoekering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Oorzaken van Mortellar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Insleep van bacterie door aankoop van dier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esmetting jongvee door droge koeien bij de drachtige pinken te laten lop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acterie moeilijk uit te roei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Hygiëne speelt hier ook een grote ro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Behandeling van Mortellaro (1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Individuele behandel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lekjes zeer goed schoonmak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schoonspuit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poetsen met doek (papier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lekjes inspuiten met oxytetracycline o.i.d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Teer en lincomycine (</a:t>
            </a: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100 ml +20 gram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Zeker een paar dagen herhal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Behandeling van Mortellaro (2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oppel behandel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oetbad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schoonspuiten van de klauwen in melksta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plossingen van water me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etracyclin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lincomycin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Klauwe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Taak van de klauw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ragen lichaamslas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escherming van het lev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Behandeling van Mortellaro (3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3300"/>
                </a:solidFill>
                <a:latin typeface="Times New Roman"/>
              </a:rPr>
              <a:t>Preventieve koppel behandeling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Regelmatig voetbaden afwisselend gebruik maken van antibiotica (resistentie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Zoutbaden 10% (2 dagen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Formaline 3% (2 dagen)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Maken klauwen harder waardoor de Mortellaro minder kans krijg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Behandeling van Mortellaro  (4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3300"/>
                </a:solidFill>
                <a:latin typeface="Times New Roman"/>
              </a:rPr>
              <a:t>Preventieve koppel behandeling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Andere product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Zink- of kopersulfaatoplossingen (goedkoper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oplossen in water en beetje zeep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In diverse middelen te koop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gel met kwast insmer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met spuit op klauw breng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Formaline en andere koper- of zink- oplossingen afwisselend gebruiken 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0058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Gebruik van voetbaden (1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3300"/>
                </a:solidFill>
                <a:latin typeface="Times New Roman"/>
              </a:rPr>
              <a:t>Middelen afwisselend gebruiken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3300"/>
                </a:solidFill>
                <a:latin typeface="Times New Roman"/>
              </a:rPr>
              <a:t>Formaline is voor mens en dier giftig bij inademing (formaldehydegas)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3300"/>
                </a:solidFill>
                <a:latin typeface="Times New Roman"/>
              </a:rPr>
              <a:t>Zink - en of kopersulfaten ook belastend voor het milieu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ze middelen werken minder goed in aanwezigheid van mest (eiwit)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etbaden (2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09480" y="1371600"/>
            <a:ext cx="4465800" cy="51814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257440" y="17524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Lang genoeg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Diep genoeg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Schoon genoeg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waterbad ervoor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eerste strontopva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in melkstal klauwen schoonspuit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Denk ook aan de rooster bij het voerhek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etbaden</a:t>
            </a:r>
            <a:r>
              <a:rPr b="0" i="1" lang="nl-NL" sz="4000" spc="-1" strike="noStrike">
                <a:solidFill>
                  <a:srgbClr val="ffffff"/>
                </a:solidFill>
                <a:latin typeface="Times New Roman"/>
              </a:rPr>
              <a:t> (3)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oetbad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na de melksta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lengte zodanig dat koe er goed door loop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lauw moet helmaal onde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eveel mest in bad </a:t>
            </a:r>
            <a:r>
              <a:rPr b="0" lang="nl-NL" sz="2800" spc="-1" strike="noStrike">
                <a:solidFill>
                  <a:srgbClr val="003300"/>
                </a:solidFill>
                <a:latin typeface="Symbol"/>
                <a:ea typeface="Symbol"/>
              </a:rPr>
              <a:t></a:t>
            </a: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geen werking formalin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ppassen bij opspatten </a:t>
            </a:r>
            <a:r>
              <a:rPr b="0" lang="nl-NL" sz="2800" spc="-1" strike="noStrike">
                <a:solidFill>
                  <a:srgbClr val="003300"/>
                </a:solidFill>
                <a:latin typeface="Symbol"/>
                <a:ea typeface="Symbol"/>
              </a:rPr>
              <a:t></a:t>
            </a: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 brandblar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niet direct na bekappen voetbad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brandt in open wond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etbaden</a:t>
            </a:r>
            <a:r>
              <a:rPr b="0" i="1" lang="nl-NL" sz="4000" spc="-1" strike="noStrike">
                <a:solidFill>
                  <a:srgbClr val="ffffff"/>
                </a:solidFill>
                <a:latin typeface="Times New Roman"/>
              </a:rPr>
              <a:t> (4)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Alternatief voor een voetba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De HOEFM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00"/>
                </a:solidFill>
                <a:latin typeface="Times New Roman"/>
              </a:rPr>
              <a:t>ZUINIGER IN GEBRUIK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00"/>
                </a:solidFill>
                <a:latin typeface="Times New Roman"/>
              </a:rPr>
              <a:t>VERVUILING MINDER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00"/>
                </a:solidFill>
                <a:latin typeface="Times New Roman"/>
              </a:rPr>
              <a:t>MAKKELIJK SCHOON TE HOUDE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rcRect l="9263" t="0" r="9263" b="0"/>
          <a:stretch/>
        </p:blipFill>
        <p:spPr>
          <a:xfrm>
            <a:off x="304920" y="1828800"/>
            <a:ext cx="4530600" cy="39625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rcRect l="0" t="0" r="4429" b="0"/>
          <a:stretch/>
        </p:blipFill>
        <p:spPr>
          <a:xfrm>
            <a:off x="4495680" y="1828800"/>
            <a:ext cx="4297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Andere namen voor dezelfde ziekte zijn: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haarworm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leipoo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slakkepoo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ussenklauwpanatitium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ussenklauw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 </a:t>
            </a:r>
            <a:r>
              <a:rPr b="0" i="1" lang="nl-NL" sz="4000" spc="-1" strike="noStrike">
                <a:solidFill>
                  <a:srgbClr val="ffffff"/>
                </a:solidFill>
                <a:latin typeface="Times New Roman"/>
              </a:rPr>
              <a:t>verschijnselen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Plotselinge kreupelheid aan een poo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oort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minder eetlus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minder melkproducti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ndervoet gezwollen en warm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m.n. in kootholte en boven tussenklauwsplee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 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Wat is het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ntsteking van het onderhuidse tussenklauwweefs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door een veel voorkomende bacterie (necrosebacil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bacterie dringt de huid binnen via kleine wondje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Ontstaan klauwprobleme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815328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oor de klauwgroei of de beenstan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zoolzwer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oor bacteriën of verminderde weerstan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stinkpoo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mortellaro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ussenklauwontsteking  (tussenteenflegmoon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 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complicatie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84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geneest de wond niet snel genoeg dan ontstaat er weefselversterf en een diepe wond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ontstaan van gevoelige weefselwoekering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aantasting gewricht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rcRect l="0" t="0" r="0" b="13499"/>
          <a:stretch/>
        </p:blipFill>
        <p:spPr>
          <a:xfrm>
            <a:off x="4724280" y="2049480"/>
            <a:ext cx="3810240" cy="38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 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84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Genez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antibiotica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sulfa’s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Oppassen voor residuen in de melk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778280" y="1828800"/>
            <a:ext cx="3548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 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oorkomen: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van beschadiging de klauwhui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doo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pui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grin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stoppelland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ruwe betonvloer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826160" y="1523880"/>
            <a:ext cx="431784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5400" spc="-1" strike="noStrike">
                <a:solidFill>
                  <a:srgbClr val="003300"/>
                </a:solidFill>
                <a:latin typeface="Times New Roman"/>
              </a:rPr>
              <a:t>Samenvatting</a:t>
            </a:r>
            <a:endParaRPr b="0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85800" y="1849320"/>
          <a:ext cx="7772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84932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5400" spc="-1" strike="noStrike">
                <a:solidFill>
                  <a:srgbClr val="003300"/>
                </a:solidFill>
                <a:latin typeface="Times New Roman"/>
              </a:rPr>
              <a:t>Samenvatting</a:t>
            </a:r>
            <a:endParaRPr b="0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357280" y="1849320"/>
          <a:ext cx="44262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57280" y="1849320"/>
                    <a:ext cx="44262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Stand  van de achterbene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849320"/>
            <a:ext cx="2438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eveel hoorngroei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Afwijkende stan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Druk op buitenklauw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neuzing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Zoolzweren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124080" y="1828800"/>
            <a:ext cx="571500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003300"/>
                </a:solidFill>
                <a:latin typeface="Times New Roman"/>
              </a:rPr>
              <a:t>Ontstaan van een zoolzweer (1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417680" y="838080"/>
          <a:ext cx="2543040" cy="5867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17680" y="838080"/>
                    <a:ext cx="2543040" cy="586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5029200" y="914400"/>
          <a:ext cx="3043080" cy="57150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29200" y="914400"/>
                    <a:ext cx="30430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003300"/>
                </a:solidFill>
                <a:latin typeface="Times New Roman"/>
              </a:rPr>
              <a:t>Ontstaan van een zoolzweer (2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0" t="57989" r="0" b="0"/>
          <a:stretch/>
        </p:blipFill>
        <p:spPr>
          <a:xfrm>
            <a:off x="4952880" y="1752480"/>
            <a:ext cx="3481560" cy="4191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rcRect l="0" t="0" r="0" b="41121"/>
          <a:stretch/>
        </p:blipFill>
        <p:spPr>
          <a:xfrm>
            <a:off x="1143000" y="1600200"/>
            <a:ext cx="34005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orbeeld van een zoolzweer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914400" y="1563840"/>
            <a:ext cx="712476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oorsnede zoolzweer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092240" y="1523880"/>
            <a:ext cx="66038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Zoolzweer behandeling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4532400" cy="5257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952880" y="1752480"/>
            <a:ext cx="3733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Wegnemen overtollig      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hoor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Zool verdunnen 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rondom de zwee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Eventueel een klosje 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onder de 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gezonde 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klauwhelf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3T09:26:40Z</dcterms:created>
  <dc:creator>Henk Bosman</dc:creator>
  <dc:description/>
  <dc:language>en-US</dc:language>
  <cp:lastModifiedBy>Rinze</cp:lastModifiedBy>
  <cp:lastPrinted>2000-05-24T15:55:52Z</cp:lastPrinted>
  <dcterms:modified xsi:type="dcterms:W3CDTF">2008-05-14T13:18:58Z</dcterms:modified>
  <cp:revision>16</cp:revision>
  <dc:subject/>
  <dc:title>Relatie voeding en klauwgezondheid</dc:title>
</cp:coreProperties>
</file>