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C42-A97E-4C03-A4F7-FF77114A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9D9-D517-48DB-B4A8-D4A890FB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E78-171F-4B88-80F5-5EBB9424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7DB-854F-49F2-BFEF-92F00656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263A-D0F1-4D32-8E3C-2A96D1AF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A0B8-406B-45E5-A672-377B4B4B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6F9D-9644-474B-B9FC-00B6F054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CE55-B75B-481B-B11A-F1BF254C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ABB6-4422-4ACC-877A-33FDA5A6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90AF-D827-444B-AFC3-7F15248D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2D9D-2C66-4C35-9211-BAAA7003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1E5-6D24-4AE1-83A7-4E685597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7423-9DC8-4B67-9F87-6D5CF92A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D956-C039-4AB5-88BF-D78DD3A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6DF0-9D24-4CF3-B6EA-EF8CBC57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3600-3623-44D8-B07C-6A105508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5AD8-F5CD-4DE8-B3DC-474BF29E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E00-F978-4361-B15F-4AD5E0F5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F1E-DE8D-41C0-85F7-647092CF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868-B238-49A4-8A46-4BC54A16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69C-3563-43F9-B81C-7E796A8D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E28-3819-41B0-8AFE-61DCA581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812-4E57-412A-9E6E-D79BD172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707-9082-4A1E-BC84-2EE0979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0876-550F-4FE7-B743-65C1D447F7B3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078-5067-40CE-9865-AF7B1E7D8FBC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Voer voor Gezondheid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1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te doen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ennisverbetering bij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ehou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stalklima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vlo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doet de voeding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voeding heeft grote invloed op d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klauwen worden doorbloed met eindbloedvaten                                              ( vergelijkbaar met lever en nier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een goede doorbloeding is er voldoende aanvoer van voedingsstoffen voor de hoorngroei van de klauw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en goede doorbloeding geeft ook een goed functioneren van de afweer tegen ziektekiem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lechte 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eer slijtage als groe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etsbaarder door geringere weerstan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en zijn een groot risic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 geeft ander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te kijken naar evenwicht en constant gelijk aanbod van voer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 in de praktijk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verdag weiden en ‘s nachts maïs   overmaat eiwit en te kort ruwvo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uwvoer voor voerhek en KV per computer we weten niet wat het dier opneemt.       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 kan ongewenste variaties aanbrengen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raskuilen met teveel suiker en te weinig r.c. zijn te snel verteerd.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is beter dan genez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het basisrantsoen in balans te bre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nel rantsoen geeft pensverzu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veel OEB een basisch milieu (NH</a:t>
            </a:r>
            <a:r>
              <a:rPr b="0" lang="nl-NL" sz="32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nl-NL" sz="3200" spc="-1" strike="noStrike" baseline="30000">
                <a:solidFill>
                  <a:srgbClr val="0033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ide geven penswandbeschadigingen, zodat de pens minder goed functioneer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volgen beschadigingen penswan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kunnen nu stoffen in het bloed en de darm terecht komen die er eigenlijk niet in thuis hor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welke stoffen?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iwitachtige stoff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bacterië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ifstoffen van pensverzuring of pensvervuil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PENSVERZU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SNELLE KOOLHYDRATEN VERTE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hoogde  productie propionzuur / melkzu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inhoud te zuur     pH lager dan 6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wand gaat 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vangenhe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e  eet ook minder en heeft koor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elatie voeding en klauwgezondhei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48960"/>
            <a:ext cx="3809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0000"/>
                </a:solidFill>
                <a:latin typeface="Times New Roman"/>
              </a:rPr>
              <a:t>Is die er?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380988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80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0" t="0" r="0" b="30934"/>
          <a:stretch/>
        </p:blipFill>
        <p:spPr>
          <a:xfrm>
            <a:off x="4952880" y="2895480"/>
            <a:ext cx="361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reemde stoffen in het bloed kunnen verstoppingen of beschadigingen van haarvaten veroorzak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aardoor werken zowel de aanvoer als afvoer onvoldoen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afvoer betekent vochtophoping tussen klauwbeen en hoor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kan van hoorn losscheu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scheurt los van het hoor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t irritatie of beschadiging van zool aan onderkant van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bekappen is dit zichtbaar aan blauwe of rode verkleuring in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minder ernstige aandoening zie je slechts lichte verkleu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oms herkenbaar aan dubbele of losse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91200" cy="6019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360" y="609480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00"/>
                </a:solidFill>
                <a:latin typeface="Times New Roman"/>
              </a:rPr>
              <a:t>bevangenheid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antsoeneis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ijd voldoende herkauwmateria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erkauwen stimuleert de speekselproductie en daardoor wordt de pens beter gebuffer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aliteit ruwvoer (RC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rijgen vaak grote voerveranderingen te verwerken in combinatie met een grote verandering in de hormoonhuishou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rg gedurende de laatste 2 weken van de droogstand voor het rantsoen van de melk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 ze ook krachtvoer 1 a 2 k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dieren hebben een vaak een grotere persistentie dan overige 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te vroeg of te snel afbouwen van KV gift kan energie of eiwit te kort optreden. Dit heeft effect op de klauwgezondhei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t zie je pas na 6 tot 8 we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48960"/>
            <a:ext cx="76960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deze dieren hoort voedselopname op peil te blijven. Is erg lastig!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ng om melk te geven is groo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nergie tekort wegnemen doo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antsoen van perfect ruwvoer en voldoende energierijk  KV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Inlei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en geven de koe al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latie voeding klauw is indir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uten in voeding kunnen op termijn problemen gev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849320"/>
            <a:ext cx="784872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chermt het levende weefsel i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taat uit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w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 hoornwand wordt gevormd door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Hoorngroei  3 tot 7 mm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per maand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oorn is het afgestorven deel v.d. opperhu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opperhuid wordt gevoed door de lederhuid (het lev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hoornwand wordt gevormd 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zolen onder de lederhuid onder het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3129" r="0" b="3129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reupelheid kost veel gel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er kreupele koe ongeveer 230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mgerekend per koe op het bedrijf 24-58 gulden per jaa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astitis 15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ruchtbaarheids-problemen 13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49520"/>
          <a:ext cx="34196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49520"/>
                    <a:ext cx="34196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osten door: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de melkprodu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lenging van de TK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ing gewichtstoenam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handelingskost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bekapp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rena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vanging vroegtijdig geruimde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rbeidskosten veehoud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Gerrit Schott</cp:lastModifiedBy>
  <cp:lastPrinted>2000-05-24T15:55:52Z</cp:lastPrinted>
  <dcterms:modified xsi:type="dcterms:W3CDTF">2005-03-16T10:41:44Z</dcterms:modified>
  <cp:revision>16</cp:revision>
  <dc:subject/>
  <dc:title>Relatie voeding en klauwgezondheid</dc:title>
</cp:coreProperties>
</file>