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6ECE3-DA9A-43B9-914E-5B427A5EE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B705D-4422-4325-A34E-E46FE94A1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73E56-A94E-40A3-8B0D-4E4F95C4A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D3A32-AAC4-4033-9A52-A5435E7B9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93498-CCAD-459B-92BB-F6BF3BDB4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B5D60-3E25-4DFC-A539-C57C643B8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F8DD7-E27E-469A-88D5-95FD65593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BACB7-9783-45AD-8FE4-F0A1E5773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E717A-00C9-485D-B23F-4A32A900D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44D3C-9D7C-4BE7-A394-1DA0673B7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4B2C8-36BD-4EF9-945E-3929B37FA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FE692-693C-4565-B35F-7BDC06824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F5941-C3B9-47EB-9C46-75B4B4CFD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46360-7986-48C2-A5B5-E20B63017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0061F-8CCA-4ED6-B0D1-4760BC3C7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CF9C2-5E09-4047-AF11-909EAD583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5C1C3-CA0E-44A1-933B-C8E5366B8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7679A-1B03-46BC-BEEC-53697CE80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FFF20-5170-4DF8-82C2-3D6078C68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7D002-E872-4697-A48E-69842EB6E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46552-8288-4320-AFC0-F0BFD0456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2549C-7F05-4A6F-A9BE-F5DE028A0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22311-326F-48A9-AB58-A3520BF20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93BFA-CD52-42E0-82AD-0CFBC776B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1644A-2DA3-4404-B042-745DBC7FEE34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FC377-2DBB-4921-B6A6-20C922D0A8B8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nl.wikipedia.org/wiki/Bestand:Bacillus_subtilis_Gram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Basiskennis bacteriologisch onderzoek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rondvorm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psporen van ziekteverwekkende bacterië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acteriologisch prepara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Gram positieve en negatieve bacteriën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838080" y="3116160"/>
            <a:ext cx="3775320" cy="22161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756320" y="3036960"/>
            <a:ext cx="3774960" cy="23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89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grondvorme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61760" y="2285640"/>
            <a:ext cx="4267080" cy="38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Coccus of kok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Diploko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Streptoko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Stafyloko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Bacil of staaf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419720" y="2438280"/>
            <a:ext cx="407664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63280" y="863280"/>
            <a:ext cx="772164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Opsporen van ziekteverwekkende bacteriën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Bacteriologisch onderzoe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Arial"/>
              </a:rPr>
              <a:t>Microscopisch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Arial"/>
              </a:rPr>
              <a:t>Kweekproef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Arial"/>
              </a:rPr>
              <a:t>DNA-onderzoek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Arial"/>
              </a:rPr>
              <a:t>Resistentietes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Immunologisch onderzoe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Arial"/>
              </a:rPr>
              <a:t>Na vaccinatie ontstaat bij de grote meerderheid van de gevaccineerden anti-HBsAg, dit zijn antistoffen gericht tegen het hepatitis B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762440" y="2362320"/>
            <a:ext cx="376704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3272400" y="9864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Bacteriologisch preparaat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microscopisch onderzoek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ateriaal aanbrengen op objectgl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rogen aan de luch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ixer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Bacteriën dode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Hechting materiaa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eleiwitten kapot, beter kleuropnam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Kleur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rog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Beoordel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micro (9K)"/>
          <p:cNvPicPr/>
          <p:nvPr/>
        </p:nvPicPr>
        <p:blipFill>
          <a:blip r:embed="rId1"/>
          <a:stretch/>
        </p:blipFill>
        <p:spPr>
          <a:xfrm>
            <a:off x="5105520" y="1943280"/>
            <a:ext cx="3276360" cy="24573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micro5 (8K)"/>
          <p:cNvPicPr/>
          <p:nvPr/>
        </p:nvPicPr>
        <p:blipFill>
          <a:blip r:embed="rId2"/>
          <a:stretch/>
        </p:blipFill>
        <p:spPr>
          <a:xfrm rot="9581400">
            <a:off x="2811600" y="3409560"/>
            <a:ext cx="2133360" cy="21448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micro3 (10K)"/>
          <p:cNvPicPr/>
          <p:nvPr/>
        </p:nvPicPr>
        <p:blipFill>
          <a:blip r:embed="rId3"/>
          <a:stretch/>
        </p:blipFill>
        <p:spPr>
          <a:xfrm>
            <a:off x="762120" y="1371600"/>
            <a:ext cx="2971800" cy="22287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 txBox="1"/>
          <p:nvPr/>
        </p:nvSpPr>
        <p:spPr>
          <a:xfrm>
            <a:off x="4948920" y="834120"/>
            <a:ext cx="36651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voedingsbodem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Arial"/>
              </a:rPr>
              <a:t>methyleenblauwkleur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eeft informatie over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de vorm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van de bacterië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Kokken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tav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898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898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898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898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Arial"/>
              </a:rPr>
              <a:t>Gram-kleur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eeft informatie over de vorm van de bacterie en…</a:t>
            </a:r>
            <a:br>
              <a:rPr sz="2800"/>
            </a:b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eeft informatie over de eigenschappen van de wand van de bacteri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58760" y="250920"/>
            <a:ext cx="8985240" cy="61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3366"/>
                </a:solidFill>
                <a:latin typeface="Arial"/>
              </a:rPr>
              <a:t>Gram-kleuring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Preparaat met bacteriën behandelen met kristalviolet en jodium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Oplossen kristalviolet-jodium-verbinding door ethano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Nabehandeling met fuchsine of saffranine (rode kleurstof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Preparaat bekijken onder de microscoop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Bacteriën </a:t>
            </a:r>
            <a:r>
              <a:rPr b="0" lang="nl-NL" sz="2400" spc="-1" strike="noStrike">
                <a:solidFill>
                  <a:srgbClr val="9900cc"/>
                </a:solidFill>
                <a:latin typeface="Arial"/>
              </a:rPr>
              <a:t>paars</a:t>
            </a: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3366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 Gram-positief (verbinding niet opgelost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Bacteriën </a:t>
            </a:r>
            <a:r>
              <a:rPr b="0" lang="nl-NL" sz="2400" spc="-1" strike="noStrike">
                <a:solidFill>
                  <a:srgbClr val="f60000"/>
                </a:solidFill>
                <a:latin typeface="Arial"/>
              </a:rPr>
              <a:t>rood</a:t>
            </a: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3366"/>
                </a:solidFill>
                <a:latin typeface="Wingdings"/>
                <a:ea typeface="Wingdings"/>
              </a:rPr>
              <a:t></a:t>
            </a:r>
            <a:r>
              <a:rPr b="0" sz="2400" spc="-1" strike="noStrike">
                <a:solidFill>
                  <a:srgbClr val="003366"/>
                </a:solidFill>
                <a:latin typeface="Arial"/>
              </a:rPr>
              <a:t> Gram-negatief (verbinding opgelost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3366"/>
                </a:solidFill>
                <a:latin typeface="Arial"/>
              </a:rPr>
              <a:t>Tevens onderscheid tussen staven en kokk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762120" y="1523880"/>
            <a:ext cx="7315200" cy="52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Voorbeelden </a:t>
            </a:r>
            <a:r>
              <a:rPr b="0" lang="nl-NL" sz="2000" spc="-1" strike="noStrike">
                <a:solidFill>
                  <a:srgbClr val="f60000"/>
                </a:solidFill>
                <a:latin typeface="Arial"/>
              </a:rPr>
              <a:t>Gram-negatieve</a:t>
            </a: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 bacteriën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meningokokken (meningitis: hersenvliesontsteking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gonokokken (gonorroe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E.coli bacterië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tyfusbacterië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Voorbeelden </a:t>
            </a:r>
            <a:r>
              <a:rPr b="0" lang="nl-NL" sz="2000" spc="-1" strike="noStrike">
                <a:solidFill>
                  <a:srgbClr val="9900cc"/>
                </a:solidFill>
                <a:latin typeface="Arial"/>
              </a:rPr>
              <a:t>Gram-positieve</a:t>
            </a: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 bacteriën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stafylokokken (MRSA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streptokokken (keelontsteking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pneumokokken (longontsteking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tuberkelbacteriën (tuberculose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Veroorzakers urineweginfectie meestal Gram-negatief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9T09:04:52Z</dcterms:created>
  <dc:creator>Haverkort</dc:creator>
  <dc:description/>
  <dc:language>en-US</dc:language>
  <cp:lastModifiedBy>Haverkort</cp:lastModifiedBy>
  <dcterms:modified xsi:type="dcterms:W3CDTF">2010-09-19T10:56:20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