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3B0FD-0386-4B12-A7A2-2DB3E26FF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64E49-578F-42FF-9E97-2291DDC19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6559F-5A2B-4FEB-A4C7-FFF2A60C7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044BD-D9C7-4510-9969-C59E29A42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0193F-AEAF-42E4-971E-E43F60D4D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C554F-E040-4DF7-B356-B261BC354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B3E56-5182-432A-B9D4-A94B2AE0B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D4256-683A-48D5-812C-A4658B32D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26D4B-9A01-4FB1-88DD-0060615D5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DB0D3-80CF-4CC3-89A7-A7166A19F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79B48-2023-4740-A010-A5D1393EA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1DD7D-69F6-4246-A4A1-3965EA46B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65931-8ECB-4117-93A9-1A0673BA7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75BE2-C495-430D-B9EA-E41CC4158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F7660-0679-4839-B42B-FB7E27585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5C377-3BBA-4999-8E07-FC47952A4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F3353-B3F6-4D9F-A0FF-A8F053F41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CDDCE-49F9-46DD-9854-A4A99BC8A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D3666-17FC-4191-8AA9-19A6E589C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81D87-167B-402F-971A-D72351AD4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7B34A-DD64-4C18-9335-BC3D555DB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C6E67-5EB3-4FA1-B24A-57F25D7B1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1E553-9B07-44B5-A759-7F77C4471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0C1C3-3D9A-4391-9FB4-180E5CCDA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22964-6C7B-4727-8164-7C63036676FC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F83BF-9542-4FE4-87DD-FFC2F521DF5E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nl.wikipedia.org/wiki/Bestand:Bacillus_subtilis_Gram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Basiskennis bacteriologisch onderzoek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rondvorm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psporen van ziekteverwekkende bacterië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acteriologisch prepara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Gram positieve en negatieve bacteriën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838080" y="3116160"/>
            <a:ext cx="3775320" cy="22161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756320" y="3036960"/>
            <a:ext cx="3774960" cy="23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89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grondvorme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61760" y="2285640"/>
            <a:ext cx="4267080" cy="38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Coccus of kok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Diploko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Streptoko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Stafyloko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Bacil of staaf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419720" y="2438280"/>
            <a:ext cx="407664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63280" y="863280"/>
            <a:ext cx="772164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Opsporen van ziekteverwekkende bacteriën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Bacteriologisch onderzoe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Arial"/>
              </a:rPr>
              <a:t>Microscopisch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Arial"/>
              </a:rPr>
              <a:t>Kweekproef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Arial"/>
              </a:rPr>
              <a:t>DNA-onderzoek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Arial"/>
              </a:rPr>
              <a:t>Resistentietes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Immunologisch onderzoe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Arial"/>
              </a:rPr>
              <a:t>Na vaccinatie ontstaat bij de grote meerderheid van de gevaccineerden anti-HBsAg, dit zijn antistoffen gericht tegen het hepatitis B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762440" y="2362320"/>
            <a:ext cx="376704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3272400" y="9864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Bacteriologisch preparaat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microscopisch onderzoek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ateriaal aanbrengen op objectgl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rogen aan de luch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ixer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Bacteriën dode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Hechting materiaa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eleiwitten kapot, beter kleuropnam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Kleur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rog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Beoordel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micro (9K)"/>
          <p:cNvPicPr/>
          <p:nvPr/>
        </p:nvPicPr>
        <p:blipFill>
          <a:blip r:embed="rId1"/>
          <a:stretch/>
        </p:blipFill>
        <p:spPr>
          <a:xfrm>
            <a:off x="5105520" y="1943280"/>
            <a:ext cx="3276360" cy="24573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micro5 (8K)"/>
          <p:cNvPicPr/>
          <p:nvPr/>
        </p:nvPicPr>
        <p:blipFill>
          <a:blip r:embed="rId2"/>
          <a:stretch/>
        </p:blipFill>
        <p:spPr>
          <a:xfrm rot="9581400">
            <a:off x="2811600" y="3409560"/>
            <a:ext cx="2133360" cy="21448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micro3 (10K)"/>
          <p:cNvPicPr/>
          <p:nvPr/>
        </p:nvPicPr>
        <p:blipFill>
          <a:blip r:embed="rId3"/>
          <a:stretch/>
        </p:blipFill>
        <p:spPr>
          <a:xfrm>
            <a:off x="762120" y="1371600"/>
            <a:ext cx="2971800" cy="22287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 txBox="1"/>
          <p:nvPr/>
        </p:nvSpPr>
        <p:spPr>
          <a:xfrm>
            <a:off x="4948920" y="834120"/>
            <a:ext cx="36651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voedingsbodem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Arial"/>
              </a:rPr>
              <a:t>methyleenblauwkleur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eeft informatie over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de vorm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van de bacterië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Kokken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tav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898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898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898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898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Arial"/>
              </a:rPr>
              <a:t>Gram-kleur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eeft informatie over de vorm van de bacterie en…</a:t>
            </a:r>
            <a:br>
              <a:rPr sz="2800"/>
            </a:b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eeft informatie over de eigenschappen van de wand van de bacteri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58760" y="250920"/>
            <a:ext cx="8985240" cy="61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3366"/>
                </a:solidFill>
                <a:latin typeface="Arial"/>
              </a:rPr>
              <a:t>Gram-kleuring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Preparaat met bacteriën behandelen met kristalviolet en jodium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Oplossen kristalviolet-jodium-verbinding door ethano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Nabehandeling met fuchsine of saffranine (rode kleurstof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Preparaat bekijken onder de microscoop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Bacteriën </a:t>
            </a:r>
            <a:r>
              <a:rPr b="0" lang="nl-NL" sz="2400" spc="-1" strike="noStrike">
                <a:solidFill>
                  <a:srgbClr val="9900cc"/>
                </a:solidFill>
                <a:latin typeface="Arial"/>
              </a:rPr>
              <a:t>paars</a:t>
            </a: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3366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 Gram-positief (verbinding niet opgelost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Bacteriën </a:t>
            </a:r>
            <a:r>
              <a:rPr b="0" lang="nl-NL" sz="2400" spc="-1" strike="noStrike">
                <a:solidFill>
                  <a:srgbClr val="f60000"/>
                </a:solidFill>
                <a:latin typeface="Arial"/>
              </a:rPr>
              <a:t>rood</a:t>
            </a: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3366"/>
                </a:solidFill>
                <a:latin typeface="Wingdings"/>
                <a:ea typeface="Wingdings"/>
              </a:rPr>
              <a:t></a:t>
            </a:r>
            <a:r>
              <a:rPr b="0" sz="2400" spc="-1" strike="noStrike">
                <a:solidFill>
                  <a:srgbClr val="003366"/>
                </a:solidFill>
                <a:latin typeface="Arial"/>
              </a:rPr>
              <a:t> Gram-negatief (verbinding opgelost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3366"/>
                </a:solidFill>
                <a:latin typeface="Arial"/>
              </a:rPr>
              <a:t>Tevens onderscheid tussen staven en kokk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762120" y="1523880"/>
            <a:ext cx="7315200" cy="52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Voorbeelden </a:t>
            </a:r>
            <a:r>
              <a:rPr b="0" lang="nl-NL" sz="2000" spc="-1" strike="noStrike">
                <a:solidFill>
                  <a:srgbClr val="f60000"/>
                </a:solidFill>
                <a:latin typeface="Arial"/>
              </a:rPr>
              <a:t>Gram-negatieve</a:t>
            </a: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 bacteriën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meningokokken (meningitis: hersenvliesontsteking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gonokokken (gonorroe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E.coli bacterië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tyfusbacterië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Voorbeelden </a:t>
            </a:r>
            <a:r>
              <a:rPr b="0" lang="nl-NL" sz="2000" spc="-1" strike="noStrike">
                <a:solidFill>
                  <a:srgbClr val="9900cc"/>
                </a:solidFill>
                <a:latin typeface="Arial"/>
              </a:rPr>
              <a:t>Gram-positieve</a:t>
            </a: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 bacteriën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stafylokokken (MRSA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streptokokken (keelontsteking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pneumokokken (longontsteking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tuberkelbacteriën (tuberculose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Veroorzakers urineweginfectie meestal Gram-negatief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9T09:04:52Z</dcterms:created>
  <dc:creator>Haverkort</dc:creator>
  <dc:description/>
  <dc:language>en-US</dc:language>
  <cp:lastModifiedBy>Haverkort</cp:lastModifiedBy>
  <dcterms:modified xsi:type="dcterms:W3CDTF">2010-09-19T10:56:20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