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78D1-5265-4049-B858-E8DBC7638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80BB-1EDD-42C9-8C72-D4A976E85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9254-7FB3-456A-AA59-450190DB7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E078-AD92-4E03-9770-130594AC7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E1BBC-07BD-4BA9-9D59-28A47F4B8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1AA74-EAD4-4184-A731-FD062AC37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AEF1A-4FED-458A-9E07-2E6C2F3D9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C56B2-F13E-4179-A2BE-F517AE588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1CB5E-CF17-4AF2-A01E-2690E5BC4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A51BC-3947-46EB-AB5C-9C24435DC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28DB7-D2CF-427B-87EE-9FFD9603A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6D2E-811B-43BC-BA67-93D878D6B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D638A-B176-4154-B5A1-D03807589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FFF1C-FFC1-4EA0-BCA1-97142A666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88D39-23D7-43FA-89C9-33B25D55A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D97CF-F683-4BE6-8BBC-8EE4E86ED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70A80-F939-4AEE-820F-DF2F2594D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0440-B26B-42DF-926B-AF19C749E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F04B-43DE-4AA2-A574-E7DA0CB7B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DBD6-0997-490C-AEB2-B9C868CE5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1EFE-2A00-4A73-ABF5-157009405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EE67-30EC-43A0-81A8-29D16C95D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9DAB-750F-4C13-A6A9-C49F1F8D6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B6C5-AFDC-4289-A0FD-F0CDC8522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0C9F7-D5EA-43D1-A045-C2410A8C012E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EFDCE-B87A-44D0-BE02-04DE7D28DDEB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nl.wikipedia.org/wiki/Bestand:Bacillus_subtilis_Gram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siskennis bacteriologisch onderzo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ondvorm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psporen van ziekteverwekkende bacterië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cteriologisch prepara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Gram positieve en negatieve bacterië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38080" y="3116160"/>
            <a:ext cx="3775320" cy="2216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756320" y="3036960"/>
            <a:ext cx="377496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89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rondvorm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2285640"/>
            <a:ext cx="426708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Coccus of ko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Dipl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Strept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Stafyl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il of staa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2438280"/>
            <a:ext cx="407664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63280" y="863280"/>
            <a:ext cx="772164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psporen van ziekteverwekkende bacteriën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Bacteriologisch onderzo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Microscopisc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Kweekproe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DNA-onderzoe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Resistentietes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Immunologisch onderzo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Na vaccinatie ontstaat bij de grote meerderheid van de gevaccineerden anti-HBsAg, dit zijn antistoffen gericht tegen het hepatitis B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762440" y="2362320"/>
            <a:ext cx="376704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272400" y="9864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cteriologisch preparaat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icroscopisch onderzo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teriaal aanbrengen op objectgl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en aan de luch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xe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acteriën dod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echting materia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eleiwitten kapot, beter kleuropnam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leu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eoordel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micro (9K)"/>
          <p:cNvPicPr/>
          <p:nvPr/>
        </p:nvPicPr>
        <p:blipFill>
          <a:blip r:embed="rId1"/>
          <a:stretch/>
        </p:blipFill>
        <p:spPr>
          <a:xfrm>
            <a:off x="5105520" y="1943280"/>
            <a:ext cx="3276360" cy="2457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micro5 (8K)"/>
          <p:cNvPicPr/>
          <p:nvPr/>
        </p:nvPicPr>
        <p:blipFill>
          <a:blip r:embed="rId2"/>
          <a:stretch/>
        </p:blipFill>
        <p:spPr>
          <a:xfrm rot="9581400">
            <a:off x="2811600" y="3409560"/>
            <a:ext cx="2133360" cy="21448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micro3 (10K)"/>
          <p:cNvPicPr/>
          <p:nvPr/>
        </p:nvPicPr>
        <p:blipFill>
          <a:blip r:embed="rId3"/>
          <a:stretch/>
        </p:blipFill>
        <p:spPr>
          <a:xfrm>
            <a:off x="762120" y="1371600"/>
            <a:ext cx="2971800" cy="2228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948920" y="834120"/>
            <a:ext cx="36651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voedingsbodem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methyleenblauwkleu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e vor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van de bacterië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okken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av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9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98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98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98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Gram-kleu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de vorm van de bacterie en…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de eigenschappen van de wand van de bacter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58760" y="250920"/>
            <a:ext cx="89852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eparaat met bacteriën behandelen met kristalviolet en jodiu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Oplossen kristalviolet-jodium-verbinding door ethano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Nabehandeling met fuchsine of saffranine (rode kleurstof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eparaat bekijken onder de microscoo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9900cc"/>
                </a:solidFill>
                <a:latin typeface="Arial"/>
              </a:rPr>
              <a:t>paars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Gram-positief (verbinding niet opgel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f60000"/>
                </a:solidFill>
                <a:latin typeface="Arial"/>
              </a:rPr>
              <a:t>rood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sz="2400" spc="-1" strike="noStrike">
                <a:solidFill>
                  <a:srgbClr val="003366"/>
                </a:solidFill>
                <a:latin typeface="Arial"/>
              </a:rPr>
              <a:t> Gram-negatief (verbinding opgel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66"/>
                </a:solidFill>
                <a:latin typeface="Arial"/>
              </a:rPr>
              <a:t>Tevens onderscheid tussen staven en kokk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523880"/>
            <a:ext cx="7315200" cy="52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oorbeelden </a:t>
            </a:r>
            <a:r>
              <a:rPr b="0" lang="nl-NL" sz="2000" spc="-1" strike="noStrike">
                <a:solidFill>
                  <a:srgbClr val="f60000"/>
                </a:solidFill>
                <a:latin typeface="Arial"/>
              </a:rPr>
              <a:t>Gram-negatieve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 bacterië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meningokokken (meningitis: hersenvlies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gonokokken (gonorro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E.coli bacterië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tyfusbacterië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oorbeelden </a:t>
            </a:r>
            <a:r>
              <a:rPr b="0" lang="nl-NL" sz="2000" spc="-1" strike="noStrike">
                <a:solidFill>
                  <a:srgbClr val="9900cc"/>
                </a:solidFill>
                <a:latin typeface="Arial"/>
              </a:rPr>
              <a:t>Gram-positieve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 bacterië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stafylokokken (MRS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streptokokken (keel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pneumokokken (long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tuberkelbacteriën (tuberculos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eroorzakers urineweginfectie meestal Gram-negatief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09:04:52Z</dcterms:created>
  <dc:creator>Haverkort</dc:creator>
  <dc:description/>
  <dc:language>en-US</dc:language>
  <cp:lastModifiedBy>Haverkort</cp:lastModifiedBy>
  <dcterms:modified xsi:type="dcterms:W3CDTF">2010-09-19T10:56:20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