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0896B-B086-49A1-A725-89CC39234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644F7-113D-4555-9BF2-40D40BC95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1F4BC-29E8-454A-97DA-125A5D4E2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45D41-AB50-4888-8602-32F8B15EE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3AFFF-6845-423D-B95F-8217C5D2D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9A522-DD80-4976-9CC6-73E1CD3E0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5A7AA-1FD8-4BD9-A7E3-FFBE83178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5F5CD-247F-434C-A574-74FC1E438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38BBE-791B-43AD-A73F-03FE15E7A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4DE33-623D-448D-A95D-6AFA60178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C4E16-EDF4-4D97-93F1-AAC58D9BA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12E58-723B-4650-ABE7-931144CE6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88757-9F34-4FF3-90BB-9DD8E9E6C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F6B7D-DA65-4AEE-A852-A4D40CFD3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2627C-1C37-488D-8D48-567A4E454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7DC9D-A33E-4211-8B97-405DAECF7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40BE6-20D3-44D2-B923-0D7A8E5F5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91353-C4C2-44E3-8BAF-34F9AB61A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4A43C-73D5-4D73-A8E5-CD58B4810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FB448-9863-4368-97C9-2858EEC58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D4F49-1ECB-4B6F-BF7B-2940B88DD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420CD-0CB5-4DF4-A51C-3D77E2C87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07BAD-52D4-4132-810D-EF9C157E6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84F01-6913-41DB-9D2B-40DB9D8A1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2CF2F-D2D3-442D-BC2C-130381310EC2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C40E4-C4ED-467E-9963-84F0C60B1A33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nl.wikipedia.org/wiki/Bestand:Bacillus_subtilis_Gram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Basiskennis bacteriologisch onderzoek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rondvorm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psporen van ziekteverwekkende bacterië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acteriologisch prepara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Gram positieve en negatieve bacteriën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838080" y="3116160"/>
            <a:ext cx="3775320" cy="22161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756320" y="3036960"/>
            <a:ext cx="3774960" cy="23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89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grondvorme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61760" y="2285640"/>
            <a:ext cx="4267080" cy="38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Coccus of kok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Diploko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Streptoko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Stafyloko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Bacil of staaf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419720" y="2438280"/>
            <a:ext cx="407664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63280" y="863280"/>
            <a:ext cx="772164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Opsporen van ziekteverwekkende bacteriën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Bacteriologisch onderzoe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Arial"/>
              </a:rPr>
              <a:t>Microscopisch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Arial"/>
              </a:rPr>
              <a:t>Kweekproef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Arial"/>
              </a:rPr>
              <a:t>DNA-onderzoek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Arial"/>
              </a:rPr>
              <a:t>Resistentietes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Immunologisch onderzoe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Arial"/>
              </a:rPr>
              <a:t>Na vaccinatie ontstaat bij de grote meerderheid van de gevaccineerden anti-HBsAg, dit zijn antistoffen gericht tegen het hepatitis B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762440" y="2362320"/>
            <a:ext cx="376704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3272400" y="9864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Bacteriologisch preparaat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microscopisch onderzoek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ateriaal aanbrengen op objectgl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rogen aan de luch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ixer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Bacteriën dode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Hechting materiaa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eleiwitten kapot, beter kleuropnam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Kleur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rog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Beoordel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micro (9K)"/>
          <p:cNvPicPr/>
          <p:nvPr/>
        </p:nvPicPr>
        <p:blipFill>
          <a:blip r:embed="rId1"/>
          <a:stretch/>
        </p:blipFill>
        <p:spPr>
          <a:xfrm>
            <a:off x="5105520" y="1943280"/>
            <a:ext cx="3276360" cy="24573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micro5 (8K)"/>
          <p:cNvPicPr/>
          <p:nvPr/>
        </p:nvPicPr>
        <p:blipFill>
          <a:blip r:embed="rId2"/>
          <a:stretch/>
        </p:blipFill>
        <p:spPr>
          <a:xfrm rot="9581400">
            <a:off x="2811600" y="3409560"/>
            <a:ext cx="2133360" cy="21448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micro3 (10K)"/>
          <p:cNvPicPr/>
          <p:nvPr/>
        </p:nvPicPr>
        <p:blipFill>
          <a:blip r:embed="rId3"/>
          <a:stretch/>
        </p:blipFill>
        <p:spPr>
          <a:xfrm>
            <a:off x="762120" y="1371600"/>
            <a:ext cx="2971800" cy="22287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 txBox="1"/>
          <p:nvPr/>
        </p:nvSpPr>
        <p:spPr>
          <a:xfrm>
            <a:off x="4948920" y="834120"/>
            <a:ext cx="36651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voedingsbodem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Arial"/>
              </a:rPr>
              <a:t>methyleenblauwkleur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eeft informatie over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de vorm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van de bacterië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Kokken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tav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898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898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898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898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Arial"/>
              </a:rPr>
              <a:t>Gram-kleur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eeft informatie over de vorm van de bacterie en…</a:t>
            </a:r>
            <a:br>
              <a:rPr sz="2800"/>
            </a:b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eeft informatie over de eigenschappen van de wand van de bacteri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58760" y="250920"/>
            <a:ext cx="8985240" cy="61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3366"/>
                </a:solidFill>
                <a:latin typeface="Arial"/>
              </a:rPr>
              <a:t>Gram-kleuring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Preparaat met bacteriën behandelen met kristalviolet en jodium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Oplossen kristalviolet-jodium-verbinding door ethano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Nabehandeling met fuchsine of saffranine (rode kleurstof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Preparaat bekijken onder de microscoop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Bacteriën </a:t>
            </a:r>
            <a:r>
              <a:rPr b="0" lang="nl-NL" sz="2400" spc="-1" strike="noStrike">
                <a:solidFill>
                  <a:srgbClr val="9900cc"/>
                </a:solidFill>
                <a:latin typeface="Arial"/>
              </a:rPr>
              <a:t>paars</a:t>
            </a: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3366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 Gram-positief (verbinding niet opgelost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Bacteriën </a:t>
            </a:r>
            <a:r>
              <a:rPr b="0" lang="nl-NL" sz="2400" spc="-1" strike="noStrike">
                <a:solidFill>
                  <a:srgbClr val="f60000"/>
                </a:solidFill>
                <a:latin typeface="Arial"/>
              </a:rPr>
              <a:t>rood</a:t>
            </a: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3366"/>
                </a:solidFill>
                <a:latin typeface="Wingdings"/>
                <a:ea typeface="Wingdings"/>
              </a:rPr>
              <a:t></a:t>
            </a:r>
            <a:r>
              <a:rPr b="0" sz="2400" spc="-1" strike="noStrike">
                <a:solidFill>
                  <a:srgbClr val="003366"/>
                </a:solidFill>
                <a:latin typeface="Arial"/>
              </a:rPr>
              <a:t> Gram-negatief (verbinding opgelost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3366"/>
                </a:solidFill>
                <a:latin typeface="Arial"/>
              </a:rPr>
              <a:t>Tevens onderscheid tussen staven en kokk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762120" y="1523880"/>
            <a:ext cx="7315200" cy="52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Voorbeelden </a:t>
            </a:r>
            <a:r>
              <a:rPr b="0" lang="nl-NL" sz="2000" spc="-1" strike="noStrike">
                <a:solidFill>
                  <a:srgbClr val="f60000"/>
                </a:solidFill>
                <a:latin typeface="Arial"/>
              </a:rPr>
              <a:t>Gram-negatieve</a:t>
            </a: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 bacteriën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meningokokken (meningitis: hersenvliesontsteking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gonokokken (gonorroe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E.coli bacterië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tyfusbacterië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Voorbeelden </a:t>
            </a:r>
            <a:r>
              <a:rPr b="0" lang="nl-NL" sz="2000" spc="-1" strike="noStrike">
                <a:solidFill>
                  <a:srgbClr val="9900cc"/>
                </a:solidFill>
                <a:latin typeface="Arial"/>
              </a:rPr>
              <a:t>Gram-positieve</a:t>
            </a: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 bacteriën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stafylokokken (MRSA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streptokokken (keelontsteking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pneumokokken (longontsteking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tuberkelbacteriën (tuberculose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Veroorzakers urineweginfectie meestal Gram-negatief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9T09:04:52Z</dcterms:created>
  <dc:creator>Haverkort</dc:creator>
  <dc:description/>
  <dc:language>en-US</dc:language>
  <cp:lastModifiedBy>Haverkort</cp:lastModifiedBy>
  <dcterms:modified xsi:type="dcterms:W3CDTF">2010-09-19T10:56:20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