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8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39B2-0038-4D05-9D56-E560361A52F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ardiotocografie: hartslag foe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E2E5-A657-4140-B049-D263AA29171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liggende place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6DDD-F618-43F4-8532-EE034C5E2FE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oslating moederko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297E-D502-46D0-B0BA-ECFE24B3AC0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22 weken zwanger tot 8 dgn na bevalling. Zwangerschapsvergiftig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DF0A-2F76-44AE-8D8C-A60034F0B84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fdpijn, vaag zien, lichtflitsen of sterretjes, riem om de buik, misselijk, vocht vasthoud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3DA9-D5B0-45D8-B8DD-9145AC5FD92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conium: eerste ontlas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269B-7F28-402F-8ED9-FAC9F6B040E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parine: zorgt ervoor dat bloed minder makkelijk samenklont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omarine: antistollingsmid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DAE2-3784-4A9F-B006-EF01664E4D7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5F0B-F565-4EF6-A11D-E4239FD0D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0176-055A-445A-938C-691D90F1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E764-F8CC-4270-8292-CB335D524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2121-092E-47FB-992E-D2E73B578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D083-C72A-4959-B13D-7F17EFFE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A37C-7F4F-4385-AF26-9BCCE654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1E73-3D28-4AF6-9198-34F65D00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52F8-FC08-4A32-9884-C826D7E5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2E82-AE32-4C5E-BEBC-7BE5D5C5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9111-D846-4CD4-A1AA-505A0213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6430-2B4A-4C15-B73D-A22FE7CC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E9E5-B08E-4DFC-A088-D7EAF67C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96EB-3A5E-49D2-A879-B20F165F4F3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rlv__4YhH1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dailymotion.com/video/xasqsd_pregnancy-risks-placental-abruption_schoo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google.nl/imgres?q=tangverlossing&amp;hl=nl&amp;safe=active&amp;biw=1280&amp;bih=762&amp;tbm=isch&amp;tbnid=8g00nAMMfP-4YM:&amp;imgrefurl=http://mediatheek.thinkquest.nl/~lld094/geboorte/vaginalekunstverlossing.htm&amp;docid=X0mn-QQAGP_lTM&amp;w=432&amp;h=406&amp;ei=hjqDTs_3JMW6-Ab4q-TUDw&amp;zoom=1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www.google.nl/imgres?q=zwangerschap&amp;hl=nl&amp;safe=active&amp;sa=X&amp;biw=1280&amp;bih=801&amp;tbm=isch&amp;prmd=imvnsu&amp;tbnid=qFDYWjYx5u2h1M:&amp;imgrefurl=http://www.babybytes.nl/zwangerschap/kalender/week/12&amp;docid=sSVY3D6kEgzEUM&amp;w=450&amp;h=300&amp;ei=0yaDTvmwM4qXOrPOkCA&amp;zoom=1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www.google.nl/imgres?q=zwangerschap&amp;hl=nl&amp;safe=active&amp;sa=X&amp;biw=1280&amp;bih=801&amp;tbm=isch&amp;prmd=imvnsu&amp;tbnid=N-Gra7mSo1aHTM:&amp;imgrefurl=http://www.gezondheid.nl/demens3d/zwangerschap.php&amp;docid=FLIAA8lwwC4c7M&amp;w=400&amp;h=400&amp;ei=0yaDTvmwM4qXOrPOkCA&amp;zoom=1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www.youtube.com/watch?v=GNp6oySz6V4" TargetMode="External"/><Relationship Id="rId8" Type="http://schemas.openxmlformats.org/officeDocument/2006/relationships/hyperlink" Target="http://www.youtube.com/watch?v=AcLso3g4-0o" TargetMode="External"/><Relationship Id="rId9" Type="http://schemas.openxmlformats.org/officeDocument/2006/relationships/hyperlink" Target="http://www.youtube.com/watch?v=w1810c_fzZo%60" TargetMode="Externa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hyperlink" Target="http://www.checkzis.com/nl/lijst/473/zwangerschapskwaaltjes/4502/pigmentvlekken/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90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Gravidite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360" y="2781360"/>
            <a:ext cx="7772400" cy="1660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wangersch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http://www.afvallen-weblog.nl/media/99/2009_06/zwangerschap_aankomen.jpg"/>
          <p:cNvPicPr/>
          <p:nvPr/>
        </p:nvPicPr>
        <p:blipFill>
          <a:blip r:embed="rId1"/>
          <a:stretch/>
        </p:blipFill>
        <p:spPr>
          <a:xfrm>
            <a:off x="5562720" y="327672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ttp://www.gezondheidsnet.nl/upload/zwangerschap/zwanger_eten/zwanger_eten_365x243.jpg"/>
          <p:cNvPicPr/>
          <p:nvPr/>
        </p:nvPicPr>
        <p:blipFill>
          <a:blip r:embed="rId2"/>
          <a:stretch/>
        </p:blipFill>
        <p:spPr>
          <a:xfrm>
            <a:off x="399960" y="650880"/>
            <a:ext cx="3943440" cy="2625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http://www.borstvoeden.nl/site/images/stories/veiligheid/zwanger_alcohol.jpg"/>
          <p:cNvPicPr/>
          <p:nvPr/>
        </p:nvPicPr>
        <p:blipFill>
          <a:blip r:embed="rId3"/>
          <a:stretch/>
        </p:blipFill>
        <p:spPr>
          <a:xfrm>
            <a:off x="5334120" y="228600"/>
            <a:ext cx="28494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Foliumzuur gebrui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715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oliumzuur is vitamine B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Zit in voedingsmiddelen, zoals  verse groenten, fruit, aardappele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olkoren producten en zui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Tijdens zwangerschap onvoldoende uit voedsel, extra aanvulling noodzakelij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Advies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start van foliumzuur een maand voordat je gaat stoppen met pil of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ander voorbehoedsmiddel,  tot 2 maanden zwangersch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uurt 4 weken eer het in je lichaam is opgen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Foliumzuur tablet 0,5 mg, 1 maal da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o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oorkomen van een open ruggetje(spina bifida)/open sche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7500960" y="4943520"/>
            <a:ext cx="19144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Onderzoeken tijdens zwangerschap i.v.m. ongeboren k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choscop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20 weken, deze zit in het basispak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erste trimestercombinatietest: bloedonderzoek,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ekplooimeting + leeftijd moeder en duur zwangerschap geeft risico op kind met S. van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lokkent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ruchtwateronderzoe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T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s://www.youtube.com/watch?v=rlv__4YhH1o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wangerschapsdu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Cyclus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rekend vanaf 1</a:t>
            </a:r>
            <a:r>
              <a:rPr b="0" lang="nl-NL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dag van de menstruat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Zwanger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ravidite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Normale zwangerschapsduur 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40 weken, één tot twee weken te vroeg of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    over tij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Vroeggeboorte: ( prematuur) :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als nog voor zwangerschapsduur van 37 weken de weeën beginnen, bloed verlies en baarmoeder open en vruchtwater verlies. Dreigende vroeggeboorte is </a:t>
            </a: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SPOED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Serotiniteit: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als zwangerschap langer duurt dan 42 we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reken fout? Hoe is het met conditie van het kind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vt  kunstmatig inlei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e bevalling kondigt zich aan doo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76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aarmoedercontracties die in pijn toen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t tekenen: verliezen van een bloedslijmpr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reken van de vliez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evallingsfase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I ontsluitingstijdperk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; baarmoedermond gaat openstaan agv weeë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II uitdrijvingstijdperk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: bij 10 cm vo (volkomen ontsluiting) mag de vrouw persen en het kind wordt gebo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III nageboortetijdperk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: placenta en vliezen worden gebo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uitdrijving baby"/>
          <p:cNvPicPr/>
          <p:nvPr/>
        </p:nvPicPr>
        <p:blipFill>
          <a:blip r:embed="rId1"/>
          <a:stretch/>
        </p:blipFill>
        <p:spPr>
          <a:xfrm>
            <a:off x="500040" y="1295280"/>
            <a:ext cx="8143920" cy="2133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5638680" y="4437000"/>
            <a:ext cx="266544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uerperium (Kraamb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tijd die het lichaam nodig heeft om te ontzwangere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uur ongeveer 6 we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5638680" y="449568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Normale verschijns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lies van lochia: vaginale afscheiding bestaande uit wondvocht en bloed, verandert van rood via roze naar geel en vervolgens naar witgeel de normale kl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bstipatie,  aambeien : bang op te persen en/of  verslapte spi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ijn, zwelling in de borsten door het toeschieten van de me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3de, 4de dag kraamtra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oen tijdens kraambe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ctiviteiten  geleidelijk opvoere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ldoende rust n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zelrijk di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pieroefeningen /postnatale gymnast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Zwanger?</a:t>
            </a:r>
            <a:r>
              <a:rPr b="1" lang="nl-NL" sz="4400" spc="-1" strike="noStrike">
                <a:solidFill>
                  <a:srgbClr val="e6b9b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Times New Roman"/>
              </a:rPr>
              <a:t>Zwangerschapstest :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aantonen Humaan Chorion Gonadotrofin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hormoon ( HCG) in urin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nl-NL" sz="1500" spc="-1" strike="noStrike">
                <a:solidFill>
                  <a:srgbClr val="000000"/>
                </a:solidFill>
                <a:latin typeface="Times New Roman"/>
              </a:rPr>
              <a:t>Niet vergoedt , tenzij op medische indicatie!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Times New Roman"/>
              </a:rPr>
              <a:t>Zwangerschap gewenst en test positief 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Felicitati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Afspraak huisar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Advies foliumzuur en stop rok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Times New Roman"/>
              </a:rPr>
              <a:t>Zwangerschap gewenst en test negatief: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Vragen hoe lang de vrouw 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zwanger probeert te raken; evt. afspraak huisar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Regel: &lt; 30 jaar , criteria 1 ja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&gt; 30 jaar , criteria ½ jaar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Times New Roman"/>
              </a:rPr>
              <a:t>Zwangerschap niet gewenst en  test positief: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afspraak huisar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Times New Roman"/>
              </a:rPr>
              <a:t>Zwangerschap niet gewenst en test negatief: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vragen naar anticoncepti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4952880" y="2209680"/>
            <a:ext cx="33624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Ziekten / afwijkingen tijdens 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zwangerschap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de bevalling en in het kraamb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iekten tijdens de zwangersch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bortus spontanus = miskra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yperemesis gravida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ekkeninstabi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wangerschapsdiabe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wangerschapshypertensie – toxicose –HELLPsyndroom – (pre-)ecclamps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lacenta prev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evalling komt voor de 37ste week op g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olutio placent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Miskra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791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pontane  abortus: in de eerste 16 weken, 1 op 10 zwangerschappe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an dit op een natuurlijke wijze zich voordo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Symptomen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aginaal bloedverlies/stolsels ( niet meer dan een forse menstruatie), buikpij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ergelijkbaar met menstruatie, misselijkheid, kan paar dagen tot een  week duren, pijn 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loedverlies wordt geleidelijk aan m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Oorzaak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anlegstoornis, vruchtje niet in orde,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en miskraam maar bloeding duidt op wondje, poliep, innestelingsbloed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Risico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erdere miskramen gehad ( antistoffen) , leeftij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Advies/behandeling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contact huisarts ivm emotioneel gebeuren, evt. ech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(vanaf 6 wek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Let wel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ij aanhoudend bloedverlies ( 1 week) ,koorts, hevig bloedverlies en buikpijn &gt; verwijzing gynaecolo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yperemesis gravidar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eer ernstig braken tijdens zwanger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orzaak: hormonaal? Overbezorgdheid omgev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schijns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el braken, ziek, niet kunnen function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wicht daalt + uitdro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itaminetek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lektrolytenbalans verst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an meerdere keren terugk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c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ventueel ziekenhuiso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lacenta prev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Tijdens de tweede helft van de zwangerschap is de  moederkoe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( placenta) geheel of gedeeltelijk voor de uitgang gaan ligg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e rand van moederkoek kan klein beetje losscheuren van  baarmoederw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Symptomen: plotseling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pijnloos bloedverlies en uiteindelijk hev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loedverlies doordat baarmoeder openga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Onderzoek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cho , beleid evt. afwacht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Risico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vaar voor kind en moeder, evt keizersn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lacenta prev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" descr="https://verloskunde.slingeland.nl/wms/fm/userfiles/content/verloskunde/placenta_ligging.jpg"/>
          <p:cNvPicPr/>
          <p:nvPr/>
        </p:nvPicPr>
        <p:blipFill>
          <a:blip r:embed="rId1"/>
          <a:stretch/>
        </p:blipFill>
        <p:spPr>
          <a:xfrm>
            <a:off x="152280" y="2141640"/>
            <a:ext cx="4191120" cy="2574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http://img.webmd.com/dtmcms/live/webmd/consumer_assets/site_images/articles/health_and_medical_reference/womens_health/understanding_placenta_previa_basics_Placenta_Previa.jpg"/>
          <p:cNvPicPr/>
          <p:nvPr/>
        </p:nvPicPr>
        <p:blipFill>
          <a:blip r:embed="rId2"/>
          <a:stretch/>
        </p:blipFill>
        <p:spPr>
          <a:xfrm>
            <a:off x="4876920" y="2438280"/>
            <a:ext cx="38098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5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olutio placentae </a:t>
            </a:r>
            <a:br>
              <a:rPr sz="4400"/>
            </a:b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dailymotion.com/video/xasqsd_pregnancy-risks-placental-abruption_school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558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Moederkoek laat in tweede helft van zwangerschap plotsel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heel of gedeeltelijk los. Veroorzaakt door een scheur in bloedvaten, tuss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moederkoek en baarmoederwand , bloeding achter moederkoek ontstaat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an helemaal losscheuren, hoe groter de loslating hoe ernstiger de verschijnselen. </a:t>
            </a: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SPO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Relatief veel voor bij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oge bloeddruk en roken, drugs(cocaine) valpartij, trauma, erfelijkheid en stollingsziekt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Symptom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cuut optredende heftige buikpij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aginaal bloedver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en harde buik ('harde uterus') door een continue weeënkram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oor zuurstoftekort kan het kind een onregelmatige hartslag krijgen en zelfs overlijd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uizeligheid en kans op flauw vallen door de pijn en de bloeding in de baarmoe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Risico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ans op overlijden van het kind  is groot, evt bevalling afwachten of keizersnee,  klachten moeder behand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4595760" y="659772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wangerschapshypertens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el voorkomende aandoening in 2</a:t>
            </a:r>
            <a:r>
              <a:rPr b="0" lang="nl-NL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helft van zwangersch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loeddruk is te hoog, dit leidt tot beschadiging van bloedvaten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moederkoek. Ontwikkeling moederkoek onvoldoen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Foetus kans op groeivertraging, te weinig zuurstof of fatale af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Ook moeder loopt risico: vocht vasthouden, gewichtstoename , nie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eschadigen, eiwit in urine ( proteïnurie 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Pre-eclampsie: combinatie van hypertensie, proteïnurie en oede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Kan leiden tot orgaanschade ( lever /nieren/hersenen) en epileptisch in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2120" y="990720"/>
            <a:ext cx="7772400" cy="5410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Onderdeel van ernstige vorm pre- eclampsi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HELPP-syndroom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Hemolysis elevated Liver enzymes Low platelet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Hemolyse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etekent dat de rode bloedlichaampjes kapot ga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Elevated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:  ernstige lever functie stoornis; betekent dat de bloeduitslagen van de  lever afwijkend zijn en aangeven dat de lever niet meer goed functionee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Low Platelet: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rlaagd aantal  bloedplaatjes;  zorgen voor de stolling; als er te weinig zijn, dan geeft dat een stollingsstoorn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6019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imes New Roman"/>
              </a:rPr>
              <a:t>Bij een pre-eclampsie kunnen naast de HELLP syndro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imes New Roman"/>
              </a:rPr>
              <a:t>afwijkingen, verder de volgende verschijnselen aanwezig zijn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(sterk) verhoogde bloeddru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iwit in de uri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oofdpijn en sterretjes zien, tintelingen voelen in de ving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ocht vasthouden (oedeem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eftige reactie op het uitvoeren van de 'kniepees reflex'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nellend gevoel in de bovenbuik (maagstreek) door een verhoogde spanning bij de lev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misselijkheid en brak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rnstig ziek gevo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Complicaties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ersenbloeding, nierinsufficiëntie , loslating plac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Risico bij geen behandeling 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n coma raken, insul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ehandeling: o.a. opname ziekenhuis, bedrust,anti- hypertensiva, keizersn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Wel/niet gewens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Abortus provocatus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oortijdig afbreken van een zwangerschap door medisch ingrijpen, voordat het levensvatbaar 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ho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Morning afterpil 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innen 72 uur na geslachtsgemeensch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Morning  afterspiraal: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na  72 uur en  binnen een week na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           geslachtsgemeensch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Overtijdsbehandeling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12 tot 16 dagen overtijd, middels zuigcurretage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geen wettelijke bedenktijd van 5 dag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Abortuspil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tot 7 weken overtijd: afstoten bevruchte eic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Zuigcurretage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12 tot 13 weken , wettelijke bedenktijd van vijf dagen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Beperkte klinieken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13 -20 weken abortus uitgevoerd ( wettelijk t/m 22 wk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Levensvatbaarheidgrens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24 weken, vrucht buiten baarmoeder levensvatbaar i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Extra Uteriene Graviditeit( EUG 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innesteling in baarmoederslijmvlies van de eileider, buitenbaarmoederlijk zwangersch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Symptomen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overtijd, vage klachten, vaginale bloeding, bloeding in buikhol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roorzaakt  uiteindelijk hevige buikpijn: peritonitis ( fatale afloop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Oorzaak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littekens en verklevingen na een appendicitis ; eerdere operatie aan eileid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imes New Roman"/>
              </a:rPr>
              <a:t>Soms per toeval ontdekt tijdens eerste echo control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Behandeling/advies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hevige buikpijn spoed, zwangerschapstest , ech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laparoscopie en operatief verwijde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en behandeling: LEVENSBEDREIG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3935520" y="6608880"/>
            <a:ext cx="30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roblemen tijdens de beva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uurt te lang de vrouw raakt uitge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ind krijgt het benauwd, te merken door veranderde hartslag, groene ontla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Uitdrijving gaat langzaam: forceps(tang) of vacuümpomp toe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lacenta blijft vastzi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2997360" y="201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997360" y="201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4400640" y="2460600"/>
            <a:ext cx="165744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086280" y="235584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6" descr="http://t0.gstatic.com/images?q=tbn:ANd9GcSnyBKpAjf51pbg-si9xETClTZelCKOseXFyXYx4oi1T-Iw2aUHL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457200"/>
            <a:ext cx="2651040" cy="24922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8"/>
          <p:cNvSpPr/>
          <p:nvPr/>
        </p:nvSpPr>
        <p:spPr>
          <a:xfrm>
            <a:off x="3197160" y="254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3197160" y="254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4714920" y="4165560"/>
            <a:ext cx="114300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3286080" y="288936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3286080" y="2889360"/>
            <a:ext cx="79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2868480" y="222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5"/>
          <p:cNvSpPr/>
          <p:nvPr/>
        </p:nvSpPr>
        <p:spPr>
          <a:xfrm>
            <a:off x="2868480" y="222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4200480" y="3568680"/>
            <a:ext cx="198612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9"/>
          <p:cNvSpPr/>
          <p:nvPr/>
        </p:nvSpPr>
        <p:spPr>
          <a:xfrm>
            <a:off x="2957400" y="256716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0"/>
          <p:cNvSpPr/>
          <p:nvPr/>
        </p:nvSpPr>
        <p:spPr>
          <a:xfrm>
            <a:off x="42840" y="234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1"/>
          <p:cNvSpPr/>
          <p:nvPr/>
        </p:nvSpPr>
        <p:spPr>
          <a:xfrm>
            <a:off x="42840" y="234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2"/>
          <p:cNvSpPr/>
          <p:nvPr/>
        </p:nvSpPr>
        <p:spPr>
          <a:xfrm>
            <a:off x="7869240" y="3308400"/>
            <a:ext cx="114300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5"/>
          <p:cNvSpPr/>
          <p:nvPr/>
        </p:nvSpPr>
        <p:spPr>
          <a:xfrm>
            <a:off x="131760" y="268776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4" descr="http://t0.gstatic.com/images?q=tbn:ANd9GcS-Jy2RF6gGy93e94Hfvad-OyWq4kYU-sAp7hisAi_SbyqBFmzBJw"/>
          <p:cNvPicPr/>
          <p:nvPr/>
        </p:nvPicPr>
        <p:blipFill>
          <a:blip r:embed="rId3"/>
          <a:stretch/>
        </p:blipFill>
        <p:spPr>
          <a:xfrm>
            <a:off x="6629400" y="6094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6"/>
          <p:cNvSpPr/>
          <p:nvPr/>
        </p:nvSpPr>
        <p:spPr>
          <a:xfrm>
            <a:off x="1739880" y="2297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27"/>
          <p:cNvSpPr/>
          <p:nvPr/>
        </p:nvSpPr>
        <p:spPr>
          <a:xfrm>
            <a:off x="1739880" y="2297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8"/>
          <p:cNvSpPr/>
          <p:nvPr/>
        </p:nvSpPr>
        <p:spPr>
          <a:xfrm>
            <a:off x="5165640" y="3227400"/>
            <a:ext cx="215100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1"/>
          <p:cNvSpPr/>
          <p:nvPr/>
        </p:nvSpPr>
        <p:spPr>
          <a:xfrm>
            <a:off x="1828800" y="264168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30" descr="http://t1.gstatic.com/images?q=tbn:ANd9GcRK4ndeqtzEIoxOd1LtfnkOHXLAhKNVH5A4jOnRBz9-LrgEwXPSWg"/>
          <p:cNvPicPr/>
          <p:nvPr/>
        </p:nvPicPr>
        <p:blipFill>
          <a:blip r:embed="rId4"/>
          <a:stretch/>
        </p:blipFill>
        <p:spPr>
          <a:xfrm>
            <a:off x="1828800" y="3095640"/>
            <a:ext cx="601992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38120" y="3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roblemen in het kraamb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7724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Lage weerstand , kans op infec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Koorts in kraambed denk aan de 4 B’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Blaas 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UWI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Benen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thrombophlebitis of tromb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Borsten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mastitis, tepelklo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Buik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ndometritis ( ontsteking baarmoederslijmvlies) buikpijn gepaard met stinkende loch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ostnatale depressie, kan maanden na de bevalling optreden, somber, slecht slapen, binding moeder kind versto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raambedpsychose: verward, achterdochtig, angsti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vaar voor moeder en kind: spo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ie hoofdstuk 9 medische ken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5562720" y="2209680"/>
            <a:ext cx="26478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Medicatie bij trombosebe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par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jectie 1dd, 5 d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umarine table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cenocouma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odra cumarine werkt, stoppen met Hepar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wan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Plac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aarmoe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Rec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aarmoederh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ag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la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Foe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Navelstre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964040" y="1981080"/>
            <a:ext cx="3178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0" descr="http://www.xead.nl/upload/0693e57cccc734dcb7843b3432435cfbd2VlazE1LWZldHVzLmpwZw==.jpg"/>
          <p:cNvPicPr/>
          <p:nvPr/>
        </p:nvPicPr>
        <p:blipFill>
          <a:blip r:embed="rId1"/>
          <a:stretch/>
        </p:blipFill>
        <p:spPr>
          <a:xfrm>
            <a:off x="457200" y="228600"/>
            <a:ext cx="3587760" cy="3657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http://www.helingdoorbachbloesems.nl/afbeeldingen/zwanger16.jpg"/>
          <p:cNvPicPr/>
          <p:nvPr/>
        </p:nvPicPr>
        <p:blipFill>
          <a:blip r:embed="rId2"/>
          <a:stretch/>
        </p:blipFill>
        <p:spPr>
          <a:xfrm>
            <a:off x="4572000" y="3124080"/>
            <a:ext cx="4419720" cy="33512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2"/>
          <p:cNvSpPr/>
          <p:nvPr/>
        </p:nvSpPr>
        <p:spPr>
          <a:xfrm>
            <a:off x="152892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152892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7"/>
          <p:cNvSpPr/>
          <p:nvPr/>
        </p:nvSpPr>
        <p:spPr>
          <a:xfrm>
            <a:off x="1617840" y="218916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6" descr="http://t0.gstatic.com/images?q=tbn:ANd9GcR5f6DaVdWiDyiZ9w4b9A7X-n7FlEY-cbzKGBKPOUhn6Mxfx9P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533520"/>
            <a:ext cx="3657600" cy="22446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8"/>
          <p:cNvSpPr/>
          <p:nvPr/>
        </p:nvSpPr>
        <p:spPr>
          <a:xfrm>
            <a:off x="3017880" y="1971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9"/>
          <p:cNvSpPr/>
          <p:nvPr/>
        </p:nvSpPr>
        <p:spPr>
          <a:xfrm>
            <a:off x="3017880" y="1971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3"/>
          <p:cNvSpPr/>
          <p:nvPr/>
        </p:nvSpPr>
        <p:spPr>
          <a:xfrm>
            <a:off x="3106800" y="231624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2" descr="http://t3.gstatic.com/images?q=tbn:ANd9GcTUBWRLkq4FuAnzZsbc76dHoAJJRDscz22qD1leMWYSq1TkXmgdyQ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14400" y="3962520"/>
            <a:ext cx="2571840" cy="25714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4"/>
          <p:cNvSpPr/>
          <p:nvPr/>
        </p:nvSpPr>
        <p:spPr>
          <a:xfrm>
            <a:off x="4495680" y="152280"/>
            <a:ext cx="624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7"/>
              </a:rPr>
              <a:t>http://www.youtube.com/watch?v=GNp6oySz6V4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5"/>
          <p:cNvSpPr/>
          <p:nvPr/>
        </p:nvSpPr>
        <p:spPr>
          <a:xfrm>
            <a:off x="1521720" y="6400800"/>
            <a:ext cx="47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http://www.youtube.com/watch?v=AcLso3g4-0o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hthoek 1"/>
          <p:cNvSpPr/>
          <p:nvPr/>
        </p:nvSpPr>
        <p:spPr>
          <a:xfrm>
            <a:off x="4062240" y="27874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http://www.youtube.com/watch?v=w1810c_fzZo`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erschijnselen tijdens de zwangersch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486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espannen bor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wangerschapslu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isselijkheid en bra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Rugpijn houding verande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triae tgv snelle groei scheurtjes in de onderh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arices druk van foetus op de va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hloasma gravidaru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bstipatie agv minder bewe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aagklachten  kind drukt de maag w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oor hormonale veranderingen, tenzij anders aangeg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hloasma gravidarum = zwangerschapsmask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4876560" cy="3341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5381640" y="3095640"/>
            <a:ext cx="3762360" cy="3762360"/>
          </a:xfrm>
          <a:prstGeom prst="rect">
            <a:avLst/>
          </a:prstGeom>
          <a:ln w="0">
            <a:noFill/>
          </a:ln>
        </p:spPr>
      </p:pic>
      <p:sp>
        <p:nvSpPr>
          <p:cNvPr id="77" name="Rechthoek 1"/>
          <p:cNvSpPr/>
          <p:nvPr/>
        </p:nvSpPr>
        <p:spPr>
          <a:xfrm>
            <a:off x="324000" y="56577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checkzis.com/nl/lijst/473/zwangerschapskwaaltjes/4502/pigmentvlekken/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ichamelijke en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psychische veranderi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 de eerste 3 maande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Ochtend misselijkheid/overgev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maakverand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spannen bor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laper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temmingswisseli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anaf 3 maanden – 6 maand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specifieke maagklachten:zuurbrand en opgeblazen gevo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eranderingen van de huid; vetter / pigment neem to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ans op evt. zwangerschapsmask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Toename gewich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Psychische veranderingen: gespannen, bezorgd, angstig en/of prikkelba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 de laatste maand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lecht slapen, pijn in rug/bekken, vaak plassen, slecht tegen warmte kun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4098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eefregels tijdens de zwangersch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eweging en rust afwisse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ich (goed laten) voorlic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wangerschapsgymnast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etten op voeding, eten voor 2 is onz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iet roken, geen alcoh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edicijnen alleen na overleg arts/verloskundi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14:15:25Z</dcterms:created>
  <dc:creator>Agnieta</dc:creator>
  <dc:description/>
  <dc:language>en-US</dc:language>
  <cp:lastModifiedBy>marlies bouland</cp:lastModifiedBy>
  <dcterms:modified xsi:type="dcterms:W3CDTF">2018-09-30T17:31:32Z</dcterms:modified>
  <cp:revision>36</cp:revision>
  <dc:subject/>
  <dc:title>Graviditeit</dc:title>
</cp:coreProperties>
</file>