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681-B98C-4353-90D6-CAFB3756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A31-3150-4A29-B54D-21722EE9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9F5-6C53-4973-B2B1-086DA21E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DC1-3E87-4B13-AE83-67C6E0CF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527F-69A1-4AEF-912A-8BD5385C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8404-E38C-46E6-B7F0-4B28ACA4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DA3D-704D-4934-864A-13C3E7F9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ED27-343D-4704-AAC2-578B6067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8855-089A-477C-ACE2-BC3839E0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164E-FA48-4693-A9E5-84A8C993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33C6-E901-414C-B79A-F4D822F5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AC8-F232-4743-8735-A618DCC3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B309-7918-41EC-B7DD-CCA894D7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3577-B979-40E1-819F-2477E2B1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849F-E302-4714-9D4D-E53542DD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BDB9-92D0-49F9-9DC6-0A7955A3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DB77-F2CF-4192-9775-85175ED2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C03-61C7-4CD9-A228-8674CBBF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E6B-18B5-4493-84E2-A124C36E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3C8-D4F7-4B6E-ACE8-B03D56E5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A2B-0089-43D3-A64E-92A5354D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6AD-2F8D-4281-AE0B-35F1DAF8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188-8844-44F5-95E5-D90ED8F2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AE1-AD4E-4EA1-BC5B-F39D28F3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B04F-4008-4BEF-8DBA-C1EEFA89C3E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95EA-8C50-453B-A1BF-8ECAE60B218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hormoomsysteem 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en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stofwisseling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ild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lvlees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ijni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ALVLEESKLIER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: DM2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stofwisselings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tzucht, erfelijke aanle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ichaamscellen zijn insulineresistent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Erfelijk: glucose (suiker) kan moeilijker in cellen komen; er is meer insuline nodi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glykemie: glucosegehalte stijgt in blo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: lichaamscellen onvoldoende brandstof, polyurie: plassen, poly</a:t>
            </a:r>
            <a:r>
              <a:rPr b="0" i="1" lang="nl-NL" sz="2200" spc="-1" strike="noStrike" u="sng">
                <a:solidFill>
                  <a:srgbClr val="ffffff"/>
                </a:solidFill>
                <a:uFillTx/>
                <a:latin typeface="Verdana"/>
              </a:rPr>
              <a:t>dipsie: dorst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oms al jaren aanwezig zonder diagno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ij (ernstig) overgewicht: gezond eten/lichaamsbeweging: afvall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suline’resistentie’ kan verdwij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rale antidiabet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ubcutaan insul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971640" y="3213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.ouderdomsaandoeningen.nl/wp-content/uploads/2015/01/diabetes-type-2.jpg"/>
          <p:cNvPicPr/>
          <p:nvPr/>
        </p:nvPicPr>
        <p:blipFill>
          <a:blip r:embed="rId1"/>
          <a:stretch/>
        </p:blipFill>
        <p:spPr>
          <a:xfrm>
            <a:off x="2556000" y="333360"/>
            <a:ext cx="48369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DM1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auto-immuun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, antistoffen beschadigen insulineproducerende alvleeskliercel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inder voorkomend dan DM2; begint op jonge leeftijd en ontwikkelt sn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veel plassen, dorst (ook ‘s nacht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vallen door vetverbranding (geen suiker bruikbaar!) met als afvalstof keto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vaar: hyperglykemisch ketoacidotisch (verzuring) coma: bewustzijn daalt, suf, uitdrog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835280" y="579600"/>
            <a:ext cx="5275080" cy="3497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2700360" y="4076640"/>
            <a:ext cx="37432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complicaties bij DM</a:t>
            </a:r>
            <a:endParaRPr b="0" lang="en-US" sz="3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cuu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iabetisch coma: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lu hoog, uitgedroogd &gt; coma ontstaat langza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ypoglykemie / hypoglykemisch co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-363600">
              <a:lnSpc>
                <a:spcPct val="90000"/>
              </a:lnSpc>
              <a:spcBef>
                <a:spcPts val="524"/>
              </a:spcBef>
              <a:buClr>
                <a:srgbClr val="3399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Verdana"/>
              </a:rPr>
              <a:t>jam/honing/stroop tegen wangslijmvli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a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VZ: grote kans op arterioscle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uropathie:veranderde sensibilitei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fropathie: achteruitgang van de nierfunkt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tinopathie: beschadiging netvlies       blindhe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fecties: witte bloedcellen funktioneren minde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6659640" y="5300640"/>
            <a:ext cx="433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JICH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eveel aan urinezuur in lichaam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urikemie. (Urinezuurspiegel   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Urinezuur slaat neer in weefse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ooral bij mann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Neemt toe bij overgewicht en alcohol gebruik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jwerking plastablet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IJL-OMHOOG 1"/>
          <p:cNvSpPr/>
          <p:nvPr/>
        </p:nvSpPr>
        <p:spPr>
          <a:xfrm>
            <a:off x="7570800" y="2276640"/>
            <a:ext cx="385920" cy="48888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2089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ymptom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nnen enkele uren ontsteking gewricht. (Grote teen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achten vaak snachts: roodheid, warm, pijn. Soms koort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Zonder behandeling: 1 tot 3 wk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&gt; 3 aanvallen per jaar: gecompliceerde lic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ontstekingsremmende pijnstillers, prednis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CHOLESTERO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cholesterolem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en klach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rhoogde kans op atherosclero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tarm e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holesterolremm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5189400" y="3860640"/>
            <a:ext cx="362772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Overgewicht en cardiovaculair risico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MI &gt; 25 (appeltyp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dipositas of obesitas: &gt; 3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orbide adipositas: &gt; 4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tabool syndroom: overgewicht, DMII, Chol verhoogd, hoge rr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volgen: ziekte en sterfte&gt; HVZ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afvallen /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dicat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516720" y="4889520"/>
            <a:ext cx="2627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CHILDKLIER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15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THYREOÏDIE = te snelle werking,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tofwisseling neemt toe (de thermostaat  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Graves: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ichtschuwheid en branderige oge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nl. bij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ruma, exophthalm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, gespannenheid, gewichtsverlies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nel warm, overmatig transpireren, trill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ngst, hartkloppingen, diarre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7885080" y="2349000"/>
            <a:ext cx="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 stijgt in bloed. Hypofyse maakt dit aanvankelijk ongedaan door minder TSH te maken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SH: schildklier stimulerend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: Thyroxine: soort voorraa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3: Trijothyronine: actief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OM934a"/>
          <p:cNvPicPr/>
          <p:nvPr/>
        </p:nvPicPr>
        <p:blipFill>
          <a:blip r:embed="rId1"/>
          <a:stretch/>
        </p:blipFill>
        <p:spPr>
          <a:xfrm>
            <a:off x="4211640" y="1773360"/>
            <a:ext cx="4762440" cy="3228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5364000" y="5157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xophthalm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10" descr="goiter"/>
          <p:cNvPicPr/>
          <p:nvPr/>
        </p:nvPicPr>
        <p:blipFill>
          <a:blip r:embed="rId2"/>
          <a:stretch/>
        </p:blipFill>
        <p:spPr>
          <a:xfrm>
            <a:off x="900000" y="1700280"/>
            <a:ext cx="2560680" cy="3316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1187280" y="51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ru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395280" y="1916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Adamsappel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is de alledaagse naam voor 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prominentia laryng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, het naar voren uitstekende gedeelte van het schildkraakbeen (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cartilago thyreoid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) dat als een verhevenheid midden voor in de hals zichtbaar 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Onder invloed van mannelijke geslachtshormonen groeit het schildkraakbeen in de puberteit sterk, waarbij de adamsappel naar voren uitgroeit. Daarom is met name bij mannen de adamsappel duidelijk zichtba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illeggen en hormoon toedie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 slok” = radioactief jodium drink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deeltelijk vernietigen schildklier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eratie (gedeeltelijk verwijderen)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* complicatie: hypothyreoïd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uto immuun: als je lichaam jezelf aanval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54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THYREOÏDIE = te langzame werk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(de thermostaat daalt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fyse probeert schildklier extra te stimuleren. Extra TSH, FT4 normaal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Hashimoto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oral bij oudere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heid, traagheid, geheugenstrooniss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ouwelijk, obstipatie, droge huid, depressie, haaruitv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xoedeem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(krakerige stem, opgeblazen gezicht, oogleden dik, gewichtstoenam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evenslang gebruik schildklier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067280" y="234936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BIJNIER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orzaak veelal goedaardig gezwel in hypofy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ardoor bijnier te hard werk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ndroom van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lle andere oorzaken van een te har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rkende bijni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rschijnse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normale vetverdeling, hypertensie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M, blauwe plekken, vertraag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ondgenezing, osteopo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Addis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unktie van de bijnierschors is onvoldoen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lal auto-immuu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weinig eetlust, gewichtsverlies, sterk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igmentatie, afwijkende bloedwaarden, misselijk, bloeddruk laa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wijkende bloedwaarden&gt; crisis! Levensbedreigend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handeling: Bijnierschors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7:20:39Z</dcterms:created>
  <dc:creator>-</dc:creator>
  <dc:description/>
  <dc:language>en-US</dc:language>
  <cp:lastModifiedBy>Bouland,M.</cp:lastModifiedBy>
  <dcterms:modified xsi:type="dcterms:W3CDTF">2015-12-15T11:47:24Z</dcterms:modified>
  <cp:revision>35</cp:revision>
  <dc:subject/>
  <dc:title>hormoomsysteem  en stofwisseling</dc:title>
</cp:coreProperties>
</file>