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CEC-F027-4B61-ABDB-FED6F70D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EDF0-A724-42F6-92EF-5A0BD345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E065-F0B7-44DC-AAF7-E775658E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2DB6-D8DB-4B5E-851B-3BA3B045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DFC8-F2F9-43C9-8323-3819EEE9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BA73-7F72-4922-ACEA-3B3A620B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F2FB-C6EC-4766-987F-22823579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594D-EB0E-4449-A2A7-23FF9F80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ADBA-BCD5-4A79-8809-7AF347AD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5299-3E76-4A52-9CE2-DBF60456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CE59-3E32-48CF-A16E-E17B3FB2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73B-A03F-4CD1-8BB3-0A8F51A7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555A-C261-44C8-BD21-3AB59B43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7B4C-79B1-43E1-9183-4D3F9D1F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7549-B3D6-49E1-B1F3-8AE66094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A86B-D9DA-4273-8173-0B50A3BC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8D84-9289-4CCD-965D-1B638D43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21C-7F61-408E-A4C9-0593D9A5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E1B-BD11-48BC-A53E-C647A138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DC8B-9963-4955-900D-68FB3711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CC5C-C536-4734-96E8-DE122188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AA0-8534-4218-AADD-FC685E83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C19-E063-4304-B4F8-9CEE730D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320-20F5-4763-A07A-A096481B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2DF5-72F7-4E78-8DA1-AFB8A3D4C0D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CADE-4917-43D4-A01E-1222B836259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hormoomsysteem </a:t>
            </a:r>
            <a:br>
              <a:rPr sz="3600"/>
            </a:b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en</a:t>
            </a:r>
            <a:br>
              <a:rPr sz="3600"/>
            </a:b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stofwisseling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ildkli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lvleeskli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bijni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ALVLEESKLIER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: DM2 </a:t>
            </a:r>
            <a:r>
              <a:rPr b="0" lang="nl-NL" sz="2000" spc="-1" strike="noStrike">
                <a:solidFill>
                  <a:srgbClr val="ffff00"/>
                </a:solidFill>
                <a:latin typeface="Verdana"/>
              </a:rPr>
              <a:t>(stofwisselingsziekte)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Vetzucht, erfelijke aanle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lichaamscellen zijn insulineresistent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Erfelijk: glucose (suiker) kan moeilijker in cellen komen; er is meer insuline nodi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erglykemie: glucosegehalte stijgt in bloe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moeidheid: lichaamscellen onvoldoende brandstof, polyurie: plassen, poly</a:t>
            </a:r>
            <a:r>
              <a:rPr b="0" i="1" lang="nl-NL" sz="2200" spc="-1" strike="noStrike" u="sng">
                <a:solidFill>
                  <a:srgbClr val="ffffff"/>
                </a:solidFill>
                <a:uFillTx/>
                <a:latin typeface="Verdana"/>
              </a:rPr>
              <a:t>dipsie: dorst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oms al jaren aanwezig zonder diagno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ij (ernstig) overgewicht: gezond eten/lichaamsbeweging: afvall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insuline’resistentie’ kan verdwij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rale antidiabetic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ubcutaan insuli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971640" y="321300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www.ouderdomsaandoeningen.nl/wp-content/uploads/2015/01/diabetes-type-2.jpg"/>
          <p:cNvPicPr/>
          <p:nvPr/>
        </p:nvPicPr>
        <p:blipFill>
          <a:blip r:embed="rId1"/>
          <a:stretch/>
        </p:blipFill>
        <p:spPr>
          <a:xfrm>
            <a:off x="2556000" y="333360"/>
            <a:ext cx="483696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                         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DM1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ffff00"/>
                </a:solidFill>
                <a:latin typeface="Verdana"/>
              </a:rPr>
              <a:t>(auto-immuunziekte)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, antistoffen beschadigen insulineproducerende alvleeskliercell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inder voorkomend dan DM2; begint op jonge leeftijd en ontwikkelt sn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, veel plassen, dorst (ook ‘s nachts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fvallen door vetverbranding (geen suiker bruikbaar!) met als afvalstof keto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vaar: hyperglykemisch ketoacidotisch (verzuring) coma: bewustzijn daalt, suf, uitdrog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835280" y="579600"/>
            <a:ext cx="5275080" cy="34970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0" y="-6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2700360" y="4076640"/>
            <a:ext cx="374328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                       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complicaties bij DM</a:t>
            </a:r>
            <a:endParaRPr b="0" lang="en-US" sz="3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cuu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iabetisch coma: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lu hoog, uitgedroogd &gt; coma ontstaat langza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hypoglykemie / hypoglykemisch com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200600" indent="-363600">
              <a:lnSpc>
                <a:spcPct val="90000"/>
              </a:lnSpc>
              <a:spcBef>
                <a:spcPts val="524"/>
              </a:spcBef>
              <a:buClr>
                <a:srgbClr val="3399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ffffff"/>
                </a:solidFill>
                <a:latin typeface="Verdana"/>
              </a:rPr>
              <a:t>jam/honing/stroop tegen wangslijmvli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2" marL="1200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la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HVZ: grote kans op arteriosclero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neuropathie:veranderde sensibilitei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nefropathie: achteruitgang van de nierfunkt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tinopathie: beschadiging netvlies       blindhei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infecties: witte bloedcellen funktioneren minder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6659640" y="5300640"/>
            <a:ext cx="433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Verdana"/>
              </a:rPr>
              <a:t>JICH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eveel aan urinezuur in lichaam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Hyperurikemie. (Urinezuurspiegel   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Urinezuur slaat neer in weefsel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ooral bij mann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Neemt toe bij overgewicht en alcohol gebruik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ijwerking plastablet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IJL-OMHOOG 1"/>
          <p:cNvSpPr/>
          <p:nvPr/>
        </p:nvSpPr>
        <p:spPr>
          <a:xfrm>
            <a:off x="7570800" y="2276640"/>
            <a:ext cx="385920" cy="48888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443640" y="4508640"/>
            <a:ext cx="20890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Symptomen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innen enkele uren ontsteking gewricht. (Grote teen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achten vaak snachts: roodheid, warm, pijn. Soms koort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Zonder behandeling: 1 tot 3 wk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&gt; 3 aanvallen per jaar: gecompliceerde lich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 ontstekingsremmende pijnstillers, prednis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Verdana"/>
              </a:rPr>
              <a:t>CHOLESTERO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Hypercholesterolemi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Geen klach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erhoogde kans op atherosclero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etarm e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holesterolremm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5189400" y="3860640"/>
            <a:ext cx="362772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Overgewicht en cardiovaculair risico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MI &gt; 25 (appeltype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dipositas of obesitas: &gt; 30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orbide adipositas: &gt; 40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etabool syndroom: overgewicht, DMII, Chol verhoogd, hoge rr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Gevolgen: ziekte en sterfte&gt; HVZ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 afvallen /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edicati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516720" y="4889520"/>
            <a:ext cx="26272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SCHILDKLIER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153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ERTHYREOÏDIE = te snelle werking,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tofwisseling neemt toe (de thermostaat  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ziekte (M. Graves: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lichtschuwheid en branderige ogen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nl. bij vrouw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truma, exophthalm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moeidheid, gespannenheid, gewichtsverlies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nel warm, overmatig transpireren, trillen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ngst, hartkloppingen, diarre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Line 4"/>
          <p:cNvSpPr/>
          <p:nvPr/>
        </p:nvSpPr>
        <p:spPr>
          <a:xfrm flipV="1">
            <a:off x="7885080" y="2349000"/>
            <a:ext cx="0" cy="28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FT4 stijgt in bloed. Hypofyse maakt dit aanvankelijk ongedaan door minder TSH te maken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SH: schildklier stimulerend hormo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FT4: Thyroxine: soort voorraa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3: Trijothyronine: actief hormo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OM934a"/>
          <p:cNvPicPr/>
          <p:nvPr/>
        </p:nvPicPr>
        <p:blipFill>
          <a:blip r:embed="rId1"/>
          <a:stretch/>
        </p:blipFill>
        <p:spPr>
          <a:xfrm>
            <a:off x="4211640" y="1773360"/>
            <a:ext cx="4762440" cy="3228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5364000" y="515772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exophthalm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Picture 10" descr="goiter"/>
          <p:cNvPicPr/>
          <p:nvPr/>
        </p:nvPicPr>
        <p:blipFill>
          <a:blip r:embed="rId2"/>
          <a:stretch/>
        </p:blipFill>
        <p:spPr>
          <a:xfrm>
            <a:off x="900000" y="1700280"/>
            <a:ext cx="2560680" cy="33163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1187280" y="5157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rum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395280" y="1916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Adamsappel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is de alledaagse naam voor </a:t>
            </a:r>
            <a:r>
              <a:rPr b="0" i="1" lang="nl-NL" sz="2400" spc="-1" strike="noStrike">
                <a:solidFill>
                  <a:srgbClr val="ffffff"/>
                </a:solidFill>
                <a:latin typeface="Verdana"/>
              </a:rPr>
              <a:t>prominentia laryngea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, het naar voren uitstekende gedeelte van het schildkraakbeen (</a:t>
            </a:r>
            <a:r>
              <a:rPr b="0" i="1" lang="nl-NL" sz="2400" spc="-1" strike="noStrike">
                <a:solidFill>
                  <a:srgbClr val="ffffff"/>
                </a:solidFill>
                <a:latin typeface="Verdana"/>
              </a:rPr>
              <a:t>cartilago thyreoidea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) dat als een verhevenheid midden voor in de hals zichtbaar i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Onder invloed van mannelijke geslachtshormonen groeit het schildkraakbeen in de puberteit sterk, waarbij de adamsappel naar voren uitgroeit. Daarom is met name bij mannen de adamsappel duidelijk zichtba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tilleggen en hormoon toedie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“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 slok” = radioactief jodium drink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deeltelijk vernietigen schildklier *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peratie (gedeeltelijk verwijderen) *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* complicatie: hypothyreoïd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uto immuun: als je lichaam jezelf aanval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54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OTHYREOÏDIE = te langzame werk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(de thermostaat daalt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ofyse probeert schildklier extra te stimuleren. Extra TSH, FT4 normaal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ziekte (M. Hashimoto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ooral bij oudere vrouw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heid, traagheid, geheugenstroonissen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ouwelijk, obstipatie, droge huid, depressie, haaruitv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ixoedeem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(krakerige stem, opgeblazen gezicht, oogleden dik, gewichtstoenam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evenslang gebruik schildklierhormo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067280" y="2349360"/>
            <a:ext cx="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BIJNIEREN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. Cush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orzaak veelal goedaardig gezwel in hypofy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ardoor bijnier te hard werk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ndroom van Cush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lle andere oorzaken van een te har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rkende bijni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verschijnsel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bnormale vetverdeling, hypertensie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M, blauwe plekken, vertraagd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ondgenezing, osteoporo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. Addis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unktie van de bijnierschors is onvoldoend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elal auto-immuu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, weinig eetlust, gewichtsverlies, sterk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igmentatie, afwijkende bloedwaarden, misselijk, bloeddruk laa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fwijkende bloedwaarden&gt; crisis! Levensbedreigend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handeling: Bijnierschorshormo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7:20:39Z</dcterms:created>
  <dc:creator>-</dc:creator>
  <dc:description/>
  <dc:language>en-US</dc:language>
  <cp:lastModifiedBy>Bouland,M.</cp:lastModifiedBy>
  <dcterms:modified xsi:type="dcterms:W3CDTF">2015-12-15T11:47:24Z</dcterms:modified>
  <cp:revision>35</cp:revision>
  <dc:subject/>
  <dc:title>hormoomsysteem  en stofwisseling</dc:title>
</cp:coreProperties>
</file>