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F94-4E83-4D40-AB35-DB2E7D02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57E-640C-4D04-98C7-191F0897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DDB-B170-47F8-923A-0B79E794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5A5-13CB-4D1E-9501-DBECDF65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1F1B-7CB9-44AC-BB0C-298F609A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B566-06BD-4503-9A0F-919314BF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E81D-AA22-4536-930C-2B0EC5F5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2873-369F-452C-A867-DEF35882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5995-344F-43BF-9E44-10CDA673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0F10-10F9-41FD-BD6C-147980D8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07EA-0036-444B-BFC9-9B83F5A2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26F-C48F-47BC-8173-4AE080AD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85B5-73E3-4BE9-8172-289309E1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E244-0335-434C-9935-7F13C85B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2769-63C0-4587-A1B1-C88910D9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8C36-ABEB-45C6-AA03-AB66FB23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D2DA-8D81-4EF9-A9F5-2DB3163E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23F-9A85-4918-9CCE-8D73472E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6D9-811E-47D6-95A5-4FB3B6BE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818-31F6-4ADF-963C-DA346F08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35D-AC06-444E-B9C0-64BF4F51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8A5-B518-4CA0-97A1-B43814FC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8C6-4C1F-4943-ABB9-7C540841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297-A468-45D9-BCF5-C5844357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2E52-2BD8-45DC-9CC4-2B1A90E8D56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8735-BA1C-43D3-A194-2084EF080A4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hormoomsysteem 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en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stofwisseling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ildkl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lvleeskl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ijni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ALVLEESKLIER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: DM2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(stofwisselingsziekte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Vetzucht, erfelijke aanle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lichaamscellen zijn insulineresistent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Erfelijk: glucose (suiker) kan moeilijker in cellen komen; er is meer insuline nodi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erglykemie: glucosegehalte stijgt in blo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moeidheid: lichaamscellen onvoldoende brandstof, polyurie: plassen, poly</a:t>
            </a:r>
            <a:r>
              <a:rPr b="0" i="1" lang="nl-NL" sz="2200" spc="-1" strike="noStrike" u="sng">
                <a:solidFill>
                  <a:srgbClr val="ffffff"/>
                </a:solidFill>
                <a:uFillTx/>
                <a:latin typeface="Verdana"/>
              </a:rPr>
              <a:t>dipsie: dorst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oms al jaren aanwezig zonder diagno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ij (ernstig) overgewicht: gezond eten/lichaamsbeweging: afvall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insuline’resistentie’ kan verdwij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rale antidiabetic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ubcutaan insul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971640" y="3213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www.ouderdomsaandoeningen.nl/wp-content/uploads/2015/01/diabetes-type-2.jpg"/>
          <p:cNvPicPr/>
          <p:nvPr/>
        </p:nvPicPr>
        <p:blipFill>
          <a:blip r:embed="rId1"/>
          <a:stretch/>
        </p:blipFill>
        <p:spPr>
          <a:xfrm>
            <a:off x="2556000" y="333360"/>
            <a:ext cx="483696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                         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DM1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(auto-immuunziekte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, antistoffen beschadigen insulineproducerende alvleeskliercell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inder voorkomend dan DM2; begint op jonge leeftijd en ontwikkelt sn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, veel plassen, dorst (ook ‘s nacht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fvallen door vetverbranding (geen suiker bruikbaar!) met als afvalstof keto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vaar: hyperglykemisch ketoacidotisch (verzuring) coma: bewustzijn daalt, suf, uitdrog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835280" y="579600"/>
            <a:ext cx="5275080" cy="3497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2700360" y="4076640"/>
            <a:ext cx="37432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                       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complicaties bij DM</a:t>
            </a:r>
            <a:endParaRPr b="0" lang="en-US" sz="3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cuu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iabetisch coma: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lu hoog, uitgedroogd &gt; coma ontstaat langza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hypoglykemie / hypoglykemisch co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200600" indent="-363600">
              <a:lnSpc>
                <a:spcPct val="90000"/>
              </a:lnSpc>
              <a:spcBef>
                <a:spcPts val="524"/>
              </a:spcBef>
              <a:buClr>
                <a:srgbClr val="3399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ffffff"/>
                </a:solidFill>
                <a:latin typeface="Verdana"/>
              </a:rPr>
              <a:t>jam/honing/stroop tegen wangslijmvli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200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la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HVZ: grote kans op arterioscler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neuropathie:veranderde sensibilitei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nefropathie: achteruitgang van de nierfunkt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tinopathie: beschadiging netvlies       blindhei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infecties: witte bloedcellen funktioneren minde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6659640" y="5300640"/>
            <a:ext cx="433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Verdana"/>
              </a:rPr>
              <a:t>JICH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eveel aan urinezuur in lichaam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Hyperurikemie. (Urinezuurspiegel   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Urinezuur slaat neer in weefse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ooral bij mann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Neemt toe bij overgewicht en alcohol gebruik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ijwerking plastablet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IJL-OMHOOG 1"/>
          <p:cNvSpPr/>
          <p:nvPr/>
        </p:nvSpPr>
        <p:spPr>
          <a:xfrm>
            <a:off x="7570800" y="2276640"/>
            <a:ext cx="385920" cy="48888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443640" y="4508640"/>
            <a:ext cx="2089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Symptomen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innen enkele uren ontsteking gewricht. (Grote teen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achten vaak snachts: roodheid, warm, pijn. Soms koort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Zonder behandeling: 1 tot 3 wk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&gt; 3 aanvallen per jaar: gecompliceerde lich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 ontstekingsremmende pijnstillers, prednis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Verdana"/>
              </a:rPr>
              <a:t>CHOLESTERO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Hypercholesterolemi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Geen klach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erhoogde kans op atherosclero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etarm e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holesterolremm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5189400" y="3860640"/>
            <a:ext cx="362772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Overgewicht en cardiovaculair risico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MI &gt; 25 (appeltype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dipositas of obesitas: &gt; 30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orbide adipositas: &gt; 40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etabool syndroom: overgewicht, DMII, Chol verhoogd, hoge rr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Gevolgen: ziekte en sterfte&gt; HVZ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 afvallen /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edicati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516720" y="4889520"/>
            <a:ext cx="26272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SCHILDKLIER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153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ERTHYREOÏDIE = te snelle werking,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tofwisseling neemt toe (de thermostaat  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ziekte (M. Graves: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ichtschuwheid en branderige ogen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nl. bij vrouw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truma, exophthalm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moeidheid, gespannenheid, gewichtsverlies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nel warm, overmatig transpireren, trillen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ngst, hartkloppingen, diarre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Line 4"/>
          <p:cNvSpPr/>
          <p:nvPr/>
        </p:nvSpPr>
        <p:spPr>
          <a:xfrm flipV="1">
            <a:off x="7885080" y="2349000"/>
            <a:ext cx="0" cy="28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FT4 stijgt in bloed. Hypofyse maakt dit aanvankelijk ongedaan door minder TSH te maken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SH: schildklier stimulerend hormo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FT4: Thyroxine: soort voorraa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3: Trijothyronine: actief hormo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OM934a"/>
          <p:cNvPicPr/>
          <p:nvPr/>
        </p:nvPicPr>
        <p:blipFill>
          <a:blip r:embed="rId1"/>
          <a:stretch/>
        </p:blipFill>
        <p:spPr>
          <a:xfrm>
            <a:off x="4211640" y="1773360"/>
            <a:ext cx="4762440" cy="3228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5364000" y="515772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exophthalm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Picture 10" descr="goiter"/>
          <p:cNvPicPr/>
          <p:nvPr/>
        </p:nvPicPr>
        <p:blipFill>
          <a:blip r:embed="rId2"/>
          <a:stretch/>
        </p:blipFill>
        <p:spPr>
          <a:xfrm>
            <a:off x="900000" y="1700280"/>
            <a:ext cx="2560680" cy="3316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1187280" y="51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ru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395280" y="1916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Adamsappel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is de alledaagse naam voor </a:t>
            </a:r>
            <a:r>
              <a:rPr b="0" i="1" lang="nl-NL" sz="2400" spc="-1" strike="noStrike">
                <a:solidFill>
                  <a:srgbClr val="ffffff"/>
                </a:solidFill>
                <a:latin typeface="Verdana"/>
              </a:rPr>
              <a:t>prominentia laryngea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, het naar voren uitstekende gedeelte van het schildkraakbeen (</a:t>
            </a:r>
            <a:r>
              <a:rPr b="0" i="1" lang="nl-NL" sz="2400" spc="-1" strike="noStrike">
                <a:solidFill>
                  <a:srgbClr val="ffffff"/>
                </a:solidFill>
                <a:latin typeface="Verdana"/>
              </a:rPr>
              <a:t>cartilago thyreoidea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) dat als een verhevenheid midden voor in de hals zichtbaar i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Onder invloed van mannelijke geslachtshormonen groeit het schildkraakbeen in de puberteit sterk, waarbij de adamsappel naar voren uitgroeit. Daarom is met name bij mannen de adamsappel duidelijk zichtba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tilleggen en hormoon toedie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 slok” = radioactief jodium drink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deeltelijk vernietigen schildklier *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peratie (gedeeltelijk verwijderen) *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* complicatie: hypothyreoïd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uto immuun: als je lichaam jezelf aanval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54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OTHYREOÏDIE = te langzame werk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(de thermostaat daalt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ofyse probeert schildklier extra te stimuleren. Extra TSH, FT4 normaal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ziekte (M. Hashimoto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ooral bij oudere vrouw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heid, traagheid, geheugenstroonissen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ouwelijk, obstipatie, droge huid, depressie, haaruitv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ixoedeem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(krakerige stem, opgeblazen gezicht, oogleden dik, gewichtstoenam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evenslang gebruik schildklierhormo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067280" y="2349360"/>
            <a:ext cx="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BIJNIEREN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. Cus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orzaak veelal goedaardig gezwel in hypofy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ardoor bijnier te hard werk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ndroom van Cus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lle andere oorzaken van een te har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rkende bijni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verschijnsel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bnormale vetverdeling, hypertensie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M, blauwe plekken, vertraag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ondgenezing, osteopor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. Addis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unktie van de bijnierschors is onvoldoen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elal auto-immuu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, weinig eetlust, gewichtsverlies, sterk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igmentatie, afwijkende bloedwaarden, misselijk, bloeddruk laa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fwijkende bloedwaarden&gt; crisis! Levensbedreigend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handeling: Bijnierschorshormo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7:20:39Z</dcterms:created>
  <dc:creator>-</dc:creator>
  <dc:description/>
  <dc:language>en-US</dc:language>
  <cp:lastModifiedBy>Bouland,M.</cp:lastModifiedBy>
  <dcterms:modified xsi:type="dcterms:W3CDTF">2015-12-15T11:47:24Z</dcterms:modified>
  <cp:revision>35</cp:revision>
  <dc:subject/>
  <dc:title>hormoomsysteem  en stofwisseling</dc:title>
</cp:coreProperties>
</file>