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2C79-463C-4979-B6A5-A868AFB5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41B8-19F3-4670-A4BC-BFFB554F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3276-7002-4028-B96F-A2DEF4D3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E3B-1D65-4478-BDC4-13EAC9D7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8B8B-E83A-44DD-8E1F-64895BEF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37F7-96D2-4871-9C69-4A6D6683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AFEC-53BC-444C-BA18-910323D2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6B0C-EEE3-41B6-A6DC-30A2156D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BC66-B081-42C9-997D-238DB8C7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738F-0CBA-49A3-976D-F07E69C7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78D7-69BB-4349-A576-FCD1E157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97B3-3EAA-45D6-AAC3-1394B990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2807-D86A-4F8A-A64F-27547197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385B-A465-4481-A1F8-31702AD0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C073-D465-40FA-86F9-721FA524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A6CD-DC92-4C4E-B69E-C7C7FC66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97AA-3F5C-4629-98B9-3BFA29D7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A60-64E7-4289-AE55-F235A5BA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B27-C0FD-4499-9E17-6CF74F7B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75B7-3F13-4C63-9C48-A0F6B8FF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1C5-00C9-436F-BCF5-C6100C6E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D68C-0551-42E6-96E2-84DB7874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273C-E122-445F-85AF-40F582BA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65B-FF42-4269-BA71-5387232E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455A-C063-4B3F-9F8E-AE5CA5F42DD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9356-6107-4555-A0C8-54955965E49C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hormoomsysteem </a:t>
            </a:r>
            <a:br>
              <a:rPr sz="3600"/>
            </a:b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en</a:t>
            </a:r>
            <a:br>
              <a:rPr sz="3600"/>
            </a:b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stofwisseling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ildkli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lvleeskli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bijni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ALVLEESKLIER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: DM2 </a:t>
            </a:r>
            <a:r>
              <a:rPr b="0" lang="nl-NL" sz="2000" spc="-1" strike="noStrike">
                <a:solidFill>
                  <a:srgbClr val="ffff00"/>
                </a:solidFill>
                <a:latin typeface="Verdana"/>
              </a:rPr>
              <a:t>(stofwisselingsziekte)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Vetzucht, erfelijke aanle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lichaamscellen zijn insulineresistent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Erfelijk: glucose (suiker) kan moeilijker in cellen komen; er is meer insuline nodi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erglykemie: glucosegehalte stijgt in bloe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moeidheid: lichaamscellen onvoldoende brandstof, polyurie: plassen, poly</a:t>
            </a:r>
            <a:r>
              <a:rPr b="0" i="1" lang="nl-NL" sz="2200" spc="-1" strike="noStrike" u="sng">
                <a:solidFill>
                  <a:srgbClr val="ffffff"/>
                </a:solidFill>
                <a:uFillTx/>
                <a:latin typeface="Verdana"/>
              </a:rPr>
              <a:t>dipsie: dorst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oms al jaren aanwezig zonder diagno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ij (ernstig) overgewicht: gezond eten/lichaamsbeweging: afvall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insuline’resistentie’ kan verdwij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rale antidiabetic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ubcutaan insuli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971640" y="321300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www.ouderdomsaandoeningen.nl/wp-content/uploads/2015/01/diabetes-type-2.jpg"/>
          <p:cNvPicPr/>
          <p:nvPr/>
        </p:nvPicPr>
        <p:blipFill>
          <a:blip r:embed="rId1"/>
          <a:stretch/>
        </p:blipFill>
        <p:spPr>
          <a:xfrm>
            <a:off x="2556000" y="333360"/>
            <a:ext cx="483696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                         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DM1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ffff00"/>
                </a:solidFill>
                <a:latin typeface="Verdana"/>
              </a:rPr>
              <a:t>(auto-immuunziekte)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, antistoffen beschadigen insulineproducerende alvleeskliercell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inder voorkomend dan DM2; begint op jonge leeftijd en ontwikkelt sn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, veel plassen, dorst (ook ‘s nachts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fvallen door vetverbranding (geen suiker bruikbaar!) met als afvalstof keto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vaar: hyperglykemisch ketoacidotisch (verzuring) coma: bewustzijn daalt, suf, uitdrog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835280" y="579600"/>
            <a:ext cx="5275080" cy="34970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/>
          <p:cNvSpPr/>
          <p:nvPr/>
        </p:nvSpPr>
        <p:spPr>
          <a:xfrm>
            <a:off x="0" y="-6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2700360" y="4076640"/>
            <a:ext cx="374328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                       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complicaties bij DM</a:t>
            </a:r>
            <a:endParaRPr b="0" lang="en-US" sz="3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cuu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iabetisch coma: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lu hoog, uitgedroogd &gt; coma ontstaat langza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hypoglykemie / hypoglykemisch com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200600" indent="-363600">
              <a:lnSpc>
                <a:spcPct val="90000"/>
              </a:lnSpc>
              <a:spcBef>
                <a:spcPts val="524"/>
              </a:spcBef>
              <a:buClr>
                <a:srgbClr val="3399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ffffff"/>
                </a:solidFill>
                <a:latin typeface="Verdana"/>
              </a:rPr>
              <a:t>jam/honing/stroop tegen wangslijmvlie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2" marL="1200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la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HVZ: grote kans op arteriosclero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neuropathie:veranderde sensibilitei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nefropathie: achteruitgang van de nierfunkti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tinopathie: beschadiging netvlies       blindhei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infecties: witte bloedcellen funktioneren minder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6659640" y="5300640"/>
            <a:ext cx="4334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Verdana"/>
              </a:rPr>
              <a:t>JICH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eveel aan urinezuur in lichaam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Hyperurikemie. (Urinezuurspiegel   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Urinezuur slaat neer in weefsel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ooral bij mann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Neemt toe bij overgewicht en alcohol gebruik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ijwerking plastablet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IJL-OMHOOG 1"/>
          <p:cNvSpPr/>
          <p:nvPr/>
        </p:nvSpPr>
        <p:spPr>
          <a:xfrm>
            <a:off x="7570800" y="2276640"/>
            <a:ext cx="385920" cy="48888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443640" y="4508640"/>
            <a:ext cx="20890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Symptomen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innen enkele uren ontsteking gewricht. (Grote teen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achten vaak snachts: roodheid, warm, pijn. Soms koort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Zonder behandeling: 1 tot 3 wk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&gt; 3 aanvallen per jaar: gecompliceerde lich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 ontstekingsremmende pijnstillers, prednis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Verdana"/>
              </a:rPr>
              <a:t>CHOLESTERO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Hypercholesterolemi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Geen klach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erhoogde kans op atherosclero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etarm e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holesterolremm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5189400" y="3860640"/>
            <a:ext cx="362772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Overgewicht en cardiovaculair risico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MI &gt; 25 (appeltype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dipositas of obesitas: &gt; 30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orbide adipositas: &gt; 40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etabool syndroom: overgewicht, DMII, Chol verhoogd, hoge rr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Gevolgen: ziekte en sterfte&gt; HVZ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 afvallen /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edicati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516720" y="4889520"/>
            <a:ext cx="26272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SCHILDKLIER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153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ERTHYREOÏDIE = te snelle werking,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tofwisseling neemt toe (de thermostaat  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ziekte (M. Graves: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lichtschuwheid en branderige ogen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nl. bij vrouw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truma, exophthalm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moeidheid, gespannenheid, gewichtsverlies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nel warm, overmatig transpireren, trillen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ngst, hartkloppingen, diarre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Line 4"/>
          <p:cNvSpPr/>
          <p:nvPr/>
        </p:nvSpPr>
        <p:spPr>
          <a:xfrm flipV="1">
            <a:off x="7885080" y="2349000"/>
            <a:ext cx="0" cy="28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FT4 stijgt in bloed. Hypofyse maakt dit aanvankelijk ongedaan door minder TSH te maken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SH: schildklier stimulerend hormo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FT4: Thyroxine: soort voorraa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3: Trijothyronine: actief hormo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OM934a"/>
          <p:cNvPicPr/>
          <p:nvPr/>
        </p:nvPicPr>
        <p:blipFill>
          <a:blip r:embed="rId1"/>
          <a:stretch/>
        </p:blipFill>
        <p:spPr>
          <a:xfrm>
            <a:off x="4211640" y="1773360"/>
            <a:ext cx="4762440" cy="3228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5364000" y="515772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exophthalm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Picture 10" descr="goiter"/>
          <p:cNvPicPr/>
          <p:nvPr/>
        </p:nvPicPr>
        <p:blipFill>
          <a:blip r:embed="rId2"/>
          <a:stretch/>
        </p:blipFill>
        <p:spPr>
          <a:xfrm>
            <a:off x="900000" y="1700280"/>
            <a:ext cx="2560680" cy="33163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1187280" y="5157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rum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395280" y="1916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Adamsappel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is de alledaagse naam voor </a:t>
            </a:r>
            <a:r>
              <a:rPr b="0" i="1" lang="nl-NL" sz="2400" spc="-1" strike="noStrike">
                <a:solidFill>
                  <a:srgbClr val="ffffff"/>
                </a:solidFill>
                <a:latin typeface="Verdana"/>
              </a:rPr>
              <a:t>prominentia laryngea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, het naar voren uitstekende gedeelte van het schildkraakbeen (</a:t>
            </a:r>
            <a:r>
              <a:rPr b="0" i="1" lang="nl-NL" sz="2400" spc="-1" strike="noStrike">
                <a:solidFill>
                  <a:srgbClr val="ffffff"/>
                </a:solidFill>
                <a:latin typeface="Verdana"/>
              </a:rPr>
              <a:t>cartilago thyreoidea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) dat als een verhevenheid midden voor in de hals zichtbaar i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Onder invloed van mannelijke geslachtshormonen groeit het schildkraakbeen in de puberteit sterk, waarbij de adamsappel naar voren uitgroeit. Daarom is met name bij mannen de adamsappel duidelijk zichtbaa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tilleggen en hormoon toedie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“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 slok” = radioactief jodium drink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deeltelijk vernietigen schildklier *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peratie (gedeeltelijk verwijderen) *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* complicatie: hypothyreoïdi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uto immuun: als je lichaam jezelf aanval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54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OTHYREOÏDIE = te langzame werk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(de thermostaat daalt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ofyse probeert schildklier extra te stimuleren. Extra TSH, FT4 normaal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ziekte (M. Hashimoto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ooral bij oudere vrouw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heid, traagheid, geheugenstroonissen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ouwelijk, obstipatie, droge huid, depressie, haaruitv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ixoedeem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(krakerige stem, opgeblazen gezicht, oogleden dik, gewichtstoenam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evenslang gebruik schildklierhormo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067280" y="2349360"/>
            <a:ext cx="0" cy="2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BIJNIEREN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. Cush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orzaak veelal goedaardig gezwel in hypofy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ardoor bijnier te hard werk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ndroom van Cush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lle andere oorzaken van een te har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rkende bijni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verschijnsel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bnormale vetverdeling, hypertensie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M, blauwe plekken, vertraagd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ondgenezing, osteoporo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. Addis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unktie van de bijnierschors is onvoldoend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elal auto-immuu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, weinig eetlust, gewichtsverlies, sterk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igmentatie, afwijkende bloedwaarden, misselijk, bloeddruk laa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fwijkende bloedwaarden&gt; crisis! Levensbedreigend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handeling: Bijnierschorshormo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7:20:39Z</dcterms:created>
  <dc:creator>-</dc:creator>
  <dc:description/>
  <dc:language>en-US</dc:language>
  <cp:lastModifiedBy>Bouland,M.</cp:lastModifiedBy>
  <dcterms:modified xsi:type="dcterms:W3CDTF">2015-12-15T11:47:24Z</dcterms:modified>
  <cp:revision>35</cp:revision>
  <dc:subject/>
  <dc:title>hormoomsysteem  en stofwisseling</dc:title>
</cp:coreProperties>
</file>