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48D9-EAD2-48FE-814B-E76A0411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95AD-4AED-41FA-9C81-33561038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C0B-20AC-4042-86D8-FF264C9A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94CC-02ED-4758-A77E-2984F874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DBD5-E0DE-4963-B88B-179DDA7D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EB1F-D466-4C4D-A463-6F5DEE1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E60-C5C5-4F97-806A-2E33E3D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F764-E3AB-466F-96F4-5CBB2276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1AF7-F215-4CD5-8AD1-D8932ECE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DEFB-EC98-4736-9468-BAD14B67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4647-8AE2-4ADE-B334-7AD0CF91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3ED-7EE0-46C5-9D5D-D9A0B3E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32C4-910B-4C5E-9173-7A205643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125F-0F50-453E-9EEE-D27A7EA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6502-709B-4F9A-82C6-2DDB822C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64DA-43DB-4DC0-BFE6-102F1C10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F953-51FC-46FE-B14C-6AFCEE8E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1396-FA8F-4DF9-8060-B0F20B99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50B-63EA-468D-BC13-55517D52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FE53-C1C4-4523-AAA0-477F658D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FE8-265A-4ADC-8D4F-21AC8891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ACE-093E-4B26-B5F9-16525C5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E13D-1028-4418-964E-FC73241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95E-3761-4CCF-90F8-D345A04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72CB-6336-4F46-8F91-D57EB16DEDE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99ff"/>
          </a:solidFill>
          <a:ln w="93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921C-A474-481A-B770-D771E522B5C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hormoomsysteem 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en</a:t>
            </a:r>
            <a:br>
              <a:rPr sz="3600"/>
            </a:br>
            <a:r>
              <a:rPr b="0" lang="nl-NL" sz="3600" spc="-1" strike="noStrike">
                <a:solidFill>
                  <a:srgbClr val="ffff00"/>
                </a:solidFill>
                <a:latin typeface="Verdana"/>
              </a:rPr>
              <a:t>stofwisseling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ild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lvleeskli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ijni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ALVLEESKLIER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: DM2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stofwisselings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tzucht, erfelijke aanle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ichaamscellen zijn insulineresistent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Erfelijk: glucose (suiker) kan moeilijker in cellen komen; er is meer insuline nodi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glykemie: glucosegehalte stijgt in bloed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: lichaamscellen onvoldoende brandstof, polyurie: plassen, poly</a:t>
            </a:r>
            <a:r>
              <a:rPr b="0" i="1" lang="nl-NL" sz="2200" spc="-1" strike="noStrike" u="sng">
                <a:solidFill>
                  <a:srgbClr val="ffffff"/>
                </a:solidFill>
                <a:uFillTx/>
                <a:latin typeface="Verdana"/>
              </a:rPr>
              <a:t>dipsie: dorst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oms al jaren aanwezig zonder diagno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ij (ernstig) overgewicht: gezond eten/lichaamsbeweging: afvall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suline’resistentie’ kan verdwij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rale antidiabetic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ubcutaan insulin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971640" y="3213000"/>
            <a:ext cx="504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http://www.ouderdomsaandoeningen.nl/wp-content/uploads/2015/01/diabetes-type-2.jpg"/>
          <p:cNvPicPr/>
          <p:nvPr/>
        </p:nvPicPr>
        <p:blipFill>
          <a:blip r:embed="rId1"/>
          <a:stretch/>
        </p:blipFill>
        <p:spPr>
          <a:xfrm>
            <a:off x="2556000" y="333360"/>
            <a:ext cx="483696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DM1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2000" spc="-1" strike="noStrike">
                <a:solidFill>
                  <a:srgbClr val="ffff00"/>
                </a:solidFill>
                <a:latin typeface="Verdana"/>
              </a:rPr>
              <a:t>(auto-immuunziekte)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, antistoffen beschadigen insulineproducerende alvleeskliercel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inder voorkomend dan DM2; begint op jonge leeftijd en ontwikkelt sn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veel plassen, dorst (ook ‘s nacht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vallen door vetverbranding (geen suiker bruikbaar!) met als afvalstof keto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vaar: hyperglykemisch ketoacidotisch (verzuring) coma: bewustzijn daalt, suf, uitdrog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835280" y="579600"/>
            <a:ext cx="5275080" cy="34970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0" y="-604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2700360" y="4076640"/>
            <a:ext cx="374328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                       </a:t>
            </a:r>
            <a:r>
              <a:rPr b="0" lang="nl-NL" sz="3400" spc="-1" strike="noStrike">
                <a:solidFill>
                  <a:srgbClr val="ffff00"/>
                </a:solidFill>
                <a:latin typeface="Verdana"/>
              </a:rPr>
              <a:t>complicaties bij DM</a:t>
            </a:r>
            <a:endParaRPr b="0" lang="en-US" sz="3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cuu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iabetisch coma: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glu hoog, uitgedroogd &gt; coma ontstaat langza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ypoglykemie / hypoglykemisch co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-363600">
              <a:lnSpc>
                <a:spcPct val="90000"/>
              </a:lnSpc>
              <a:spcBef>
                <a:spcPts val="524"/>
              </a:spcBef>
              <a:buClr>
                <a:srgbClr val="3399ff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ffffff"/>
                </a:solidFill>
                <a:latin typeface="Verdana"/>
              </a:rPr>
              <a:t>jam/honing/stroop tegen wangslijmvli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2" marL="12006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432000" indent="-43200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laa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HVZ: grote kans op arterioscle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uropathie:veranderde sensibilitei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nefropathie: achteruitgang van de nierfunkt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retinopathie: beschadiging netvlies       blindhei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35200" indent="-40140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infecties: witte bloedcellen funktioneren mind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JICH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eveel aan urinezuur in lichaam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urikemie. (Urinezuurspiegel   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Urinezuur slaat neer in weefsel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ooral bij mann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Neemt toe bij overgewicht en alcohol gebruik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jwerking plastablet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IJL-OMHOOG 1"/>
          <p:cNvSpPr/>
          <p:nvPr/>
        </p:nvSpPr>
        <p:spPr>
          <a:xfrm>
            <a:off x="7570800" y="2276640"/>
            <a:ext cx="385920" cy="488880"/>
          </a:xfrm>
          <a:prstGeom prst="upArrow">
            <a:avLst>
              <a:gd name="adj1" fmla="val 50000"/>
              <a:gd name="adj2" fmla="val 50021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443640" y="4508640"/>
            <a:ext cx="20890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ymptom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innen enkele uren ontsteking gewricht. (Grote teen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Klachten vaak snachts: roodheid, warm, pijn. Soms koort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Zonder behandeling: 1 tot 3 wk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&gt; 3 aanvallen per jaar: gecompliceerde lich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ontstekingsremmende pijnstillers, prednis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Verdana"/>
              </a:rPr>
              <a:t>CHOLESTERO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Hypercholesterolem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en klach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rhoogde kans op atheroscleros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Vetarm ete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Cholesterolremm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5189400" y="3860640"/>
            <a:ext cx="362772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Overgewicht en cardiovaculair risico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MI &gt; 25 (appeltype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Adipositas of obesitas: &gt; 3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orbide adipositas: &gt; 40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tabool syndroom: overgewicht, DMII, Chol verhoogd, hoge rr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Gevolgen: ziekte en sterfte&gt; HVZ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Behandeling: afvallen /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medicati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516720" y="4889520"/>
            <a:ext cx="2627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SCHILDKLIER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153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ERTHYREOÏDIE = te snelle werking,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tofwisseling neemt toe (de thermostaat  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Graves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chtschuwheid en branderige ogen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rnl. bij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ruma, exophthalm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rmoeidheid, gespannenheid, gewichtsverlies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nel warm, overmatig transpireren, trill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ngst, hartkloppingen, diarre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 flipV="1">
            <a:off x="7885080" y="234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 stijgt in bloed. Hypofyse maakt dit aanvankelijk ongedaan door minder TSH te maken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SH: schildklier stimulerend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FT4: Thyroxine: soort voorraa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T3: Trijothyronine: actief hormo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OM934a"/>
          <p:cNvPicPr/>
          <p:nvPr/>
        </p:nvPicPr>
        <p:blipFill>
          <a:blip r:embed="rId1"/>
          <a:stretch/>
        </p:blipFill>
        <p:spPr>
          <a:xfrm>
            <a:off x="4211640" y="1773360"/>
            <a:ext cx="4762440" cy="3228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5364000" y="515772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exophthalm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4" name="Picture 10" descr="goiter"/>
          <p:cNvPicPr/>
          <p:nvPr/>
        </p:nvPicPr>
        <p:blipFill>
          <a:blip r:embed="rId2"/>
          <a:stretch/>
        </p:blipFill>
        <p:spPr>
          <a:xfrm>
            <a:off x="900000" y="1700280"/>
            <a:ext cx="256068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1187280" y="5157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strum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5"/>
          <p:cNvSpPr/>
          <p:nvPr/>
        </p:nvSpPr>
        <p:spPr>
          <a:xfrm>
            <a:off x="395280" y="1916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Adamsappel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 is de alledaagse naam voor 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prominentia laryng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, het naar voren uitstekende gedeelte van het schildkraakbeen (</a:t>
            </a:r>
            <a:r>
              <a:rPr b="0" i="1" lang="nl-NL" sz="2400" spc="-1" strike="noStrike">
                <a:solidFill>
                  <a:srgbClr val="ffffff"/>
                </a:solidFill>
                <a:latin typeface="Verdana"/>
              </a:rPr>
              <a:t>cartilago thyreoidea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) dat als een verhevenheid midden voor in de hals zichtbaar i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Onder invloed van mannelijke geslachtshormonen groeit het schildkraakbeen in de puberteit sterk, waarbij de adamsappel naar voren uitgroeit. Daarom is met name bij mannen de adamsappel duidelijk zichtbaar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stilleggen en hormoon toedien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e slok” = radioactief jodium drink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gedeeltelijk vernietigen schildklier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peratie (gedeeltelijk verwijderen) *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* complicatie: hypothyreoïdi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uto immuun: als je lichaam jezelf aanval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54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THYREOÏDIE = te langzame werk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(de thermostaat daalt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Hypofyse probeert schildklier extra te stimuleren. Extra TSH, FT4 normaal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auto-immuunziekte (M. Hashimoto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ooral bij oudere vrouwe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heid, traagheid, geheugenstroonissen,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kouwelijk, obstipatie, droge huid, depressie, haaruitv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ixoedeem </a:t>
            </a:r>
            <a:r>
              <a:rPr b="0" lang="nl-NL" sz="1800" spc="-1" strike="noStrike">
                <a:solidFill>
                  <a:srgbClr val="ffffff"/>
                </a:solidFill>
                <a:latin typeface="Verdana"/>
              </a:rPr>
              <a:t>(krakerige stem, opgeblazen gezicht, oogleden dik, gewichtstoename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behandeling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levenslang gebruik schildklier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067280" y="2349360"/>
            <a:ext cx="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nl-NL" sz="3800" spc="-1" strike="noStrike">
                <a:solidFill>
                  <a:srgbClr val="ffff00"/>
                </a:solidFill>
                <a:latin typeface="Verdana"/>
              </a:rPr>
              <a:t>BIJNIEREN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oorzaak veelal goedaardig gezwel in hypofy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aardoor bijnier te hard werk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ndroom van Cushing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lle andere oorzaken van een te har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erkende bijni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verschijnsel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bnormale vetverdeling, hypertensie,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DM, blauwe plekken, vertraag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wondgenezing, osteoporo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M. Addis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funktie van de bijnierschors is onvoldoend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veelal auto-immuu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3399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nl-NL" sz="2600" spc="-1" strike="noStrike">
                <a:solidFill>
                  <a:srgbClr val="ffffff"/>
                </a:solidFill>
                <a:latin typeface="Verdana"/>
              </a:rPr>
              <a:t>symptome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moe, weinig eetlust, gewichtsverlies, sterk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pigmentatie, afwijkende bloedwaarden, misselijk, bloeddruk laa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afwijkende bloedwaarden&gt; crisis! Levensbedreigend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Verdana"/>
              </a:rPr>
              <a:t>Behandeling: Bijnierschorshormo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5T17:20:39Z</dcterms:created>
  <dc:creator>-</dc:creator>
  <dc:description/>
  <dc:language>en-US</dc:language>
  <cp:lastModifiedBy>Bouland,M.</cp:lastModifiedBy>
  <dcterms:modified xsi:type="dcterms:W3CDTF">2015-12-15T11:47:24Z</dcterms:modified>
  <cp:revision>35</cp:revision>
  <dc:subject/>
  <dc:title>hormoomsysteem  en stofwisseling</dc:title>
</cp:coreProperties>
</file>