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1FA-EB60-43CE-83A3-8131BC43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13E-3CBB-49AB-AA13-528BF64A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9C5-B920-4350-9A38-2BB0B886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5C4-DC99-4BAF-A3A2-E1E1A30E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7DF-1955-472F-B144-9D35F836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29C-826E-4A0F-BAC4-4DDABAE5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7F4-2AC2-4D3A-BFCE-D7AFAEC4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503-CEEC-4B66-A7D9-6DF148B0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CD83-AED3-4D3F-AFD1-4478356D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EE1A-BF44-41E0-A1A3-3602DDA4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AE0-E9B4-4D6A-BF2A-CA941F74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2023-2735-432B-92A5-CDF3B856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3CD4-9DC7-4CF6-A34A-4DDCCF0FE53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finitie: Ontlasting komt minder vaak dan normaal en is hard(minder dan 3 maal per week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Versto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obstipatie"/>
          <p:cNvPicPr/>
          <p:nvPr/>
        </p:nvPicPr>
        <p:blipFill>
          <a:blip r:embed="rId1"/>
          <a:stretch/>
        </p:blipFill>
        <p:spPr>
          <a:xfrm>
            <a:off x="468360" y="4292640"/>
            <a:ext cx="226224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lume vergrotende middel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ullen de darmen, bevatten onverteerbare vezels, die vocht vast houden. Ontlasting wordt zachter. Vaak ter voorbereiding op een onderzoek (Klean Prep) waarbij de darm helemaal leeg moet zij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kinder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kind voelt de aandrang niet go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sproble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kan een oorzaak z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oms spastische darm(lagere schoolleeftij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mplicat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leus: Darmobstructie. Hierbij treed er een afsluiting van de darm op, hevige koliek pijn, braken, opgezette bu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vaginatie ”: Bij kinderen zal een deel van de darm uitstulpen in het naastgelegen gedeelte van de darm. Dit verzoorzaakt obstruc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vagin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o1844"/>
          <p:cNvPicPr/>
          <p:nvPr/>
        </p:nvPicPr>
        <p:blipFill>
          <a:blip r:embed="rId1"/>
          <a:stretch/>
        </p:blipFill>
        <p:spPr>
          <a:xfrm>
            <a:off x="5135400" y="1333440"/>
            <a:ext cx="3438720" cy="4608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N-205-nlImgImage_2"/>
          <p:cNvPicPr/>
          <p:nvPr/>
        </p:nvPicPr>
        <p:blipFill>
          <a:blip r:embed="rId2"/>
          <a:stretch/>
        </p:blipFill>
        <p:spPr>
          <a:xfrm>
            <a:off x="536400" y="1268280"/>
            <a:ext cx="356400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meconium_ileus2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MecIleus-PerforationAP"/>
          <p:cNvPicPr/>
          <p:nvPr/>
        </p:nvPicPr>
        <p:blipFill>
          <a:blip r:embed="rId1"/>
          <a:stretch/>
        </p:blipFill>
        <p:spPr>
          <a:xfrm>
            <a:off x="2495520" y="549360"/>
            <a:ext cx="52005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riag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outi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magering en verminderde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d en/of slijm ontl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wisseling diarree en obstip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ronische ziek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door medicatie: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bstipatie langer dan 3 weken: dan over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Triage: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ringen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Rectaal bloedverlies dat aanhou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rnstig zi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Spoed: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Braken en hevige 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rectum-ptt_NL"/>
          <p:cNvPicPr/>
          <p:nvPr/>
        </p:nvPicPr>
        <p:blipFill>
          <a:blip r:embed="rId1"/>
          <a:stretch/>
        </p:blipFill>
        <p:spPr>
          <a:xfrm>
            <a:off x="1619280" y="1197000"/>
            <a:ext cx="53830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bstipatie bij volwasse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k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 weinig vezels in de voeding /Te weinig drinken/ Te weinig bewe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edicijnen die verstopping veroorza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ijzerpillen, morf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ess/ ophouden van ontlasting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hronische (darm)ziektes, darmkan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sychologische probl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en oorzaak bek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ymptom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 weinig ontlasting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geblazen gev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asvorming, loze aandra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ek aan eetl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uikkram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obstipatie_150137"/>
          <p:cNvPicPr/>
          <p:nvPr/>
        </p:nvPicPr>
        <p:blipFill>
          <a:blip r:embed="rId1"/>
          <a:stretch/>
        </p:blipFill>
        <p:spPr>
          <a:xfrm>
            <a:off x="1590840" y="1100160"/>
            <a:ext cx="59623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dvie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e voeding met voldoende vez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zels zorgen ervoor dat de ontlasting vocht vast houdt waardoor er meer en zachtere faeces 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vezels: volkoren producten(brood)/ peulvruchten, groentes,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imaal 30 gram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,5 – 2 liter water per dag dri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wegen, ten minste een half uur per d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oiletbezoek nooit uit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andeling met med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obstipatie"/>
          <p:cNvPicPr/>
          <p:nvPr/>
        </p:nvPicPr>
        <p:blipFill>
          <a:blip r:embed="rId1"/>
          <a:stretch/>
        </p:blipFill>
        <p:spPr>
          <a:xfrm>
            <a:off x="2563920" y="692280"/>
            <a:ext cx="53146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Drie groepen medicijn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ntralaxantia: prikkelen de darmwand, waardoor iemand snel van “kan” poe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Dulcolax, microlax, kly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el gegeven ter voorbereiding OK of darmonderzo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smotische laxantia: Houdt vocht vast, mild werk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volg: Ontlasting wordt zach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B: Lactulos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g langdurig gebruik worden, ‘s ochtends inn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5:13:38Z</dcterms:created>
  <dc:creator>Rina</dc:creator>
  <dc:description/>
  <dc:language>en-US</dc:language>
  <cp:lastModifiedBy>Marlies Bouland</cp:lastModifiedBy>
  <dcterms:modified xsi:type="dcterms:W3CDTF">2018-04-10T19:49:15Z</dcterms:modified>
  <cp:revision>4</cp:revision>
  <dc:subject/>
  <dc:title>Obstipatie</dc:title>
</cp:coreProperties>
</file>