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4.jpeg" ContentType="image/jpeg"/>
  <Override PartName="/ppt/media/image25.png" ContentType="image/png"/>
  <Override PartName="/ppt/media/image28.png" ContentType="image/png"/>
  <Override PartName="/ppt/media/image5.png" ContentType="image/png"/>
  <Override PartName="/ppt/media/image29.jpeg" ContentType="image/jpeg"/>
  <Override PartName="/ppt/media/image30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dt" idx="1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 type="sldNum" idx="2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1F48-7A08-49F0-98C1-ED563932119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4ACF-179C-49C3-9252-7BDE01E3CC0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2C4B-2626-4624-BABD-8D7285480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3F43-265E-438E-9C74-768CCFDA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7B19-6DBA-445B-80C9-FDE5B5DD2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75A3-9D78-4119-A990-6980771AC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BC00-6B66-4ED8-96E3-3666D496D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ACD7-13FD-4C57-9341-ACFB9FC1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ECBC-6A1E-458B-9138-1B442E80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7EEE-0674-42AA-ACD9-2FC866DA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8427-FCF8-4FBC-8F86-F6D7FC7E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F583-1EE4-4360-9BA2-622F36E2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232D-E0AA-419C-9CDE-8FD16D21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C61B-A7AB-4C1F-B408-4D6C5EB9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8C16-2F9B-4136-BCD9-742C983D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F576-7F82-4732-BC52-240777C2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3911-7D62-4206-B1AA-7DE61882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7F92-2ECC-4B1A-8041-E98696B0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7E01-0B06-46E9-95B9-A6A21F6DE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0A5D2-D147-4BC6-B547-63A10B591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61029-3E1C-4F40-9B6C-E0679E49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BD2E2-84F4-462E-A9F0-AB993608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E9BA4-F663-4E50-AE12-8ADDA7E0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036C2-4133-4912-B672-A1B5769F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403B-A8A0-43E8-A2E3-0F7C0211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B535D-DFE8-4A3E-BED7-24CB8BBA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0AF80-75C3-4084-A2BA-84213156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ACA2C-8E5C-463D-8B53-0B3D1F89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E410A-2190-43FA-AFCE-0CA8C809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D7DA9-30AE-44B2-BE72-8A65C273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FD789-66B8-4A12-BA98-159855448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A99F7-9C8C-42D8-A9B8-7A028F390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14C1C-4D70-4FA9-B3E7-3328628FB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3ADF1-CBA9-47C8-A5F5-E92884DD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D2585-7721-4E94-BA86-FE50FA6F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0041-3AFB-45DF-8FBE-3E978891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32956-78FB-4335-994F-62B2A1BD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3AB83-7E33-4C13-8CCF-94BE8BD1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8D370-0E53-47B3-B222-45B52A1D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2D421-4F53-443F-904A-9D03047B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985F2-1425-4FFA-B428-2325288D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F39CD-C0F3-46D4-9290-D150B509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992C7-61A8-45B0-BAF2-6FE2B6D9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34C8C-92D9-409C-982A-E415AE0FD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B8B48-A5DF-4AEE-9C84-57D6E1A09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7B505-097A-4996-BE44-2FCF434AE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092D-E54C-422D-875D-A4956859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CF4CE-BC57-4A41-8E3B-71260AD0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2A730-DF25-4BAE-90A9-F648B2B8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81147-EAA8-4C82-8357-73F6B867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0888A-D775-4AD3-9776-D77EB563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DCFF5-6C43-4B93-8267-76EF0F07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29AF4-97F4-41AA-84EE-C7ADE070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DDA30-E72E-4916-8CB8-62FB2F85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8D266-C1A4-4D4D-BA49-02DCC436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EE2BD-FCBD-4260-B81B-53CE2FF4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E9A05-CB90-48B0-A3ED-7414A2CE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05CD-2014-44C6-9652-FD954F0C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C5661-7957-4F95-BF6F-B7EBAEC12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08250-3605-4D71-A626-D5E166470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7F22B-2CA3-4F35-A87E-CDD54D0C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3CAC8-465F-41A3-8B7B-D141FCAE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C9749-CC42-4328-9CDF-8EE211FD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17350-CA34-4EE6-85CF-35C8C8E9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ACF07-1076-4242-9668-8B1C882D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84928-428B-460A-B1DE-7DE3951D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6B154-C3B4-4D02-A28F-8B8D3324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8DF16-A9EF-411B-B47F-10966385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6C70-90B1-43FD-9A49-A2D55036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94CE5-D92D-4B95-B87D-A5670E35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E09D6-B9DB-4E0F-B0AC-43DCEE4A9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E56BB-0CCA-41B7-99BF-9A3C75B43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2C7A-E7A2-4D6F-A2EB-8EF542CF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9008-4D82-4473-AF08-AC28C122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B937-4FC1-4935-A850-0014547ABE0F}" type="slidenum">
              <a:rPr b="0" lang="nl-N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hthoek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Rechthoek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Rechte verbindingslijn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A282-C7AC-436E-BDCA-19AF97D6830C}" type="slidenum"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0858-B4DA-40C4-AF8B-BB78794EFFEB}" type="slidenum">
              <a:rPr b="0" lang="nl-N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hthoek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E801-BFD7-4367-AEE5-7E1DBDE033C8}" type="slidenum">
              <a:rPr b="0" lang="nl-NL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9D5B-B332-4967-B279-60006086B0D1}" type="slidenum">
              <a:rPr b="0" lang="nl-N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echthoek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21" name="Rechthoek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2CDF-0C12-4312-9A4D-EA06856AB60C}" type="slidenum">
              <a:rPr b="0" lang="nl-N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Rectangle 2" descr=""/>
          <p:cNvPicPr/>
          <p:nvPr/>
        </p:nvPicPr>
        <p:blipFill>
          <a:blip r:embed="rId1"/>
          <a:stretch/>
        </p:blipFill>
        <p:spPr>
          <a:xfrm>
            <a:off x="689040" y="2286000"/>
            <a:ext cx="8047080" cy="147492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Trebuchet MS"/>
              </a:rPr>
              <a:t>Afwijkingen aan spieren, pezen en slijmbeurze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Trebuchet MS"/>
              </a:rPr>
              <a:t>Artros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Rectangle 2" descr=""/>
          <p:cNvPicPr/>
          <p:nvPr/>
        </p:nvPicPr>
        <p:blipFill>
          <a:blip r:embed="rId1"/>
          <a:stretch/>
        </p:blipFill>
        <p:spPr>
          <a:xfrm>
            <a:off x="244440" y="324000"/>
            <a:ext cx="7534440" cy="13953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Vooral bij elleboog en knie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Maar ook bij heup, schouder en de hiel (achilluspees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Een bursa is een met slijm gevuld zakje onder een pe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Bursitis van de knie"/>
          <p:cNvPicPr/>
          <p:nvPr/>
        </p:nvPicPr>
        <p:blipFill>
          <a:blip r:embed="rId1"/>
          <a:stretch/>
        </p:blipFill>
        <p:spPr>
          <a:xfrm>
            <a:off x="0" y="2895480"/>
            <a:ext cx="4267080" cy="34131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http://www.menselijk-lichaam.com/wp-content/uploads/slijmbeursontsteking.jpg"/>
          <p:cNvPicPr/>
          <p:nvPr/>
        </p:nvPicPr>
        <p:blipFill>
          <a:blip r:embed="rId2"/>
          <a:stretch/>
        </p:blipFill>
        <p:spPr>
          <a:xfrm>
            <a:off x="4572000" y="533520"/>
            <a:ext cx="438948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Klacht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Oorzaa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Pij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bewegingsbeperk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Koor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Roodheid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zwell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teveel druk op de slijmbeurs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overbelasting van een gewricht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een val of een infecti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Rus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Gedoseerde beweginge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Vermijden van de overbelasting van het gewrich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SAI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Corticosteroïd injectie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Titel 1" descr=""/>
          <p:cNvPicPr/>
          <p:nvPr/>
        </p:nvPicPr>
        <p:blipFill>
          <a:blip r:embed="rId1"/>
          <a:stretch/>
        </p:blipFill>
        <p:spPr>
          <a:xfrm>
            <a:off x="438120" y="115920"/>
            <a:ext cx="8016840" cy="14382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685800" y="1341360"/>
            <a:ext cx="77724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Cyste in de kniehol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Oorzaak: overbelasting,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                  </a:t>
            </a: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gewrichtsziekte :reuma, artros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Verschijnselen: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pijnlo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teveel vloeistof in het gewricht te voelen als een zwell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De knie kan niet goed gebogen word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Soms zwelling onderbeen door stagnatie bloedafvo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2381400" y="1238400"/>
            <a:ext cx="438120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el 1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1653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Kan vanzelf overgaan : Geduld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egzuigen van voch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Inspuiten van corticosteroïden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Beiden soms zinvo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Soms operatie, cyste komt vaak teru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685800" y="198072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Cyste in het kapsel van een gewricht of in een pe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Cyste is gevuld met slijmerig voch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Verdwijnt meestal vanzelf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Soms d.m.v. een punctie vocht verwijder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Of inspuiten corticosteroïd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Afwijking komt soms weer terug na  behandeling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el 1" descr=""/>
          <p:cNvPicPr/>
          <p:nvPr/>
        </p:nvPicPr>
        <p:blipFill>
          <a:blip r:embed="rId1"/>
          <a:stretch/>
        </p:blipFill>
        <p:spPr>
          <a:xfrm>
            <a:off x="4286160" y="262080"/>
            <a:ext cx="4602240" cy="14014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"/>
          <p:cNvPicPr/>
          <p:nvPr/>
        </p:nvPicPr>
        <p:blipFill>
          <a:blip r:embed="rId2"/>
          <a:stretch/>
        </p:blipFill>
        <p:spPr>
          <a:xfrm>
            <a:off x="-7920" y="692280"/>
            <a:ext cx="4381560" cy="2857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6" descr=""/>
          <p:cNvPicPr/>
          <p:nvPr/>
        </p:nvPicPr>
        <p:blipFill>
          <a:blip r:embed="rId3"/>
          <a:stretch/>
        </p:blipFill>
        <p:spPr>
          <a:xfrm>
            <a:off x="684360" y="4076640"/>
            <a:ext cx="2857320" cy="14670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7" descr=""/>
          <p:cNvPicPr/>
          <p:nvPr/>
        </p:nvPicPr>
        <p:blipFill>
          <a:blip r:embed="rId4"/>
          <a:stretch/>
        </p:blipFill>
        <p:spPr>
          <a:xfrm>
            <a:off x="4221000" y="3078000"/>
            <a:ext cx="4943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689040" y="476280"/>
            <a:ext cx="8047080" cy="15048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84360" y="1905120"/>
            <a:ext cx="7775280" cy="317952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nl-NL" sz="2200" spc="-1" strike="noStrike">
                <a:solidFill>
                  <a:srgbClr val="ffffff"/>
                </a:solidFill>
                <a:latin typeface="Trebuchet MS"/>
              </a:rPr>
              <a:t>Gewrichtsslijtage”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Trebuchet MS"/>
              </a:rPr>
              <a:t>Het gladde kraakbeenoppervlak raakt beschadigt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Trebuchet MS"/>
              </a:rPr>
              <a:t>Vooral coxartrose en gonartrose, daarnaast in de wervelkolom en hande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rebuchet MS"/>
              </a:rPr>
              <a:t>http://www.enbrel.nl/upload/flash/artrose</a:t>
            </a:r>
            <a:r>
              <a:rPr b="0" lang="nl-NL" sz="2200" spc="-1" strike="noStrike">
                <a:solidFill>
                  <a:srgbClr val="ffffff"/>
                </a:solidFill>
                <a:latin typeface="Trebuchet MS"/>
              </a:rPr>
              <a:t>.</a:t>
            </a:r>
            <a:r>
              <a:rPr b="0" lang="nl-NL" sz="2000" spc="-1" strike="noStrike">
                <a:solidFill>
                  <a:srgbClr val="ffffff"/>
                </a:solidFill>
                <a:latin typeface="Trebuchet MS"/>
              </a:rPr>
              <a:t>swf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rebuchet MS"/>
              </a:rPr>
              <a:t>http://www.youtube.com/watch?v=hzjje-m0s-o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Rechthoek 1"/>
          <p:cNvSpPr/>
          <p:nvPr/>
        </p:nvSpPr>
        <p:spPr>
          <a:xfrm>
            <a:off x="2305080" y="5952960"/>
            <a:ext cx="63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ttp://www.youtube.com/watch?v=JrC4DiTysi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hthoek 2"/>
          <p:cNvSpPr/>
          <p:nvPr/>
        </p:nvSpPr>
        <p:spPr>
          <a:xfrm>
            <a:off x="1860480" y="63882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ttp://www.youtube.com/watch?v=u4371S27E4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2" descr=""/>
          <p:cNvPicPr/>
          <p:nvPr/>
        </p:nvPicPr>
        <p:blipFill>
          <a:blip r:embed="rId1"/>
          <a:stretch/>
        </p:blipFill>
        <p:spPr>
          <a:xfrm>
            <a:off x="365040" y="19080"/>
            <a:ext cx="8016840" cy="14382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761760" y="1412640"/>
            <a:ext cx="3733560" cy="544500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Muisar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Tenniselleboog/ -ar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Peesschedeontstek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Baker-cys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Slijmbeursontstek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Fibromyalgi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47960" y="1412640"/>
            <a:ext cx="3809880" cy="544500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RSI:repetetive strain injury(oude naam) Nu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Cans(KANS): complaints of arm, neck and should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Epicondylitis lateralis humer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Tendinitis of tendovaginiti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Gangl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Bursiti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Artros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Stijfhei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pij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Startpij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Bewegingsbeperkingen, minder bewegen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De conditie van de spieren neemt dan af en komt er meer druk op de gewrichten te staan. Hierdoor kunnen de slijmbeurzen weer ontstoken raken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Op den duur vorming van botuitsteeksel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3"/>
          <p:cNvSpPr/>
          <p:nvPr/>
        </p:nvSpPr>
        <p:spPr>
          <a:xfrm>
            <a:off x="109548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2" descr="Animatieplaatje over wat artrose is"/>
          <p:cNvPicPr/>
          <p:nvPr/>
        </p:nvPicPr>
        <p:blipFill>
          <a:blip r:embed="rId1"/>
          <a:stretch/>
        </p:blipFill>
        <p:spPr>
          <a:xfrm>
            <a:off x="1095480" y="885960"/>
            <a:ext cx="695304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33"/>
                </a:solidFill>
                <a:latin typeface="Arial"/>
                <a:ea typeface="Arial"/>
              </a:rPr>
              <a:t>Slijtage die van nature ontstaat bij het ouder word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33"/>
                </a:solidFill>
                <a:latin typeface="Arial"/>
                <a:ea typeface="Arial"/>
              </a:rPr>
              <a:t>Overbelasting / overgewich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33"/>
                </a:solidFill>
                <a:latin typeface="Arial"/>
                <a:ea typeface="Arial"/>
              </a:rPr>
              <a:t>herhaalde blessures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33"/>
                </a:solidFill>
                <a:latin typeface="Arial"/>
                <a:ea typeface="Arial"/>
              </a:rPr>
              <a:t>Ziekten en acute trauma gewricht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33"/>
                </a:solidFill>
                <a:latin typeface="Arial"/>
                <a:ea typeface="Arial"/>
              </a:rPr>
              <a:t>Heupdysplasie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33"/>
                </a:solidFill>
                <a:latin typeface="Arial"/>
                <a:ea typeface="Arial"/>
              </a:rPr>
              <a:t>Erfelijke aanle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In beweging blijven  Rust roes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Paracetamo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NSAI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Corticosteroïd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Fysiotherapie en ergotherapi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Operatie: osteotomie, arthrodese, prothese, arthroscopie om aanhangsels te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                    </a:t>
            </a: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verwijder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Pijn in bindweefsel en spier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‘</a:t>
            </a: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eke delen reuma’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Chronisch pijnsyndroom: spierpijn, stijfheid, vermoeidheid, hoofdpij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Oorzaak onbeken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Wat te doen: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rebuchet MS"/>
              </a:rPr>
              <a:t>pijnstillers, antidepressiva of slaapmiddelen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rebuchet MS"/>
              </a:rPr>
              <a:t>Behandeling in een pijncentrum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rebuchet MS"/>
              </a:rPr>
              <a:t>Fysio- en oefentherapie Cesar of Mensendieck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rebuchet MS"/>
              </a:rPr>
              <a:t>Het vermijden van stres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rebuchet MS"/>
              </a:rPr>
              <a:t>Leefregels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Titel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Repetitive Strain Injur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Blessure door herhaalde beweg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Verzamelnaam: Spier en gewrichtklachte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Pijn, tintelingen, doof gevo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Preventie: ergenomie op werkplek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2"/>
          <a:stretch/>
        </p:blipFill>
        <p:spPr>
          <a:xfrm>
            <a:off x="4140360" y="2546280"/>
            <a:ext cx="440352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Rectangle 2" descr=""/>
          <p:cNvPicPr/>
          <p:nvPr/>
        </p:nvPicPr>
        <p:blipFill>
          <a:blip r:embed="rId1"/>
          <a:stretch/>
        </p:blipFill>
        <p:spPr>
          <a:xfrm>
            <a:off x="476280" y="585720"/>
            <a:ext cx="7985160" cy="14256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Spierpij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Bewegingspij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Druk op de peesaanhechtingspunt geeft pijnstijg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Moe gevo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Beperking in activiteit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6" descr=""/>
          <p:cNvPicPr/>
          <p:nvPr/>
        </p:nvPicPr>
        <p:blipFill>
          <a:blip r:embed="rId2"/>
          <a:stretch/>
        </p:blipFill>
        <p:spPr>
          <a:xfrm>
            <a:off x="4648320" y="2349360"/>
            <a:ext cx="39542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Rectangle 1026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637400" cy="14209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Onderliggende aandoening behandel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Paracetamol / NSAID/corticostero</a:t>
            </a:r>
            <a:r>
              <a:rPr b="0" lang="nl-NL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ïdinjecti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Oefentherapi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Z.n. werk aanpass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Wel aan het werk blijven en anders contact houden met de collega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Contact bedrijfsarts/ -verpleegkundig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Cognitieve gedragstherapie: psycholoo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Klachte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rebuchet MS"/>
              </a:rPr>
              <a:t>Oorzaa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Locale verdikking van de elleboo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Warm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Pijn rond elleboog, toenemend bij beweg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Overbelast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Problemen in cervicale wervelkolo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Het is een self-limiting disease (8 – 13 maanden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Paracetamo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SAI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Corticosteroïden, loca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Tape, bandages, oefeningen en fysiotherapie geven geen snellere verbeter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Tendiniti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Veroudering of overbelast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Voorbeeld: syndroom van De Quervain (Peesschedeontsteking van pols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Bewegen van duim is pijnlijk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Trigger Finger: Omhulsels buigpezen vinger zwellen op. Blijft in buigstand staan. Corticosteroiden inspuit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ffde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Rust, eventueel gips of een spal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NSAI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Corticosteroïden, locaa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rebuchet MS"/>
              </a:rPr>
              <a:t>Soms een operatie,waarbij de peesschede wordt opengesnede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14:08:33Z</dcterms:created>
  <dc:creator>Agnieta</dc:creator>
  <dc:description/>
  <dc:language>en-US</dc:language>
  <cp:lastModifiedBy>Bouland,M.</cp:lastModifiedBy>
  <dcterms:modified xsi:type="dcterms:W3CDTF">2015-12-10T09:36:44Z</dcterms:modified>
  <cp:revision>25</cp:revision>
  <dc:subject/>
  <dc:title>Reumatische Aandoeningen</dc:title>
</cp:coreProperties>
</file>