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1AB-6C19-4D55-B297-CABF6DA9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6147-B7EC-4C79-8F1E-8D5D9532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62D-277F-4CCD-9C2B-91A60BC7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1AE-76CF-4799-909B-40531F72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87F2-0F23-4C91-B0C6-43EBC0C0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B9BF-2074-4015-A5D9-378E1233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8858-EA6F-423C-A9EB-430E9C2C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61F5-96E9-43C2-B774-BE9B404F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27D1-3361-4755-BF7E-68DD64A7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AD5B-5DFE-49DC-815B-36CF05E3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B7AC-DDDE-4A05-92D6-70773B19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1A0-0D70-450C-A868-9C6A70BC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270C-3BD8-457A-A014-94F769A0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3458-9F19-486B-8197-B707410A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F237-CDA1-414B-96F0-8CACC305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B80A-740B-4E8A-BC7E-6473E349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9A02-F0EB-416D-855A-C317EF67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4572E-3F4E-4188-81A6-9AED9889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A29CB-3391-4483-9124-A690369F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733CA-0F2A-4E76-92A3-DD07B9D2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31B93-0294-4054-AA12-FBFC1B9B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9318A-5751-4B92-B08E-1685CCFE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9A4-584A-41AB-9032-ED636DDA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89D65-6E39-499F-A2AB-5C366976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F43D-9BD9-46C0-83BB-7A0E7204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788D-E35A-4C5E-909F-527E1F1F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6F8F7-1D2C-42CE-A697-FD1BCA16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830A4-E8EF-4C90-9280-5ADC2D08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DE2D3-7788-497E-A9BC-BC8A4DDE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41CC-EDFD-4F12-AA51-503FE3B4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41DFB-39EA-4FDE-82FA-C06B534E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B53CC-F467-4CEE-9D8D-AAC638F2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5182C-83AE-4C23-8299-A23FF6C4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A77-D436-40DE-89B5-C90AC293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B7AE7-2D41-4730-B1AD-48547C49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481B-11CC-40CD-8241-43DD4780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5A0B-47F4-4DCC-A300-F0B35D55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F6AF6-83F7-468B-AB0F-DD57DADD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6DD30-F7E9-4CEF-8DBD-0A797276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0CDAD-1DB5-4EFC-9924-3E1F1829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65999-6B05-4E5C-9B57-6D94C1B6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E22A9-2A49-48CE-9C0D-6638FED2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FB6EC-1E18-497D-9E8C-67E3E583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46945-8831-4F68-A13C-A02BDB4B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CD8-BA08-4560-903F-60E2CC88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9166E-56C0-43DA-8AC7-B552034E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728D0-28EF-4AB1-98C8-1E3E2833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F1645-F3E0-439C-B9DA-BD29AEC6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E884B-C4DF-4ADF-88E4-B9A1C5F0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1E0A9-BF96-4FB8-A215-8726C6F6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1FF09-D02E-4C41-9217-F92CC969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B6262-25C1-4770-8F5B-6D179A69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A3C89-D24E-4370-8711-D24380C0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5160C-6087-4881-85C4-ECED9476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60A27-E198-4A3D-93FA-08BFC079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6680" y="964800"/>
            <a:ext cx="593712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27C7-22FA-46B0-941D-D56B0ECA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1440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621760" y="263808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60668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1440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621760" y="4258800"/>
            <a:ext cx="1911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3FBBF-4F95-421A-BBC4-E4C94A4F7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618-3CE6-4924-A5A0-A7A7B69C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040" y="425880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574-B36F-4BF1-AA35-75E635F3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668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040" y="2638080"/>
            <a:ext cx="28972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6680" y="4258800"/>
            <a:ext cx="59371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368-B7AC-4C99-B649-FEEF1E5F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1B814-DB67-42A3-BA4E-D744861514A5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af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3CEEE-5434-4E06-8995-661292023B93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21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1101240" y="6235200"/>
            <a:ext cx="45579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F2B8A7-903F-4A41-99FD-629D5D2A7506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641520" y="6235200"/>
            <a:ext cx="3805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73266-FB6C-460C-BD57-263A9FC71D9D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ba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Gill Sans MT"/>
              </a:rPr>
              <a:t>Click to edit the title text format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1" marL="4572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2" marL="6858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3" marL="9144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4" marL="11430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5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lvl="6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5978160" y="6238800"/>
            <a:ext cx="20653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639720" y="6235200"/>
            <a:ext cx="38037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8294040" y="6271560"/>
            <a:ext cx="258480" cy="258480"/>
          </a:xfrm>
          <a:prstGeom prst="rect">
            <a:avLst/>
          </a:prstGeom>
          <a:solidFill>
            <a:srgbClr val="1d1d1d">
              <a:alpha val="70000"/>
            </a:srgbClr>
          </a:solidFill>
          <a:ln w="0">
            <a:noFill/>
          </a:ln>
        </p:spPr>
        <p:txBody>
          <a:bodyPr lIns="18360" rIns="1836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6E94B-008C-44B5-9B68-9BC5C3FD8EA2}" type="slidenum">
              <a:rPr b="0" lang="nl-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8VhCl4J_lo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rohn.nl/animatie.html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7ey8wyI5eo&amp;feature=relmfu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Gill Sans MT"/>
              </a:rPr>
              <a:t>AANDOENINGEN VAN HET SPIJSVERTERINGSKANAAL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Deel 2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b0f0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62626"/>
                </a:solidFill>
                <a:latin typeface="Gill Sans MT"/>
              </a:rPr>
              <a:t>PRIKKELBARE DARM SYNDROOM</a:t>
            </a:r>
            <a:endParaRPr b="0" lang="en-US" sz="32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Spastische dar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Irritable bowel syndrome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Spastische dar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00b0f0"/>
                </a:solidFill>
                <a:uFillTx/>
                <a:latin typeface="Times New Roman"/>
                <a:hlinkClick r:id="rId1"/>
              </a:rPr>
              <a:t>http://www.youtube.com/watch?v=x8VhCl4J_lo</a:t>
            </a:r>
            <a:r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De oorzaak is onbekend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Een rol spelen: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Bewegingsstoornissen in het maagdarmkanaal;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Voedingsfactoren;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Verlaagde pijndrempel in het maagdarmkanaal;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Psychosociale factoren;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Afwijkingen in de darmflora;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62626"/>
                </a:solidFill>
                <a:latin typeface="Gill Sans MT"/>
              </a:rPr>
              <a:t>Mogelijke ontstekingscellen in de darmen.  </a:t>
            </a: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Klachten &gt; 6maanden en 3 maanden actief aanwezi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Klachten wisselend aan- afwezi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Zeurende, krampende of stekende  pijn in de buik die soms vermindert na defecatie of na het et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Pijn soms zo hevig dat de activiteiten niet meer lukk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Afwijkend ontlasting patroo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VERVOLG SYMPTOM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Afwisselend diarree en obstipat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aak ook andere klachten Tr. Dig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Zuurbrand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Slikklacht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Winderigheid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geblazen gevoe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gezette bui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Geen specifieke onderzoeken, goede anamnese en lichamelijk onderzoek is voldoend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oeding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Leefregels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ventueel medicijnen afh. van de klachten     bulkvormers, analgetica, vochtvasthouders, laxantia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ognitieve gedragstherap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b0f0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500" spc="-1" strike="noStrike">
                <a:solidFill>
                  <a:srgbClr val="262626"/>
                </a:solidFill>
                <a:latin typeface="Gill Sans MT"/>
              </a:rPr>
              <a:t>BEKLEMDE BREUK</a:t>
            </a:r>
            <a:endParaRPr b="0" lang="en-US" sz="35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Hernia incarcerata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BREUK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905120" y="3962520"/>
            <a:ext cx="4114800" cy="1998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41148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DEFINITIE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Beklemde uitstulping van ingewanden of buikvlies door een opening in de buikwand m.a.g. afsterving van het weefsel in de breukza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LITTEKENBREUK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41972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INHOUD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Ileu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Prikkelbare darm syndroom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Beklemde breu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olitis ulcerosa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orbus Croh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NAVELBREUK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371600" y="2222640"/>
            <a:ext cx="571500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GROTE BREUK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676520" y="2017800"/>
            <a:ext cx="47242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Hevige pij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Locale ontstekingsverschijnsel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THERAPIE: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hirurg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00b0f0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LITIS ULCEROSA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en chronische ontsteking van het slijmvlies van de dikke darm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samen met de Morbus Crohn hoort het tot de  Inflammatory Bowel Diseases (IBD)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287800" y="302904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iseases Inflammatory Bowel (IB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AK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nbekend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rfelijke factoren spelen een ro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ogelijk ook omgevingsfactor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</a:t>
            </a: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iarree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Bloed bij de ontlast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Buikpij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moeidheid,  slechte eetlust, gewichtsdal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Koorts 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loopt in golv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Soms alleen proctitis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http://www.accurioja.com/img/colitis.jpg"/>
          <p:cNvPicPr/>
          <p:nvPr/>
        </p:nvPicPr>
        <p:blipFill>
          <a:blip r:embed="rId1"/>
          <a:stretch/>
        </p:blipFill>
        <p:spPr>
          <a:xfrm>
            <a:off x="1714680" y="304920"/>
            <a:ext cx="5715000" cy="2941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http://www.spinabifidainfo.nl/colitisbv.jpg"/>
          <p:cNvPicPr/>
          <p:nvPr/>
        </p:nvPicPr>
        <p:blipFill>
          <a:blip r:embed="rId2"/>
          <a:stretch/>
        </p:blipFill>
        <p:spPr>
          <a:xfrm>
            <a:off x="685800" y="3597120"/>
            <a:ext cx="2997360" cy="3260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http://www.gastrointestinalatlas.com/SevereUlcerative_Colitis13.jpg"/>
          <p:cNvPicPr/>
          <p:nvPr/>
        </p:nvPicPr>
        <p:blipFill>
          <a:blip r:embed="rId3"/>
          <a:stretch/>
        </p:blipFill>
        <p:spPr>
          <a:xfrm>
            <a:off x="4343400" y="3807000"/>
            <a:ext cx="4572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Fecesonderzoek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ndoscopie met bioptafnam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X BOZ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MPLICATIES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Huid -, oog- en gewrichtsklachten en ontstekingen van de galwegen in en buiten de lever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Fistel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steoporose, door verminderde kalkopnam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ieet niet nodig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edicijnen: ontstekingsremmer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eratie: colonresectie/ colectom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00b0f0"/>
          </a:solidFill>
          <a:ln cap="sq" w="38160">
            <a:solidFill>
              <a:srgbClr val="404040"/>
            </a:solidFill>
            <a:miter/>
          </a:ln>
        </p:spPr>
        <p:txBody>
          <a:bodyPr lIns="274320" rIns="274320" tIns="182880" bIns="18288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500" spc="-1" strike="noStrike">
                <a:solidFill>
                  <a:srgbClr val="262626"/>
                </a:solidFill>
                <a:latin typeface="Gill Sans MT"/>
              </a:rPr>
              <a:t>ILEUS</a:t>
            </a:r>
            <a:endParaRPr b="0" lang="en-US" sz="35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021040" y="4352760"/>
            <a:ext cx="5101920" cy="1239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Gill Sans MT"/>
              </a:rPr>
              <a:t>Voorkomend in zowel dunne als dikke darm</a:t>
            </a:r>
            <a:endParaRPr b="0" lang="en-US" sz="19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00b0f0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ZIEKTE VAN CROH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Ileitis terminalis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en chronische ontstekingsziekte van het maag-darmstelsel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b0f0"/>
                </a:solidFill>
                <a:uFillTx/>
                <a:latin typeface="Gill Sans MT"/>
                <a:hlinkClick r:id="rId1"/>
              </a:rPr>
              <a:t>http://www.crohn.nl/animatie.html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026" descr="http://medischcontact.artsennet.nl/static/images/medischcontact/AMGATE_6059_138_TICH_R227196430371217.jpg"/>
          <p:cNvPicPr/>
          <p:nvPr/>
        </p:nvPicPr>
        <p:blipFill>
          <a:blip r:embed="rId1"/>
          <a:stretch/>
        </p:blipFill>
        <p:spPr>
          <a:xfrm>
            <a:off x="6019920" y="3879720"/>
            <a:ext cx="3124080" cy="2978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27" descr="http://www.ysl.nl/fileadmin/site/ysl/medischabc/afbeeldingen/MK_ziektevancrohn.gif"/>
          <p:cNvPicPr/>
          <p:nvPr/>
        </p:nvPicPr>
        <p:blipFill>
          <a:blip r:embed="rId2"/>
          <a:stretch/>
        </p:blipFill>
        <p:spPr>
          <a:xfrm>
            <a:off x="250920" y="981000"/>
            <a:ext cx="53848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AK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nbekend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rfelijke factoren spelen wel een rol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b0f0"/>
                </a:solidFill>
                <a:uFillTx/>
                <a:latin typeface="Gill Sans MT"/>
                <a:hlinkClick r:id="rId1"/>
              </a:rPr>
              <a:t>http://www.youtube.com/watch?v=i7ey8wyI5eo&amp;feature=relmfu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SYMPTOM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Buikpij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iarre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ermagering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Anemi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Ziekte verloopt in golven(exacerbaties en remissies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Koorts tijdens opvlamming van de ziekt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choscopi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ndoscopie met bioptafnam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Slikken videocapsul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MPLICATIES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Fistelvorming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erklevingen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ieet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edicijnen: pijnstillers, anti-diarree middelen, vitamines, foliumzuur en ijzer gebruiken.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 </a:t>
            </a: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Vaak ook medicijnen die werken tegen de ontstekingen.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erat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ttp://www.seifmedgraphics.com/ileus.jpg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ORZAKEN 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stopping obstructie van de darmdoorga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Mechanische blokkade door inklemming (invaginatie), afklemming of verdraaiing (stranguratie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Verkleving van de darmwand aan het buikvlies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armzwell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armverlamming(paralytische ileus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VERSCHIJNSEL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Aanvallen van hevige buikpijn(kolieken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Darmbewegingen zichtbaar op de buik(niet bij paralytische ileus, stille buik)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Gootsteengeruisen te horen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Opgezette buik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Misselijk en braken tot fecaal braken aan toe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Wegblijven van winden en ontlasting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Soms overloopdiarree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62626"/>
                </a:solidFill>
                <a:latin typeface="Gill Sans MT"/>
              </a:rPr>
              <a:t>Shock</a:t>
            </a: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  <a:p>
            <a:pPr marL="214560" indent="-214560">
              <a:lnSpc>
                <a:spcPct val="70000"/>
              </a:lnSpc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ONDERZOEKEN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T-sca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X coloninloop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MRI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Endoscopie 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COMPLICATIES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armperforatie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Darmnecrose (afsterving)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06680" y="964800"/>
            <a:ext cx="5937120" cy="1187640"/>
          </a:xfrm>
          <a:prstGeom prst="rect">
            <a:avLst/>
          </a:prstGeom>
          <a:solidFill>
            <a:srgbClr val="ffffff"/>
          </a:solidFill>
          <a:ln cap="sq" w="31680">
            <a:solidFill>
              <a:srgbClr val="404040"/>
            </a:solidFill>
            <a:miter/>
          </a:ln>
        </p:spPr>
        <p:txBody>
          <a:bodyPr lIns="182880" rIns="182880" tIns="182880" bIns="1828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62626"/>
                </a:solidFill>
                <a:latin typeface="Gill Sans MT"/>
              </a:rPr>
              <a:t>THERAPIE</a:t>
            </a:r>
            <a:endParaRPr b="0" lang="en-US" sz="2600" spc="-1" strike="noStrike">
              <a:solidFill>
                <a:srgbClr val="262626"/>
              </a:solidFill>
              <a:latin typeface="Gill Sans M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06680" y="2638080"/>
            <a:ext cx="5937120" cy="31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peratie zonodig met stoma-aanlegging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Onderliggende oorzaak behandelen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  <a:p>
            <a:pPr marL="228600" indent="-228600">
              <a:spcBef>
                <a:spcPts val="1001"/>
              </a:spcBef>
              <a:buClr>
                <a:srgbClr val="9baf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62626"/>
                </a:solidFill>
                <a:latin typeface="Gill Sans MT"/>
              </a:rPr>
              <a:t>Conservatief: maaghevel, infuus, clysma’s, later orale laxantia, pijnstillers, antiemetica</a:t>
            </a:r>
            <a:endParaRPr b="0" lang="en-US" sz="1800" spc="-1" strike="noStrike">
              <a:solidFill>
                <a:srgbClr val="26262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9:38:35Z</dcterms:created>
  <dc:creator>Agnieta</dc:creator>
  <dc:description/>
  <dc:language>en-US</dc:language>
  <cp:lastModifiedBy>Marlies Bouland</cp:lastModifiedBy>
  <dcterms:modified xsi:type="dcterms:W3CDTF">2018-03-13T13:25:50Z</dcterms:modified>
  <cp:revision>19</cp:revision>
  <dc:subject/>
  <dc:title>Aandoeningen van het spijsverteringskanaal</dc:title>
</cp:coreProperties>
</file>