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8B4F9-74DB-4A4E-BD61-E7EB6B1D73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6FBAB-7232-4795-B5AA-A03DFCB3729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llirubine niet goed verwerken: ASAT en ALAT verhoog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hron hep kan overgaan in cirrose: langer dan 6 m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51E2A-FD8F-4A09-A40B-5B97D2F96F0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1A362-0335-45ED-8A76-01340643ADE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: besmettelijke geelzucht, vooral bij kinderen, rond middelandsezee gebied, besmetting via ontlasting. Incubatietijd een maand. Prognose is g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FFB03A-EB32-4520-82F6-DB724094A19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: kan chronisch worden en leiden tot cirrose of kan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C: bijna alleen via bloed-bloed contact. Kan chron worden en tot cirrose lijd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669AB-89B6-4B3E-BD29-323EA797AC6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lever verandert in bindweefsel. Diagnose: via echo, scopie of biopt. Vaak gevolg van alc.misbruik. Of complicatie van B of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rtransplantie is dan opti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FB1138-219E-4895-A2DF-7F9EB01BD818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030-9BAE-49F6-B3F9-809A83E4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E5F-E0DF-4993-91C8-56E427F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B001-7E78-4177-87AF-D278ACCA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700-80B6-4F9E-97E4-17D37602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A8CC-C52B-437F-B8DC-DD02052E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1F66-3DFA-4601-B209-90FE8F90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D3A-CB30-4002-B2B1-F793B46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A0AB-3E58-4ED0-963F-27761AB0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D784-2CC1-464D-9D27-310FD408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B3B7-D8CC-4EB3-93C8-78B023D6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2100-CC3B-4484-BE20-A6187C49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FB3-9287-4C25-8A29-ED9D810F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7778-4793-4ABE-9741-2325B14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E9DB-746B-4A94-9086-D8245743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FD76-5A7E-49E0-8B4C-8006ECF7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20D2-C9A9-4ECD-80B8-042D0B8A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2453-1D40-4AAA-A1E7-5F18C147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E59B7-3A01-45CF-812A-4A891757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6C70-AC0C-45CD-96C9-3ADE26D7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9533-4747-49A4-B848-F0A7F475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CDCE5-857E-4792-81BA-615BEB6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8121-2517-45D5-B867-32C9605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BD6-8EF8-4D7A-9B30-C12545C7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63B6-B7E8-4704-A2C2-A36464E9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6703-1BFA-447F-B640-B930A6CE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A747-D0F2-4187-8950-E790300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C2A4E-A0D2-4E01-9AF0-B27FC41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4F6B-0684-4686-A939-29BA50FB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559B-0FFD-4D5B-B3D2-315DB6F4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8D3E-9F8F-48BE-A56C-C075F57F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085F-2D3E-4C04-848E-2609919A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4C8B4-498D-4700-8B18-2EAC267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FCF8-B0F9-430D-A00F-294B691C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AAF-34BB-4410-82C5-195E8C8B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C0B4A-CE41-4758-9B91-D186CCE5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D6F5D-937C-4926-8613-6955E723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B9AF6-E9BA-4A06-B984-98FD0C04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0D767-F23A-48D7-9546-217584C9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E5BA-DBB2-4E70-81D3-5F14539C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5C65C-1BC9-4906-9B2C-45C63032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30FD4-A84D-4B23-B513-906F7CC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511D-1922-4C60-A576-221D438D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98D9-CC24-43D0-8621-BBF1777A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61A4-6D75-4F3F-8069-46F4EC71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714-9C6B-4403-A2B1-A57F0400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0BE-930F-4A58-B953-E25F22F7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9B1-7509-49FA-B040-6F1E5091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091-FF10-4C4D-A2FB-A94CD261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0E387-BB84-4FC5-AA4A-D6CEF3829771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6C594-3DF4-493D-A2EF-8AD531021D14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4C6A7-9CDB-4297-8753-51001F9267A5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817C7-757F-4D15-BDF5-3E15565415E1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Hepat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LEVERONTSTEK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http://healthlob.com/wp-content/uploads/2011/05/hepatitis-300x181.jpg"/>
          <p:cNvPicPr/>
          <p:nvPr/>
        </p:nvPicPr>
        <p:blipFill>
          <a:blip r:embed="rId1"/>
          <a:stretch/>
        </p:blipFill>
        <p:spPr>
          <a:xfrm>
            <a:off x="609480" y="457200"/>
            <a:ext cx="4648320" cy="2803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ttp://www.huidziekten.nl/afbeeldingen/hepatitis-b-4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052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stelfas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genezing binnen 6-8 weken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kunnen gedurende een  jaar no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steloos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latul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intolerant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isch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el patiënten hebben geen symptomen of dezelfde als bij de acute vorm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moeidheid, een grotere behoefte aan slaap, pijnlijke spieren en gewricht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periodieke lichte druk of pijn onder de rechterribben als gevolg van een vergrote lev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Geelzucht is een zeer laat symptoom van chronische hepatitis: het is een teken dat de ziekte ernstig is geworde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 en urine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 door HBs-AG (australi-antigeen) aan te to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A: ge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B: levercirro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patitis C: levercirrose, levercarcin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Q9L7ZQPc8EA Engels gespro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http://www.youtube.com/watch J5c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ttps://www.youtube.com/watch?v=Q9L7ZQ8E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n directe behandeling, hooguit symptoombestrij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395136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Veel hepatitis gevallen worden aanvankelijk aangezien voor griep omdat de klachten erg kunnen lijken op griepverschijnselen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Levercirrose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8ad0d6"/>
                </a:solidFill>
                <a:latin typeface="Century Gothic"/>
              </a:rPr>
              <a:t>VERSCHROMPELING, VERBINDWEEFSELING VAN D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Leverklachten: symptomen levercirrose, cirrose en alcohol"/>
          <p:cNvPicPr/>
          <p:nvPr/>
        </p:nvPicPr>
        <p:blipFill>
          <a:blip r:embed="rId1"/>
          <a:stretch/>
        </p:blipFill>
        <p:spPr>
          <a:xfrm>
            <a:off x="2362320" y="1600200"/>
            <a:ext cx="4657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B en C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 alcohol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lever"/>
          <p:cNvPicPr/>
          <p:nvPr/>
        </p:nvPicPr>
        <p:blipFill>
          <a:blip r:embed="rId1"/>
          <a:stretch/>
        </p:blipFill>
        <p:spPr>
          <a:xfrm>
            <a:off x="826920" y="1125360"/>
            <a:ext cx="745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Een opgezette lever en (vage) buikpij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sselijkheid en brake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minderde eetlust en gewichtsverli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Algehele zwakte en vermoeidhei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Geelzucht; het geel zien van de huid en het oogwi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Jeuk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Kleine ‘spinvormige’ bloedvaatjes op de huid (spider naevi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www.huidziekten.nl/afbeeldingen/hepatitis-b-2.jpg"/>
          <p:cNvPicPr/>
          <p:nvPr/>
        </p:nvPicPr>
        <p:blipFill>
          <a:blip r:embed="rId1"/>
          <a:stretch/>
        </p:blipFill>
        <p:spPr>
          <a:xfrm>
            <a:off x="704880" y="609480"/>
            <a:ext cx="3867120" cy="44197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http://upload.wikimedia.org/wikipedia/commons/thumb/4/42/Spider_nevus.jpg/230px-Spider_nevus.jpg"/>
          <p:cNvPicPr/>
          <p:nvPr/>
        </p:nvPicPr>
        <p:blipFill>
          <a:blip r:embed="rId2"/>
          <a:stretch/>
        </p:blipFill>
        <p:spPr>
          <a:xfrm>
            <a:off x="5410080" y="0"/>
            <a:ext cx="2629080" cy="4422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www.sciencephoto.com/image/259930/large/M2200067-Spider_naevus_on_skin-SPL.jpg"/>
          <p:cNvPicPr/>
          <p:nvPr/>
        </p:nvPicPr>
        <p:blipFill>
          <a:blip r:embed="rId3"/>
          <a:stretch/>
        </p:blipFill>
        <p:spPr>
          <a:xfrm>
            <a:off x="4876920" y="4489560"/>
            <a:ext cx="34099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leverfunc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BOZ, MRI.lever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graf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punctie/ biops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leen symptomatis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vertransplanta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Pancreatitis 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ALVLEESKLIERONTSTEKIN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600" spc="-1" strike="noStrike">
                <a:solidFill>
                  <a:srgbClr val="8ad0d6"/>
                </a:solidFill>
                <a:latin typeface="Century Gothic"/>
              </a:rPr>
              <a:t>HTTP://PLAZILLA.COM/PAGE/4294981047/PANCREATITIS-WAT-IS-DAT-PRECIES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8436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van acute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gedeelte wat spijsverteringssappen maakt is ontst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neesmiddel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15280" cy="1143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9640" y="1412640"/>
            <a:ext cx="8315280" cy="54450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een mild verloo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rnstige pijn in de bovenb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zit rechtop en voorovergebo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8002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Century Gothic"/>
              </a:rPr>
              <a:t>Ziekenhuisopname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mylase sterk verhoogd in het bloe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Picture 2" descr="Pancreatitis symptomen: buikpijn, misselijk, braken &amp; koorts"/>
          <p:cNvPicPr/>
          <p:nvPr/>
        </p:nvPicPr>
        <p:blipFill>
          <a:blip r:embed="rId1"/>
          <a:stretch/>
        </p:blipFill>
        <p:spPr>
          <a:xfrm>
            <a:off x="7093080" y="4437000"/>
            <a:ext cx="176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unstmatige voed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ware pijnstill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lstenen worden verwijder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% overlijd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 chronische pancreatitis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mis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gebo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bekend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36086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irussen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hepatitis A, B, C,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entury Gothic"/>
              </a:rPr>
              <a:t>Epstein-Barrvirus (Z. Pfeiffer), cytomegalievirus(herpesviru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-  /drugsgebrui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 bijv overdosis paracetam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fwisselingsziekten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ttps://www.youtube.com/watch?v=12q3byhdt00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chron. pancre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isselende pijn in de buik of in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name pijn rechtop voorover gebogen zit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ttige ontlasting door tekort aan 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Uiteindelijk aantasting endocriene cellen m.a.g. diabetes mellit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fbe0c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www.rugzakreis.nl/images/medisch-hepatitis-a.gif"/>
          <p:cNvPicPr/>
          <p:nvPr/>
        </p:nvPicPr>
        <p:blipFill>
          <a:blip r:embed="rId1"/>
          <a:stretch/>
        </p:blipFill>
        <p:spPr>
          <a:xfrm>
            <a:off x="228600" y="0"/>
            <a:ext cx="5029200" cy="35211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http://www.rugzakreis.nl/images/medisch-hepatitis.gif"/>
          <p:cNvPicPr/>
          <p:nvPr/>
        </p:nvPicPr>
        <p:blipFill>
          <a:blip r:embed="rId2"/>
          <a:stretch/>
        </p:blipFill>
        <p:spPr>
          <a:xfrm>
            <a:off x="3657600" y="3313080"/>
            <a:ext cx="5486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www.umm.edu/graphics/images/en/18140.jpg"/>
          <p:cNvPicPr/>
          <p:nvPr/>
        </p:nvPicPr>
        <p:blipFill>
          <a:blip r:embed="rId1"/>
          <a:stretch/>
        </p:blipFill>
        <p:spPr>
          <a:xfrm>
            <a:off x="304920" y="3808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http://www.huidziekten.nl/afbeeldingen/hepatitis-b-1.jpg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smettingsweg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0720"/>
            <a:ext cx="7772400" cy="281628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: besmet voedsel, water met faecalië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 en C: seksueel contact, bloed/- transfusies en  naalden delen door  drugsgebruikers, mensen in de zor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ttp://www.stophepatitis-c.nl/videos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ypen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hepatitis - duurt minder dan zes maanden, de virussen hepatitis A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hronische hepatitis - duurt langer dan zes maanden,  de virussen hepatitis B en 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 acute hepat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oeidheid, algemene malaise, lichte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sselijkheid, slechte eetlust, veranderingen in sm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uk of pijn onder de rechterribben veroorzaakt door een vergrote le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lijke spieren en gewrichten, hoofdpijn, huiduitsla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In de icterusfase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58c1b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vergeling van de witte gedeelten van de ogen, de huid en de slijmvliez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onkere ur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licht gekleurde ontlasting (stopverf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rond deze tijd verdwijnen de andere symptome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erstel: uiteindelijk blijft alleen vermoeidheid over, die langzamerhand verdwijn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8:32:41Z</dcterms:created>
  <dc:creator>Agnieta</dc:creator>
  <dc:description/>
  <dc:language>en-US</dc:language>
  <cp:lastModifiedBy>marlies bouland</cp:lastModifiedBy>
  <cp:lastPrinted>2015-03-20T11:56:38Z</cp:lastPrinted>
  <dcterms:modified xsi:type="dcterms:W3CDTF">2018-09-22T11:48:50Z</dcterms:modified>
  <cp:revision>20</cp:revision>
  <dc:subject/>
  <dc:title>Hepatitis</dc:title>
</cp:coreProperties>
</file>