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22BE2-C885-427A-8FD1-14A531ECBB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s://www.ziekenhuis.nl/ziektebeelden/a/allergie/item608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75DC2-0A8D-4C6F-AD63-8812C170322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AC708F-E489-44CB-BA2D-39B9D641543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IgE staat voor immuunglobuline van klasse E. Deze antistoffen zijn betrokken bij de afweer tegen parasieten en bij allergische reac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RAST: Een RAST-test (radioallergosorbent-test) is een bloedtest om er achter te komen of je </a:t>
            </a:r>
            <a:r>
              <a:rPr b="0" lang="nl-NL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llergisch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bent voor bepaalde stoffen, zoals huisstofmijt of poll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bbelblind: patiënt, nog arts weten wanneer het verdachte voedingsmiddel is g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CF5-D7E1-4BE2-888F-D959D9B3E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27A-095C-4061-BE5E-A94DAF31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5A86-C78F-46CC-AEC3-6553E557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3ED9-B795-4342-8B13-9FFA868C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4CC2-1CF0-49E9-8BA9-E0DCEEE4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8323-1321-46D1-96C7-1AB8E2E1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DBFA-4184-4032-BB36-96B24BF0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2A71-B8F4-4D20-9DA9-B5AB00A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EEA3-4E56-4AEC-BB31-01F1FFD6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80CF-15F5-45BB-848A-4858D16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8612-F398-4D4F-80D1-EF50322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A32-1CD3-4355-B815-043E4834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F413-DE08-42AE-B33A-F8DEB76E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2944-AF38-455F-AAE0-B6995AA4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42BA-3D96-4FF0-9759-8708379A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018E-9736-417A-B5FE-8EE4B519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970-4CB7-4E16-B455-EED9556D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9CE9-FB81-4C49-8A10-5E540EFE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6D9C-74B1-4705-BBE5-4FD7E3E2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CE12-160E-4DAF-916B-1D42B421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433C-CEB8-4338-89DD-F67AE49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C2A9-593B-446F-9E57-5B7CC73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B7F-EFAB-4B12-AEB6-9368C48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53A4-D746-416C-8601-E2958291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16A6-AA69-4DC7-BBA4-F12E4FE9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3A71-10C5-4E0C-9C72-54B0F26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6B35-1C96-4230-A95C-9E0720D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C1FB-F024-4F74-B4E5-3A2C3295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A468-8863-4C9B-ADB8-1240546C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6FC9-7363-4342-85F1-355E8D3A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155C-9C66-4496-8269-C2FC95A4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D30BC-1F53-4FEA-9033-D8C2B32C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D01CA-CA68-4329-B746-40B81C75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109-3D6F-4327-B17F-54AB75A5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941C-7F58-4D22-9D53-26B49BF4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FFCC-BC2B-43CE-AB0F-6A4285D0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D3BC3-BC78-4022-87A0-709ABA39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32FBB-F1B3-45EA-AE63-E427A63F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C3593-5246-4E88-9717-005513CF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0047-DF97-4115-B04B-FAD4216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75F55-1AC1-4014-8A86-EE81E95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E63FA-6AAA-4991-9DF8-3D1B9864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35AD-2BF1-484C-99FC-7313C8DE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D00-5A62-42AC-AC22-2DA229B4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FDF-1169-4348-9EE4-08CCF4C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7ED-4BE0-464B-B154-13A0AC2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2E5F-60F0-4C5E-B162-A5FFC7BE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285-B590-4135-8D0B-0F93188C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D360E-52DB-4BA1-9E52-819D235B17EA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ef53a5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896A1-3843-4F22-B76E-8C1B472854BF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68B45-E205-44A9-8324-972F88936133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31166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b3116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7CBBE-BACA-470E-AFA1-C0EEE25144F1}" type="slidenum"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ebeb"/>
                </a:solidFill>
                <a:latin typeface="Century Gothic"/>
              </a:rPr>
              <a:t>Aandoeningen van het Spijsverteringsstelsel</a:t>
            </a:r>
            <a:endParaRPr b="0" lang="en-US" sz="36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66520" y="5084280"/>
            <a:ext cx="5916600" cy="554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DEEL 1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coho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uderdom: atrofie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rugstromen van gal uit d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fectie met helicobacter pylori bacter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Verschijnsel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 in de bovenbuik, 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l opgeblazen gevoel na weinig e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Reflux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, soms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lies van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fhankelijk oorzaak, onthouding van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wandbeschermers: mucuprotectiv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Gastro-enteriti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en ontsteking van het slijmvlies van maag en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wel buikgriep genoem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een epidemietj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ok door voedselvergiftig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1" name="Afbeelding 3" descr=""/>
          <p:cNvPicPr/>
          <p:nvPr/>
        </p:nvPicPr>
        <p:blipFill>
          <a:blip r:embed="rId1"/>
          <a:stretch/>
        </p:blipFill>
        <p:spPr>
          <a:xfrm>
            <a:off x="5054760" y="4581360"/>
            <a:ext cx="32256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, min of meer water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chte buik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isselijkheid en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erminderde eetlu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estal </a:t>
            </a:r>
            <a:r>
              <a:rPr b="1" lang="nl-NL" sz="2000" spc="-1" strike="noStrike">
                <a:solidFill>
                  <a:srgbClr val="ffffff"/>
                </a:solidFill>
                <a:latin typeface="Century Gothic"/>
              </a:rPr>
              <a:t>geen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virale infec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oms bacterieel (oa.salmon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Century Gothic"/>
              </a:rPr>
              <a:t>Dehydratie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(uitdroging),  vooral 0-2 jarigen en de zeer ouden van da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rschijnselen van uitdroging zij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roge mond, lipp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og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Ingevallen fontanel(baby’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uilen zonder tra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inder urin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rikkelbaar/agressief of  suf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at vaak vanzelf ov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ten is niet nodi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rinken heel belangrij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o nodig ORS (een water, zouten en glucose oplossing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oede (extra) hygiëne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event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derzoek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eceskwe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Maagzweer / Ulcus Pepticum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79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282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83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licobacter pylori,  een bacterie(&gt;60%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SAID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e hoge zoutzuurproductie en/of slechte kwaliteit van het 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, hevige stres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evige pijn in de bovenbuik, bij ulcus ventriculi, vooral na het et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Veel oprispingen / boer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peekselvlo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Hongergevoel / hongerpijn, vooral bij ulcus duoden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Trage stoelga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Slecht verdragen van sommige voedingsmiddelen, o.a. koffie, alcohol, pittig e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llergie - Intoleran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: jeuk, uitslag, galbulten, oedee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uchtwegen: astma(piepen,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rtademigheid), neus- en/of oog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ond: prikkelend gevoel in de mond, braken, misselijk, diarree, verstopp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art- en vaatstelsel: anafylactische shoc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dere :excessief huilen (baby)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eiachterstand, gedragsklachten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5" name="Afbeelding 2" descr=""/>
          <p:cNvPicPr/>
          <p:nvPr/>
        </p:nvPicPr>
        <p:blipFill>
          <a:blip r:embed="rId1"/>
          <a:stretch/>
        </p:blipFill>
        <p:spPr>
          <a:xfrm>
            <a:off x="6443640" y="4365720"/>
            <a:ext cx="20494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: gastrosco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89" name="Picture 3" descr="908310220313257"/>
          <p:cNvPicPr/>
          <p:nvPr/>
        </p:nvPicPr>
        <p:blipFill>
          <a:blip r:embed="rId1"/>
          <a:stretch/>
        </p:blipFill>
        <p:spPr>
          <a:xfrm>
            <a:off x="4732200" y="3382920"/>
            <a:ext cx="3721320" cy="2984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658800" y="3648240"/>
            <a:ext cx="3429000" cy="2720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gastroscopie"/>
          <p:cNvPicPr/>
          <p:nvPr/>
        </p:nvPicPr>
        <p:blipFill>
          <a:blip r:embed="rId3"/>
          <a:stretch/>
        </p:blipFill>
        <p:spPr>
          <a:xfrm>
            <a:off x="3132000" y="1928880"/>
            <a:ext cx="21891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Faeceskweek om te kijken of de bacterie  helicobacter pylori aanwezig is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Complicatie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bloeding :hematemesis en melae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oor de chronische prikkeling: maagkank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perforatie m.a.g. periton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ittekenvorming, mag een stenose en daardoor ontledigingsproblemen, projectiel bra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, afh. oorzaa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oppen m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edingsproducten die de klachten verergeren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tibiotica in combinatie met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agzuurbindende middelen(antacid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ress vermij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Hernia diafragmatica 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ynoniemen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Hiatus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Sliding herni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Middenrifbreuk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Omschrijving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De opening tussen borst- en buikholte is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entury Gothic"/>
              </a:rPr>
              <a:t>wijder dan normaal waardoor de maag voor een deel de borstholte inglijd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80000"/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9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Klachten door omhoog stromen van de maaginhoud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aak geen klachten, 40%  van de mensen boven de 60 jaar heeft het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uurbrand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ïrriteerde ke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stklach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, branderig gevoel achter het borstbeen, soms uitstralend naar de ru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ebeb"/>
                </a:solidFill>
                <a:latin typeface="Century Gothic"/>
              </a:rPr>
              <a:t>Complicatie: slokdarmontsteking</a:t>
            </a: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314" name="Picture 3" descr="foto02mini"/>
          <p:cNvPicPr/>
          <p:nvPr/>
        </p:nvPicPr>
        <p:blipFill>
          <a:blip r:embed="rId1"/>
          <a:stretch/>
        </p:blipFill>
        <p:spPr>
          <a:xfrm>
            <a:off x="231840" y="225900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624560" y="2259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4572000" y="4149720"/>
            <a:ext cx="256392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: slikfoto’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astroscopi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4788000" y="256536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Therapi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en: maagsapsecretieremm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eefregels:* boveneinde bed 10 cm omhoo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 voeding aanpassen(vetarm, geen alcohol, chocola,pepermunt, scherpe kruiden, citrusvruchten)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*niet rok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peratie , als bovenstaande niet help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2" name="Picture 3" descr="264px-Barretts_esophagus"/>
          <p:cNvPicPr/>
          <p:nvPr/>
        </p:nvPicPr>
        <p:blipFill>
          <a:blip r:embed="rId1"/>
          <a:stretch/>
        </p:blipFill>
        <p:spPr>
          <a:xfrm>
            <a:off x="6300720" y="4254480"/>
            <a:ext cx="2401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namnese en lichamelijk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loedonderzoek: IGE, RA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uidprikte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rik-priktest:eerst in product, dan in 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liminatie-Provocatie test (koemelk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ubbelblind placebo onderzoe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Behandeling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eglaten van de voedingsmiddelen waarop wordt gereageerd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pipen, Anapen, dit zijn met adrenaline gevulde injectiepe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Acute Buik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e spreekt van een acute buik bij een plotselinge, mogelijk levensbedreigende, buikaandoening. Vaak gaat het om een ernstige acute ontsteking aan de organen in je buik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t is belangrijk om snel te handelen en direct contact op te nemen met een art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6728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orza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cute Ontstekingen: appendicitis,  peritonitis, cholecystitis, pancreatitis, ovariitis/adnexit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l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erforatie van holle organen: maag, darm, galblaas, bloedva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efrolithiasis (nierstenen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xtra-uteriene gravidite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Symptom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vige pijn, druk- en loslaatpij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raken, misselijkhe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Diarre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Koort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nkharde buik (défense musculair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ymptomen passend bij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200" spc="-1" strike="noStrike">
                <a:solidFill>
                  <a:srgbClr val="ebebeb"/>
                </a:solidFill>
                <a:latin typeface="Century Gothic"/>
              </a:rPr>
              <a:t>Onderzoeke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f9d8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X Röntg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T-sc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Echoscop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Therapi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ltijd in een ziekenhu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richt op het behandelen van de oorzaak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ijnbestrijding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f53a5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7200" spc="-1" strike="noStrike">
                <a:solidFill>
                  <a:srgbClr val="ebebeb"/>
                </a:solidFill>
                <a:latin typeface="Century Gothic"/>
              </a:rPr>
              <a:t>Gastritis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ec76b5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ef53a5"/>
                </a:solidFill>
                <a:latin typeface="Century Gothic"/>
              </a:rPr>
              <a:t>ONTSTEKING VAN HET MAAGSLIJMVL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46594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1547640" y="557280"/>
            <a:ext cx="264816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Marlies Bouland</cp:lastModifiedBy>
  <dcterms:modified xsi:type="dcterms:W3CDTF">2018-03-15T19:26:23Z</dcterms:modified>
  <cp:revision>33</cp:revision>
  <dc:subject/>
  <dc:title>Aandoeningen van het Spijsverteringsstelsel</dc:title>
</cp:coreProperties>
</file>