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BF68-6F72-4F34-9C57-3399C920F94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34D8-FA33-4156-9FF3-1A5D4D2BD66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FE8-0ACF-4420-92E8-6B6BB629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AD4-75C4-4E98-B9E1-71E8D502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1DF6-EE18-4D8E-A39B-B7480D60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AE8-1012-4D27-BA86-4252B739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1DF5-F912-4079-B31C-97735860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37B-5F8E-45D5-ADC9-CA71A8F7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66AB-E3CB-4872-8C0C-663EB3E5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837-997D-4BBC-9FEC-153757E3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D02-B8E8-4F38-81E2-A4C53909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3129-C9B2-4ECE-9F89-4E414F91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C995-C2D7-4C39-B9C6-607FFE76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9A1-791B-4BF8-B385-72584F9E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9AA90-39B1-4905-BD71-7AEDF5CC573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ed-info.nl/images/images_algemeen/Diverticulitis_00.jpg" TargetMode="External"/><Relationship Id="rId2" Type="http://schemas.openxmlformats.org/officeDocument/2006/relationships/hyperlink" Target="http://www.med-info.nl/images/images_algemeen/Diverticulitis_00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andoeningen van het Spijsverteringsstel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aandoening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iverticu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eking van een divertikel in linker deel van de dikk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15"/>
          <p:cNvGrpSpPr/>
          <p:nvPr/>
        </p:nvGrpSpPr>
        <p:grpSpPr>
          <a:xfrm>
            <a:off x="1371600" y="1306440"/>
            <a:ext cx="9144000" cy="5551560"/>
            <a:chOff x="1371600" y="1306440"/>
            <a:chExt cx="9144000" cy="5551560"/>
          </a:xfrm>
        </p:grpSpPr>
        <p:sp>
          <p:nvSpPr>
            <p:cNvPr id="73" name="Rectangle 14"/>
            <p:cNvSpPr/>
            <p:nvPr/>
          </p:nvSpPr>
          <p:spPr>
            <a:xfrm>
              <a:off x="1371600" y="1306440"/>
              <a:ext cx="9144000" cy="555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Group 13"/>
            <p:cNvGrpSpPr/>
            <p:nvPr/>
          </p:nvGrpSpPr>
          <p:grpSpPr>
            <a:xfrm>
              <a:off x="1371600" y="1306440"/>
              <a:ext cx="9144000" cy="5551560"/>
              <a:chOff x="1371600" y="1306440"/>
              <a:chExt cx="9144000" cy="5551560"/>
            </a:xfrm>
          </p:grpSpPr>
          <p:sp>
            <p:nvSpPr>
              <p:cNvPr id="75" name="Rectangle 2"/>
              <p:cNvSpPr/>
              <p:nvPr/>
            </p:nvSpPr>
            <p:spPr>
              <a:xfrm>
                <a:off x="1371600" y="1306440"/>
                <a:ext cx="55720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Group 12"/>
              <p:cNvGrpSpPr/>
              <p:nvPr/>
            </p:nvGrpSpPr>
            <p:grpSpPr>
              <a:xfrm>
                <a:off x="1371600" y="1306440"/>
                <a:ext cx="9144000" cy="5551560"/>
                <a:chOff x="1371600" y="1306440"/>
                <a:chExt cx="9144000" cy="5551560"/>
              </a:xfrm>
            </p:grpSpPr>
            <p:sp>
              <p:nvSpPr>
                <p:cNvPr id="77" name="Rectangle 3"/>
                <p:cNvSpPr/>
                <p:nvPr/>
              </p:nvSpPr>
              <p:spPr>
                <a:xfrm>
                  <a:off x="1371600" y="1306440"/>
                  <a:ext cx="9144000" cy="5551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" name="Group 11"/>
                <p:cNvGrpSpPr/>
                <p:nvPr/>
              </p:nvGrpSpPr>
              <p:grpSpPr>
                <a:xfrm>
                  <a:off x="1371600" y="1306440"/>
                  <a:ext cx="4665600" cy="1403280"/>
                  <a:chOff x="1371600" y="1306440"/>
                  <a:chExt cx="4665600" cy="1403280"/>
                </a:xfrm>
              </p:grpSpPr>
              <p:grpSp>
                <p:nvGrpSpPr>
                  <p:cNvPr id="79" name="Group 9"/>
                  <p:cNvGrpSpPr/>
                  <p:nvPr/>
                </p:nvGrpSpPr>
                <p:grpSpPr>
                  <a:xfrm>
                    <a:off x="1371600" y="1306440"/>
                    <a:ext cx="4665600" cy="1403280"/>
                    <a:chOff x="1371600" y="1306440"/>
                    <a:chExt cx="4665600" cy="1403280"/>
                  </a:xfrm>
                </p:grpSpPr>
                <p:sp>
                  <p:nvSpPr>
                    <p:cNvPr id="80" name="Rectangle 8"/>
                    <p:cNvSpPr/>
                    <p:nvPr/>
                  </p:nvSpPr>
                  <p:spPr>
                    <a:xfrm>
                      <a:off x="1371600" y="1306440"/>
                      <a:ext cx="4665600" cy="1403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1" name="Group 7"/>
                    <p:cNvGrpSpPr/>
                    <p:nvPr/>
                  </p:nvGrpSpPr>
                  <p:grpSpPr>
                    <a:xfrm>
                      <a:off x="1371600" y="1306440"/>
                      <a:ext cx="4665600" cy="1403280"/>
                      <a:chOff x="1371600" y="1306440"/>
                      <a:chExt cx="4665600" cy="1403280"/>
                    </a:xfrm>
                  </p:grpSpPr>
                  <p:sp>
                    <p:nvSpPr>
                      <p:cNvPr id="82" name="Rectangle 4"/>
                      <p:cNvSpPr/>
                      <p:nvPr/>
                    </p:nvSpPr>
                    <p:spPr>
                      <a:xfrm>
                        <a:off x="1371600" y="1306440"/>
                        <a:ext cx="4665600" cy="1403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 fontScale="99000"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nl-NL" sz="900" spc="-1" strike="noStrike" u="sng">
                            <a:solidFill>
                              <a:srgbClr val="ccccff"/>
                            </a:solidFill>
                            <a:uFillTx/>
                            <a:latin typeface="Times New Roman"/>
                            <a:hlinkClick r:id="rId1"/>
                          </a:rPr>
                          <a:t>  </a:t>
                        </a:r>
                        <a:r>
                          <a:rPr b="0" lang="nl-NL" sz="8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</a:t>
                        </a:r>
                        <a:r>
                          <a:rPr b="0" lang="nl-NL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                                                      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Rectangle 6"/>
                      <p:cNvSpPr/>
                      <p:nvPr/>
                    </p:nvSpPr>
                    <p:spPr>
                      <a:xfrm>
                        <a:off x="1371600" y="1306440"/>
                        <a:ext cx="4665600" cy="1403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4" name="Rectangle 10"/>
                  <p:cNvSpPr/>
                  <p:nvPr/>
                </p:nvSpPr>
                <p:spPr>
                  <a:xfrm>
                    <a:off x="1371600" y="1306440"/>
                    <a:ext cx="4665600" cy="1403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111111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85" name="Picture 5" descr="Diverticulitis_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746280"/>
            <a:ext cx="63248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 lange aanwezigheid van veel ontlasting in de divertik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ge buikpijn , acuut toenem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ram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, een veranderd ontlasting patr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zette b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bcesv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fo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unstmatige voeding om de darm rust te g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en bij complicaties ope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ritonit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vliesontste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cteriën  (sep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berkelbacil geeft vaak chronische ontste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emisch via een perfo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chanisch: achter gebleven materia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itoneale dialy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 soms ook koude rill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hockverschijnselen:dorst, klamme huid, zweten,weinig urineproductie,snelle pols, verlaagde bloeddr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hou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ppendic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verticu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lithia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B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week van buikvo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aandoening kan levensbedreigend zij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oorzaak aanpa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oliekpijn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st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www.rijndejonge.nl/images/voeding/galstenen2.jpg"/>
          <p:cNvPicPr/>
          <p:nvPr/>
        </p:nvPicPr>
        <p:blipFill>
          <a:blip r:embed="rId1"/>
          <a:stretch/>
        </p:blipFill>
        <p:spPr>
          <a:xfrm>
            <a:off x="185760" y="1747800"/>
            <a:ext cx="3925800" cy="295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upload.wikimedia.org/wikipedia/commons/9/92/Galstenen.jpg"/>
          <p:cNvPicPr/>
          <p:nvPr/>
        </p:nvPicPr>
        <p:blipFill>
          <a:blip r:embed="rId2"/>
          <a:stretch/>
        </p:blipFill>
        <p:spPr>
          <a:xfrm>
            <a:off x="4267080" y="620640"/>
            <a:ext cx="4876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 en Gevol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 in aanvallen optredend tengevolge van  spierkrampen van glad spierweefsel gepaard gaand met bewegingsdrang, misselijkheid en braken, soms ook diar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stralend naar de rug en/of schou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cholelith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, toevalsbev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ge pijn in de bovenbuik na vet eten,idem wat missel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 gevoel na vetrijk e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derigheid(flatulenti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eren (ruct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kleurde ontlas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us.123rf.com/400wm/400/400/alila/alila1104/alila110400002/9245821-galstenen-eps8.jpg"/>
          <p:cNvPicPr/>
          <p:nvPr/>
        </p:nvPicPr>
        <p:blipFill>
          <a:blip r:embed="rId1"/>
          <a:stretch/>
        </p:blipFill>
        <p:spPr>
          <a:xfrm>
            <a:off x="1468440" y="28440"/>
            <a:ext cx="6877080" cy="687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3603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CP( via endoscoop in de galwegen kijken, kleine steentjes kunnen gelijk verwijderd worden) Endoscopische Retrograde Cholangeo-Pancreatograf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http://www.chirurgenoperatie.nl/pagina/buik_algemeen/foto/galblaas.gif"/>
          <p:cNvPicPr/>
          <p:nvPr/>
        </p:nvPicPr>
        <p:blipFill>
          <a:blip r:embed="rId1"/>
          <a:stretch/>
        </p:blipFill>
        <p:spPr>
          <a:xfrm>
            <a:off x="136440" y="981000"/>
            <a:ext cx="4145040" cy="3743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www.huisdokteronline.nl/images/Galstenen%201.jpg"/>
          <p:cNvPicPr/>
          <p:nvPr/>
        </p:nvPicPr>
        <p:blipFill>
          <a:blip r:embed="rId2"/>
          <a:stretch/>
        </p:blipFill>
        <p:spPr>
          <a:xfrm>
            <a:off x="4281480" y="331776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www.kiesbeter.nl/object_binary/o2011.jpg"/>
          <p:cNvPicPr/>
          <p:nvPr/>
        </p:nvPicPr>
        <p:blipFill>
          <a:blip r:embed="rId3"/>
          <a:stretch/>
        </p:blipFill>
        <p:spPr>
          <a:xfrm>
            <a:off x="4264200" y="260280"/>
            <a:ext cx="4217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ppendicit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eking van het wormvormig aanhang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appendix vermiformis) aan de blind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Risicofactoren voor galsteenvo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atty, fourty, fairy fe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ouwelijk geslac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ven de veertig j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vergewic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nd wordt soms ook als kenmerk genoe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van galste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cys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galwe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papil van Vater m.a.g. ook een pancre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blaasperforatie m.a.g.een 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peratieve verwij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5" descr="http://www.chirurgenspijkenisse.nl/wp-content/uploads/2010/05/galblaas3.jpg"/>
          <p:cNvPicPr/>
          <p:nvPr/>
        </p:nvPicPr>
        <p:blipFill>
          <a:blip r:embed="rId1"/>
          <a:stretch/>
        </p:blipFill>
        <p:spPr>
          <a:xfrm>
            <a:off x="1619280" y="2133720"/>
            <a:ext cx="604836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47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weinig klachten voeding aan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CP bij kleine steent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cystectomie (galblaasverwijdering) door laparoscopie of door een conventionele ope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ijdens aanval supp of im-injectie met een NSAID of een spasmolytic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"/>
          <p:cNvGrpSpPr/>
          <p:nvPr/>
        </p:nvGrpSpPr>
        <p:grpSpPr>
          <a:xfrm>
            <a:off x="0" y="1636560"/>
            <a:ext cx="9144000" cy="3450960"/>
            <a:chOff x="0" y="1636560"/>
            <a:chExt cx="9144000" cy="3450960"/>
          </a:xfrm>
        </p:grpSpPr>
        <p:sp>
          <p:nvSpPr>
            <p:cNvPr id="55" name="Rectangle 2"/>
            <p:cNvSpPr/>
            <p:nvPr/>
          </p:nvSpPr>
          <p:spPr>
            <a:xfrm>
              <a:off x="0" y="1636560"/>
              <a:ext cx="568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Group 6"/>
            <p:cNvGrpSpPr/>
            <p:nvPr/>
          </p:nvGrpSpPr>
          <p:grpSpPr>
            <a:xfrm>
              <a:off x="0" y="1656720"/>
              <a:ext cx="9144000" cy="3430800"/>
              <a:chOff x="0" y="1656720"/>
              <a:chExt cx="9144000" cy="3430800"/>
            </a:xfrm>
          </p:grpSpPr>
          <p:sp>
            <p:nvSpPr>
              <p:cNvPr id="57" name="Rectangle 3"/>
              <p:cNvSpPr/>
              <p:nvPr/>
            </p:nvSpPr>
            <p:spPr>
              <a:xfrm>
                <a:off x="22320" y="1676520"/>
                <a:ext cx="9099360" cy="33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0" tIns="0" bIns="33480" anchor="t">
                <a:normAutofit fontScale="98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nl-NL" sz="223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nl-NL" sz="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5"/>
              <p:cNvSpPr/>
              <p:nvPr/>
            </p:nvSpPr>
            <p:spPr>
              <a:xfrm>
                <a:off x="0" y="1656720"/>
                <a:ext cx="9144000" cy="3430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9" name="Picture 4" descr="Appendicitis Illustratie - Ontsteking van het aanhangsel"/>
          <p:cNvPicPr/>
          <p:nvPr/>
        </p:nvPicPr>
        <p:blipFill>
          <a:blip r:embed="rId1"/>
          <a:stretch/>
        </p:blipFill>
        <p:spPr>
          <a:xfrm>
            <a:off x="2438280" y="1600200"/>
            <a:ext cx="4492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van de appendix door ingedikt fa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door zwelling van het omringende lymfeweef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pijn, vaak rond de navel beginnend en later afzakkend naar rechts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nneer het buikvlies wordt geprikkeld een hevige pijn ,doodstil lig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eet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van te voren wat diaree  en kleine buikpijnaanvallet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amelijk onderzoek, druk-loslaat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B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aan van een ab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foratie, gevolgd door een 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p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ppendectom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2:11:41Z</dcterms:created>
  <dc:creator>Agnieta</dc:creator>
  <dc:description/>
  <dc:language>en-US</dc:language>
  <cp:lastModifiedBy>Marlies Bouland</cp:lastModifiedBy>
  <dcterms:modified xsi:type="dcterms:W3CDTF">2018-03-13T13:29:39Z</dcterms:modified>
  <cp:revision>18</cp:revision>
  <dc:subject/>
  <dc:title>Aandoeningen van het Spijsverteringskanaal</dc:title>
</cp:coreProperties>
</file>