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47C2-D1B1-42CE-B28F-F9FA8B35E18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A5E7-A13D-4F2D-9028-6D0E4CD037A0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2A0-0FB6-4295-9BBD-861CF683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128-06BC-42BD-8894-4D2CFEA7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408-5F85-4A35-9802-95BA6245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D7D2-3E0B-4F2F-B61E-E09F7FB0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80A-3EF3-41FE-A5E6-5B6D734D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0E84-7554-4511-A86B-F033C63F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970E-6CCC-44AA-A25C-BA07635D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8185-4D40-422C-BF5D-8D5569D1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AEC0-E54C-4766-80DF-226EC20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A347-2DCC-4C57-A237-6635E468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8BF8-4032-467F-9E93-129A10BB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716-0CDB-4003-80AA-2767DB2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9A74-5BAB-4552-B01E-F89384DF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3DB3-91AE-4558-BFB3-D4A9F283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3F3A-B4E7-4F56-9F23-D055D3D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16AB-173C-430B-9C36-58863F61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9226-2507-4897-B9F6-A34DB6CD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0AC-2303-4262-8896-471BC9E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05F-1E8B-433D-801D-41133A7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581-678D-42BE-AE72-9A69BEC1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35B-B11C-43B3-9DB4-2A746689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0E5-AC6E-4F80-BCC4-04B1DA14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0A2-CA2C-4308-A1FE-17C4280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3EA-37D6-4331-9148-8F2F4005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1029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1030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1031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1032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038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040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041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043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1044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1046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1047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1048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1049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1050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1051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1052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1053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1054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1055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1056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1057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1058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1059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1060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1061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1062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1063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1064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1065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1066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1067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1068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69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70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71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72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73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74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75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76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77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078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079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080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081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082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083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084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085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086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1087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1088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A158-EA66-4264-9C7A-25CCC7681F1E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2DFB-B4BD-40A5-B338-F9FC885F5B8F}" type="slidenum">
              <a:rPr b="0" lang="nl-N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ker en dunnere ontlasting dan norm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iet zelden waterd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stal buikkram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5" descr="darmen5"/>
          <p:cNvPicPr/>
          <p:nvPr/>
        </p:nvPicPr>
        <p:blipFill>
          <a:blip r:embed="rId1"/>
          <a:stretch/>
        </p:blipFill>
        <p:spPr>
          <a:xfrm>
            <a:off x="5410080" y="42670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tinkende en/of brij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uurt vaak langer dan 10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oral mensen die naar (sub) topen zijn gewe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ndere oorzak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cute blindedarmonsteking (appendiciti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rikkelbare darmsyndro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Ziekte van Croh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f andere (chronische) darmziek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medicijn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nlangs gebrui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SA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hypertensi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gox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ti-epileptic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heofylline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routine bij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, frequente diarree langer dan 3 da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Jonger dan 2, ouder dan 70 langer dan 1 dag of koorts boven 39 g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 gebruik: acpil, lithium, digoxine, diuretica, anti epileptica = overleg h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minderde weersta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rkzaam in voedselbereiding, verpleging of verzor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Triage  dringend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rend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xtreme dor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eiging tot flauwval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uf, verwar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Diarree (2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DV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 meer dan anders (liever geen vruchtensap, lightprod. of frisdrank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et naar behoef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: borst of flesvoeding gewoon voortzetten (niet verdunn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trouwbaarheid OAC is niet gewaarborgd, maatregelen n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Hygi</a:t>
            </a:r>
            <a:r>
              <a:rPr b="0" lang="nl-NL" sz="4400" spc="-1" strike="noStrike">
                <a:solidFill>
                  <a:srgbClr val="003366"/>
                </a:solidFill>
                <a:latin typeface="Times New Roman"/>
              </a:rPr>
              <a:t>ë</a:t>
            </a: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n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8110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Handen goed wassen na toiletbezoek of verzorgen van kinderen met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wissel bij baby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 vaak de lu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Reinig wc (deurkrukken!), bekers, keukengerei steeds na gebrui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angnetadvi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eer contact opnemen bij langer dan 3 dgn waterdunne diarre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inderen onder de 2 jaar, volw. van 70 jr of ouder: contact opnemen bij langer dan 1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rger ziek vo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Geneesmiddelen tegen diarre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Loperamid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Loperamide"/>
          <p:cNvPicPr/>
          <p:nvPr/>
        </p:nvPicPr>
        <p:blipFill>
          <a:blip r:embed="rId1"/>
          <a:stretch/>
        </p:blipFill>
        <p:spPr>
          <a:xfrm>
            <a:off x="838080" y="3886200"/>
            <a:ext cx="4000680" cy="213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imagem"/>
          <p:cNvPicPr/>
          <p:nvPr/>
        </p:nvPicPr>
        <p:blipFill>
          <a:blip r:embed="rId2"/>
          <a:stretch/>
        </p:blipFill>
        <p:spPr>
          <a:xfrm>
            <a:off x="6400800" y="4038480"/>
            <a:ext cx="17146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Acute diarree/gastro-enterit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a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erie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oedsel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aras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Andere oorz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dicijn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operamide heeft een remmende werking. Vermindert in de eerste 2 dagen de frequenti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kort de ziekteduur ni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werking: obstip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geen effect bij kinderen jonger dan 8 ja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ag niet gebruikt worden bij koorts/ bloed-en slijm bijmeng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.R.S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j gevaar vo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uitdro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4" descr="1-ORS"/>
          <p:cNvPicPr/>
          <p:nvPr/>
        </p:nvPicPr>
        <p:blipFill>
          <a:blip r:embed="rId1"/>
          <a:stretch/>
        </p:blipFill>
        <p:spPr>
          <a:xfrm>
            <a:off x="4775040" y="2286000"/>
            <a:ext cx="3740400" cy="4218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attachment"/>
          <p:cNvPicPr/>
          <p:nvPr/>
        </p:nvPicPr>
        <p:blipFill>
          <a:blip r:embed="rId2"/>
          <a:stretch/>
        </p:blipFill>
        <p:spPr>
          <a:xfrm>
            <a:off x="977760" y="3213000"/>
            <a:ext cx="30862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iraal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ook wel buikgriep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irussen worden uitgescheiden en verspreid via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esmett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s kleine epidemie ( bv gezin of peuterspeelzaal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symptome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dunne/brijachtige ontl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dere keren per d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uikpijn/misselij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innen enkele dagen vanzelf weer 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eer drinken (gewoon et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bruik medicijnen meestal niet nodi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Bacteri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Water of voedsel besm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loed en of slij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aak Campylobacter , Salmone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campylobacter"/>
          <p:cNvPicPr/>
          <p:nvPr/>
        </p:nvPicPr>
        <p:blipFill>
          <a:blip r:embed="rId1"/>
          <a:stretch/>
        </p:blipFill>
        <p:spPr>
          <a:xfrm>
            <a:off x="1447920" y="2209680"/>
            <a:ext cx="2457360" cy="1965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ww-ei_clip_image004"/>
          <p:cNvPicPr/>
          <p:nvPr/>
        </p:nvPicPr>
        <p:blipFill>
          <a:blip r:embed="rId2"/>
          <a:stretch/>
        </p:blipFill>
        <p:spPr>
          <a:xfrm>
            <a:off x="5715000" y="2362320"/>
            <a:ext cx="2160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3" name="Picture 4" descr="darmen5"/>
          <p:cNvPicPr/>
          <p:nvPr/>
        </p:nvPicPr>
        <p:blipFill>
          <a:blip r:embed="rId1"/>
          <a:stretch/>
        </p:blipFill>
        <p:spPr>
          <a:xfrm>
            <a:off x="287172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voedselvergiftig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Sommige bacteri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ë</a:t>
            </a: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n produceren toxines = giftige stoff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iarree binnen enkele uren na innemen voeds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ok misselijkheid en brak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Bact. vooral bij schaaldieren kip, rundvlees, melk, salad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Verdana"/>
              </a:rPr>
              <a:t>parasie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platwo10"/>
          <p:cNvPicPr/>
          <p:nvPr/>
        </p:nvPicPr>
        <p:blipFill>
          <a:blip r:embed="rId1"/>
          <a:stretch/>
        </p:blipFill>
        <p:spPr>
          <a:xfrm>
            <a:off x="5181480" y="2743200"/>
            <a:ext cx="2754360" cy="3505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hookworm"/>
          <p:cNvPicPr/>
          <p:nvPr/>
        </p:nvPicPr>
        <p:blipFill>
          <a:blip r:embed="rId2"/>
          <a:stretch/>
        </p:blipFill>
        <p:spPr>
          <a:xfrm>
            <a:off x="1523880" y="2666880"/>
            <a:ext cx="27212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21:03:04Z</dcterms:created>
  <dc:creator>Henk Hermsen</dc:creator>
  <dc:description/>
  <dc:language>en-US</dc:language>
  <cp:lastModifiedBy>Uw naam</cp:lastModifiedBy>
  <dcterms:modified xsi:type="dcterms:W3CDTF">2016-03-30T13:18:25Z</dcterms:modified>
  <cp:revision>9</cp:revision>
  <dc:subject/>
  <dc:title>DIARREE</dc:title>
</cp:coreProperties>
</file>