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38C-7918-417D-BC7D-CDDDD5B1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488-895C-4A00-9165-0F15BFC0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5C4-CC51-4667-A9EF-5DDF1816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17BE-9746-46CF-A450-74BFD54A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EA4-E8BC-4074-B233-80CA508A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89EA-D949-4CEF-A7BB-D5AD43C3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B1E-514C-4D26-AE43-B7CA8CC5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85A-12A9-4D95-B800-EA82D6CA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823-B7E5-47AC-AE82-F4673475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4840-B0A8-435D-8BAE-DDE7CC8A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0CB-5193-4E0A-9518-FAFEA61E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75C-3F46-469E-81F2-9510FCD5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5B8A-1C79-479D-BB8E-9C305962CF0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bstip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finitie: Ontlasting komt minder vaak dan normaal en is hard(minder dan 3 maal per week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volg: Versto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5" descr="obstipatie"/>
          <p:cNvPicPr/>
          <p:nvPr/>
        </p:nvPicPr>
        <p:blipFill>
          <a:blip r:embed="rId1"/>
          <a:stretch/>
        </p:blipFill>
        <p:spPr>
          <a:xfrm>
            <a:off x="468360" y="4292640"/>
            <a:ext cx="226224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lume vergrotende middel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ullen de darmen, bevatten onverteerbare vezels, die vocht vast houden. Ontlasting wordt zachter. Vaak ter voorbereiding op een onderzoek (Klean Prep) waarbij de darm helemaal leeg moet zij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bstipatie bij kindere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kind voelt de aandrang niet go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lasprobl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leg kan een oorzaak zij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oms spastische darm(lagere schoolleeftij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omplicati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leus: Darmobstructie. Hierbij treed er een afsluiting van de darm op, hevige koliek pijn, braken, opgezette bu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vaginatie ”: Bij kinderen zal een deel van de darm uitstulpen in het naastgelegen gedeelte van de darm. Dit verzoorzaakt obstruc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nvagin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7" descr="o1844"/>
          <p:cNvPicPr/>
          <p:nvPr/>
        </p:nvPicPr>
        <p:blipFill>
          <a:blip r:embed="rId1"/>
          <a:stretch/>
        </p:blipFill>
        <p:spPr>
          <a:xfrm>
            <a:off x="5135400" y="1333440"/>
            <a:ext cx="3438720" cy="4608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N-205-nlImgImage_2"/>
          <p:cNvPicPr/>
          <p:nvPr/>
        </p:nvPicPr>
        <p:blipFill>
          <a:blip r:embed="rId2"/>
          <a:stretch/>
        </p:blipFill>
        <p:spPr>
          <a:xfrm>
            <a:off x="536400" y="1268280"/>
            <a:ext cx="356400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meconium_ileus2"/>
          <p:cNvPicPr/>
          <p:nvPr/>
        </p:nvPicPr>
        <p:blipFill>
          <a:blip r:embed="rId1"/>
          <a:stretch/>
        </p:blipFill>
        <p:spPr>
          <a:xfrm>
            <a:off x="1332000" y="1484280"/>
            <a:ext cx="6840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5" descr="MecIleus-PerforationAP"/>
          <p:cNvPicPr/>
          <p:nvPr/>
        </p:nvPicPr>
        <p:blipFill>
          <a:blip r:embed="rId1"/>
          <a:stretch/>
        </p:blipFill>
        <p:spPr>
          <a:xfrm>
            <a:off x="2495520" y="549360"/>
            <a:ext cx="520056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Triag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outin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magering en verminderde eetl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oed en/of slijm ontla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fwisseling diarree en obstip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hronische ziek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bstipatie door medicatie: overl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bstipatie langer dan 3 weken: dan overl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Triage: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ringend: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Rectaal bloedverlies dat aanhou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rnstig zi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Spoed: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Braken en hevige buikpij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rectum-ptt_NL"/>
          <p:cNvPicPr/>
          <p:nvPr/>
        </p:nvPicPr>
        <p:blipFill>
          <a:blip r:embed="rId1"/>
          <a:stretch/>
        </p:blipFill>
        <p:spPr>
          <a:xfrm>
            <a:off x="1619280" y="1197000"/>
            <a:ext cx="538308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bstipatie bij volwasse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rzak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e weinig vezels in de voeding /Te weinig drinken/ Te weinig bewe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dicijnen die verstopping veroorza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ijzerpillen, morf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tress/ ophouden van ontlasting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hronische (darm)ziektes, darmkan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sychologische problemati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en oorzaak bek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ymptome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e weinig ontlasting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uikpij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geblazen gevo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asvorming, loze aandra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ek aan eetl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uikkram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obstipatie_150137"/>
          <p:cNvPicPr/>
          <p:nvPr/>
        </p:nvPicPr>
        <p:blipFill>
          <a:blip r:embed="rId1"/>
          <a:stretch/>
        </p:blipFill>
        <p:spPr>
          <a:xfrm>
            <a:off x="1590840" y="1100160"/>
            <a:ext cx="59623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Advi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zonde voeding met voldoende vez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zels zorgen ervoor dat de ontlasting vocht vast houdt waardoor er meer en zachtere faeces kom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 vezels: volkoren producten(brood)/ peulvruchten, groentes, fr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inimaal 30 gram per d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,5 – 2 liter water per dag drin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wegen, ten minste een half uur per d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oiletbezoek nooit uitste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handeling met med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obstipatie"/>
          <p:cNvPicPr/>
          <p:nvPr/>
        </p:nvPicPr>
        <p:blipFill>
          <a:blip r:embed="rId1"/>
          <a:stretch/>
        </p:blipFill>
        <p:spPr>
          <a:xfrm>
            <a:off x="2563920" y="692280"/>
            <a:ext cx="53146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Drie groepen medicijne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ntralaxantia: prikkelen de darmwand, waardoor iemand snel van “kan” poe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B: Dulcolax, microlax, kly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eel gegeven ter voorbereiding OK of darmonderzo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smotische laxantia: Houdt vocht vast, mild werk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volg: Ontlasting wordt zach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B: Lactulos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ag langdurig gebruik worden, ‘s ochtends inne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5:13:38Z</dcterms:created>
  <dc:creator>Rina</dc:creator>
  <dc:description/>
  <dc:language>en-US</dc:language>
  <cp:lastModifiedBy>Marlies Bouland</cp:lastModifiedBy>
  <dcterms:modified xsi:type="dcterms:W3CDTF">2018-04-10T19:49:15Z</dcterms:modified>
  <cp:revision>4</cp:revision>
  <dc:subject/>
  <dc:title>Obstipatie</dc:title>
</cp:coreProperties>
</file>