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40B3-A7B1-4382-8AF7-317941537D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1110-4F3B-452C-BC87-66E41A5BC3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F8D-B204-4C86-B115-2E5EF56C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51C-2F3E-40A1-A613-EBDFE9A8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FDE-41BB-4612-A4AE-08889709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A2A-0B5B-420A-8F89-117A9C4F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7D8C-B48A-4FE3-A83A-84B47622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0B6A-06B8-4460-96CD-B637B1DA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8AF-476E-4B8D-AE79-CBF1FCAC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6C1E-FA61-4F73-B500-18DE90A7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538-9180-4352-B191-EE5683BF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C063-38B1-4CA6-A1B3-C25CAF01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F204-0723-4735-A1B4-DEBE281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026-5CFE-41D7-BF15-C36699E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F76C-6FB9-4A4D-8578-F7BE0C32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C278-3543-4636-88B5-8EABF007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3969-4B8C-472E-B2BC-39122425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E62D-7E48-449B-93A4-172CBAD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22EB-D802-449F-9853-570510485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E50D-FD86-4E42-BC5B-93436BEF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BA5B-904A-47A3-ABAB-42B7EEB3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A372-111A-4E1F-A819-B8E0752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271C-687F-490C-ACE7-65F0CEFA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0EECB-EA18-4EF9-B6C9-04B5DA2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BDA-6388-4C67-8165-9724FFB5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9D0DB-9B14-4142-9B8A-D4FD774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27097-F4E4-45BD-A2BF-4E226F7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15FA-8795-4288-92CF-CA7AE722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6DAF-1EC6-493C-8F22-B35A2B5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638B6-B8BD-418D-840D-55CA85E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5684-0235-4BE3-ADC0-C45D8E14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ABB6A-50D6-46A7-BF5C-C8C72C5C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B2BA8-7601-46F4-8FDB-2A5AF280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28FA-807B-460D-9ADA-3BAE1990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DEB25-DCA6-4F63-A7CE-9D4C9B8A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FE3-9A54-422F-809F-ADB462E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A08A-D428-487F-A309-680E47A2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C463-B585-4635-AEA2-22B9A4D9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CBD9-1018-4AF6-83B3-E8150BDA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1117-8E5E-4D00-BBDD-477ED591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987D5-1F8C-4F0E-9B57-97D9E9B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F647F-86D4-4637-AB70-9B033DD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3E50-74AD-433A-A59D-C916E833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F955E-3D85-4262-A34C-6B01E8F6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9D8A-26D3-4B81-B36A-4A17460E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8BEC3-1404-4E88-AA89-6FAC34FB4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C6B-FA58-40ED-9A27-B33AD2AA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BCB06-27FA-4A86-82A6-12CA2EDF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FC52-D4C3-44F5-91C6-A3B7B2D6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3349A-F40E-48AF-BA60-A40D933A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28BF-CBF9-4DCE-A78F-37BD54CF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1C4FA-BC7F-4262-8D42-ACB2D682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238EB-B098-4264-AE94-F8B8801D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FD329-58CE-46CA-B4BC-C479A31D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E6F6-825A-4562-968D-02603567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3690-EAF0-4B96-8746-9FA3387A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C699B-24A3-4F68-9021-3CD97C65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4BF-A657-4941-8DEC-A75EFFCB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7D689-7276-4978-B8B4-950CB647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A596-23D3-427B-80A4-EF49B5DA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2D67-A6CC-4D6D-8E6A-289DC423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8852D-3434-4ED8-93DF-B19EAD99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C478-98B9-47A8-B645-154245BC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8C08-1292-4504-92F2-4E422C4E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2D116-C5CB-4353-AB04-3DA06CC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EAFA9-1D63-4A30-AA96-057D93C3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9A675-3FC2-424C-99FB-B248495E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F4D41-67A2-4A93-BBEA-98BAB512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3DE-0305-48AC-B457-E8715F9D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3294B-58CA-4501-AAE2-6106F37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1BBDB-54B0-4F44-87F1-A3829870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26332-F28C-443C-8B62-19D53C8F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EC4-4DFB-43BF-9494-EBB9065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11D-EF1D-4168-B6B4-7F2ADD55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AFE-117C-4FE2-A4D0-366915718A59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CA73-C07C-4430-BB96-2CA6C3B2104E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D98D-3F24-4F56-82D3-4A8D377C0696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5512-250C-4CDB-9E25-FCBFB2E75AF8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4F3-459F-48DF-A881-06208295A8F0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E338-A539-4AE4-8EE8-58322F8B8D64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047080" cy="1474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fwijkingen aan spieren, pezen en slijmbeurz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rtro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3444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al bij elleboog en kni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ar ook bij heup, schouder en de hiel (achilluspe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en bursa is een met slijm gevuld zakje onder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ursitis van de knie"/>
          <p:cNvPicPr/>
          <p:nvPr/>
        </p:nvPicPr>
        <p:blipFill>
          <a:blip r:embed="rId1"/>
          <a:stretch/>
        </p:blipFill>
        <p:spPr>
          <a:xfrm>
            <a:off x="0" y="2895480"/>
            <a:ext cx="4267080" cy="3413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http://www.menselijk-lichaam.com/wp-content/uploads/slijmbeursontsteking.jpg"/>
          <p:cNvPicPr/>
          <p:nvPr/>
        </p:nvPicPr>
        <p:blipFill>
          <a:blip r:embed="rId2"/>
          <a:stretch/>
        </p:blipFill>
        <p:spPr>
          <a:xfrm>
            <a:off x="4572000" y="53352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wegingsbeper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Ko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oodhei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wel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veel druk op de slijmbeurs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 van een gewricht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en val of een infect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doseerde bewegin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mijden van de overbelasting van het gewrich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 injecti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el 1" descr=""/>
          <p:cNvPicPr/>
          <p:nvPr/>
        </p:nvPicPr>
        <p:blipFill>
          <a:blip r:embed="rId1"/>
          <a:stretch/>
        </p:blipFill>
        <p:spPr>
          <a:xfrm>
            <a:off x="438120" y="11592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de kniehol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: overbelasting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wrichtsziekte :reuma, artr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schijnselen: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lo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veel vloeistof in het gewricht te voelen als een zwell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knie kan niet goed gebogen wor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zwelling onderbeen door stagnatie bloedafvo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381400" y="1238400"/>
            <a:ext cx="43812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an vanzelf overgaan : Gedu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gzuigen van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spuiten van corticosteroïd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iden soms zinv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operatie, cyste komt vaak teru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het kapsel van een gewricht of in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s gevuld met slijmerig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dwijnt meestal vanz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d.m.v. een punctie vocht verwijd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f inspuiten corticosteroï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fwijking komt soms weer terug na  behandeling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el 1" descr=""/>
          <p:cNvPicPr/>
          <p:nvPr/>
        </p:nvPicPr>
        <p:blipFill>
          <a:blip r:embed="rId1"/>
          <a:stretch/>
        </p:blipFill>
        <p:spPr>
          <a:xfrm>
            <a:off x="4286160" y="262080"/>
            <a:ext cx="4602240" cy="1401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-7920" y="69228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85732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4"/>
          <a:stretch/>
        </p:blipFill>
        <p:spPr>
          <a:xfrm>
            <a:off x="4221000" y="3078000"/>
            <a:ext cx="4943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8047080" cy="1504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1905120"/>
            <a:ext cx="7775280" cy="31795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Gewrichtsslijtage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Het gladde kraakbeenoppervlak raakt beschadig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Vooral coxartrose en gonartrose, daarnaast in de wervelkolom en han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enbrel.nl/upload/flash/artrose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swf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youtube.com/watch?v=hzjje-m0s-o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hthoek 1"/>
          <p:cNvSpPr/>
          <p:nvPr/>
        </p:nvSpPr>
        <p:spPr>
          <a:xfrm>
            <a:off x="2305080" y="5952960"/>
            <a:ext cx="63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JrC4DiTysi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hthoek 2"/>
          <p:cNvSpPr/>
          <p:nvPr/>
        </p:nvSpPr>
        <p:spPr>
          <a:xfrm>
            <a:off x="1860480" y="6388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u4371S27E4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365040" y="1908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61760" y="1412640"/>
            <a:ext cx="373356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uis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niselleboog/ -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eesschede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aker-cys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ijmbeurs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Fibromyalg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7960" y="1412640"/>
            <a:ext cx="380988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SI:repetetive strain injury(oude naam) Nu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ans(KANS): complaints of arm, neck and should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picondylitis lateralis humer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dinitis of tendovagin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angl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urs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rtro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ijfhe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rt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beperkingen, minder bewegen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e conditie van de spieren neemt dan af en komt er meer druk op de gewrichten te staan. Hierdoor kunnen de slijmbeurzen weer ontstoken rake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 den duur vorming van botuitsteekse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0954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Animatieplaatje over wat artrose is"/>
          <p:cNvPicPr/>
          <p:nvPr/>
        </p:nvPicPr>
        <p:blipFill>
          <a:blip r:embed="rId1"/>
          <a:stretch/>
        </p:blipFill>
        <p:spPr>
          <a:xfrm>
            <a:off x="1095480" y="885960"/>
            <a:ext cx="6953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Slijtage die van nature ontstaat bij het ouder wor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Overbelasting / overgewic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rhaalde blessur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Ziekten en acute trauma gewri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updysplasi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Erfelijke aanle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In beweging blijven  Rust roe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rticosteroï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Fysiotherapie en ergo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eratie: osteotomie, arthrodese, prothese, arthroscopie om aanhangsels t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verwijd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 in bindweefsel en spi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ke delen reuma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ronisch pijnsyndroom: spierpijn, stijfheid, vermoeidheid, hoofdpij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 onbeke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te doen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pijnstillers, antidepressiva of slaapmiddele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Behandeling in een pijncentrum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Fysio- en oefentherapie Cesar of Mensendieck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vermijden van str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Leefregel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epetitive Strain Inju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lessure door herhaalde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zamelnaam: Spier en gewrichtklacht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, tintelingen, doof gevo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eventie: ergenomie op werkpl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140360" y="2546280"/>
            <a:ext cx="44035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76280" y="585720"/>
            <a:ext cx="798516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pier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ruk op de peesaanhechtingspunt geeft pijnstijg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Moe gevo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perking in activitei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395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026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637400" cy="142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nderliggende aandoening behandel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 / NSAID/corticostero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ïdinjec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efen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Z.n. werk aanpass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Wel aan het werk blijven en anders contact houden met de colle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ntact bedrijfsarts/ -verpleegkundi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gnitieve gedragstherapie: psycholo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cale verdikking van de elleboo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arm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 rond elleboog, toenemend bij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blemen in cervicale wervelkol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is een self-limiting disease (8 – 13 maande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pe, bandages, oefeningen en fysiotherapie geven geen snellere verbet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ndinit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oudering of overbel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: syndroom van De Quervain (Peesschedeontsteking van pol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wegen van duim is pijnlij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rigger Finger: Omhulsels buigpezen vinger zwellen op. Blijft in buigstand staan. Corticosteroiden inspui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, eventueel gips of een spal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een operatie,waarbij de peesschede wordt opengesne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08:33Z</dcterms:created>
  <dc:creator>Agnieta</dc:creator>
  <dc:description/>
  <dc:language>en-US</dc:language>
  <cp:lastModifiedBy>Bouland,M.</cp:lastModifiedBy>
  <dcterms:modified xsi:type="dcterms:W3CDTF">2015-12-10T09:36:44Z</dcterms:modified>
  <cp:revision>25</cp:revision>
  <dc:subject/>
  <dc:title>Reumatische Aandoeningen</dc:title>
</cp:coreProperties>
</file>