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749-8800-4362-826E-725FC939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02E-E16A-448C-9DC2-92DB18DA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D49-F57B-4721-9FAD-FC329E80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338-1E63-4D15-BCD7-56D988F5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864A-2F8F-418D-8CC2-CD52FBC7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7949-1724-46CA-BC2E-86281C7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F092-A4A0-4CCF-9AC4-38FE8FF0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1284-939E-4C85-AF7F-EABE8B8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672F-38DA-49DA-A498-7B57061E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089B-EB53-43F1-B0BA-62D085ED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9E0-76D6-4310-8F74-57A4854D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6A5-3AD5-4ACD-ACF0-7A3C66A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337D-E59A-4F1B-A238-BC35804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AF4-E1FE-480B-9B60-1EF82C8F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86B-3239-4CAD-B24B-ED5EC7FC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898C-BBC0-4D04-9272-39C8242A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6B4B-7DDC-4478-932B-81FBA9D3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1ED5-7C41-4810-9F00-BA6CA841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B102-572C-44A4-B1FA-B15574FB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86E6C-FB4E-47ED-901E-20F11BE7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24898-4FFB-4E42-AD10-50A3605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D696-5968-4597-A821-638D965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ADD-8AE5-498B-A95F-BF0E63F7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0AE8-FCEF-4BF2-B8FE-AA541158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A438-8B74-42DF-972B-6C0BA9DD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91425-4C82-47BE-8326-D7CBA04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72A6-7E8F-4400-BCE4-E4570C3E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8833-26CA-4AA3-B8A2-2917B5F0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346A-0B82-4D91-8D8F-64CECE43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4F1C-28D7-48AE-8549-D0E15C2D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C197-7552-47A0-AC53-29EDE3F3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1ED9F-26C2-4D1F-B8F7-293A2F7A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C12C-7A58-4A53-A108-F9C22F3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4FF-7369-4065-9A06-3B3596C2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8E8CD-BEC1-417D-B31C-5F2DD45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EAF61-4F34-4EB4-959C-4B18FBE2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B24A-497D-4DAC-B6C1-766805B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42D0-C6FE-410D-98DD-EBA1195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081A7-7024-413F-BD5C-3654F72E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132B-5BF8-4060-9776-ED62297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C5FF-9698-43FC-83D6-652B4C4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82F2-F884-438F-82CB-CE5384781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A88A4-376A-41E9-9442-5C39485C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B6C71-EEDF-4E5C-B33E-25BEB89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FEA-09BA-4CC7-9E6A-832AEFAD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F5B1-5380-4B4B-A447-30F7668B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C0AC-6445-423B-9A3B-99F4C6A1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2E83-67AE-42DC-B02F-997D3245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4D4B-B2F2-441D-AC19-EA5A6DAB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33F40-DF84-41DE-AD9B-02A6FF47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E855-EEBC-4B82-A9F3-567E25C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4E430-66EB-4F9A-AE03-A13ED64A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EDDCE-A147-4A1B-B8D3-EB8EEB92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CFCE-DBE0-4E03-9416-08644BAD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B092E-323A-42E9-895A-D39FBBD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219-9E6B-4C2F-8591-3A2CAD54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4DC4-BA78-461E-AA10-CBA3C0C1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8760-2EA6-434C-B1A0-7B974F5D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433E-6E52-4A96-8C42-71C667C6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3AB-BA37-4F04-850B-F3BC2774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73A285-1757-436D-8600-B749DDEFE71B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D485B-CCF6-4BD0-B381-8F7909AB99F6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D7829-9768-433A-97DD-0EC44C7700FB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B6862A-0E26-452D-B20F-5B684A36AB88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E48CF-4145-4052-8497-86FE0DD7EAD9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AANDOENINGEN VAN HET SPIJSVERTERINGSKANAA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Deel 2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Spastisch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Irritable bowel syndrom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De oorzaak is onbekend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Een rol spelen: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Bewegingsstoornissen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oedingsfactoren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erlaagde pijndrempel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Psychosociale factoren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Afwijkingen in de darmflora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Mogelijke ontstekingscellen in de darmen. 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&gt; 6maanden en 3 maanden actief aan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wisselend aan- af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Zeurende, krampende of stekende  pijn in de buik die soms vermindert na defecatie of na het et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Pijn soms zo hevig dat de activiteiten niet meer lukk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fwijkend ontlasting patroo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VOLG SYMPTOM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fwisselend diarree en obstip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andere klachten Tr. Dig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uurbrand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lacht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Winderighei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blazen gevo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Geen specifieke onderzoeken, goede anamnese en lichamelijk onderzoek is voldoend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oed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eefregel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ventueel medicijnen afh. van de klachten     bulkvormers, analgetica, vochtvasthouders, laxanti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gnitieve gedragstherap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Hernia incarcerat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BREU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DEFINIT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uitstulping van ingewanden of buikvlies door een opening in de buikwand m.a.g. afsterving van het weefsel in de breukza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LITTEKEN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INHOUD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rbus Croh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NAVELBREU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GROTE 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evige 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ocale ontstekingsverschijns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THERAPIE: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hirurg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 van het slijmvlies van de dikke darm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amen met de Morbus Crohn hoort het tot de  Inflammatory Bowel Diseases (IBD)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87800" y="302904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gelijk ook omgevingsfactor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</a:t>
            </a: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loed bij de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moeidheid,  slechte eetlust, gewichtsda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oorts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loopt in golv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alleen proctiti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ecesonderzoe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BOZ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uid -, oog- en gewrichtsklachten en ontstekingen van de galwegen in en buiten de lever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steoporose, door verminderde kalkopnam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 niet nodi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ontstekingsremmer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: colonresectie/ colectom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Voorkomend in zowel dunne als dikk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ZIEKTE VAN CROH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itis terminali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sziekte van het maag-darmstelsel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crohn.nl/animatie.html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250920" y="981000"/>
            <a:ext cx="5384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wel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mager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nem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iekte verloopt in golven(exacerbaties en remissie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Koorts tijdens opvlamming van de ziekt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ch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en videocapsul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vorm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klevingen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pijnstillers, anti-diarree middelen, vitamines, foliumzuur en ijzer gebruiken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medicijnen die werken tegen de ontstekingen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stopping obstructie van de darmdoorga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echanische blokkade door inklemming (invaginatie), afklemming of verdraaiing (stranguratie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kleving van de darmwand aan het buikvlie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zwel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verlamming(paralytische ileus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SCHIJNSEL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anvallen van hevige buikpijn(kolieken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bewegingen zichtbaar op de buik(niet bij paralytische ileus, stille buik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Gootsteengeruisen te hor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isselijk en braken tot fecaal braken aan to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Wegblijven van winden en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overloop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hoc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T-sca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coloninloop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RI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perfo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necrose (afsterving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 zonodig met stoma-aanlegg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derliggende oorzaak behand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nservatief: maaghevel, infuus, clysma’s, later orale laxantia, pijnstillers, antiemetic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Marlies Bouland</cp:lastModifiedBy>
  <dcterms:modified xsi:type="dcterms:W3CDTF">2018-03-13T13:25:50Z</dcterms:modified>
  <cp:revision>19</cp:revision>
  <dc:subject/>
  <dc:title>Aandoeningen van het spijsverteringskanaal</dc:title>
</cp:coreProperties>
</file>