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9.jpeg" ContentType="image/jpeg"/>
  <Override PartName="/ppt/media/image1.jpeg" ContentType="image/jpeg"/>
  <Override PartName="/ppt/media/image16.jpeg" ContentType="image/jpeg"/>
  <Override PartName="/ppt/media/image15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8.png" ContentType="image/png"/>
  <Override PartName="/ppt/media/image7.jpeg" ContentType="image/jpeg"/>
  <Override PartName="/ppt/media/image12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6793200" cy="993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dt" idx="13"/>
          </p:nvPr>
        </p:nvSpPr>
        <p:spPr>
          <a:xfrm>
            <a:off x="384804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sldImg"/>
          </p:nvPr>
        </p:nvSpPr>
        <p:spPr>
          <a:xfrm>
            <a:off x="914400" y="744120"/>
            <a:ext cx="4965840" cy="3724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Click to move the slide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ftr" idx="14"/>
          </p:nvPr>
        </p:nvSpPr>
        <p:spPr>
          <a:xfrm>
            <a:off x="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 type="sldNum" idx="15"/>
          </p:nvPr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B10FCA5-5CFC-451F-8E81-5ECB9DD24B2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Tijdelijke aanduiding voor dianummer 3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D622F9-6414-4895-A5E1-85C8AB6FD301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Billirubine niet goed verwerken: ASAT en ALAT verhoogd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Chron hep kan overgaan in cirrose: langer dan 6 mnd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Tijdelijke aanduiding voor dianummer 3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E91D00F-CA0E-4734-94A3-3AADDBE23941}" type="slidenum">
              <a:rPr b="0" lang="nl-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Tijdelijke aanduiding voor dianummer 3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1C47FF8-D6DE-4C0C-81F0-A2DB7B99B01D}" type="slidenum">
              <a:rPr b="0" lang="nl-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A: besmettelijke geelzucht, vooral bij kinderen, rond middelandsezee gebied, besmetting via ontlasting. Incubatietijd een maand. Prognose is go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Tijdelijke aanduiding voor dianummer 3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AD5813F-1C20-4F20-8987-6B5BB6019791}" type="slidenum">
              <a:rPr b="0" lang="nl-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B: kan chronisch worden en leiden tot cirrose of kank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C: bijna alleen via bloed-bloed contact. Kan chron worden en tot cirrose lijde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Tijdelijke aanduiding voor dianummer 3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0CB6C43-BC4F-4BD9-894C-ACAED62AEFB8}" type="slidenum">
              <a:rPr b="0" lang="nl-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De lever verandert in bindweefsel. Diagnose: via echo, scopie of biopt. Vaak gevolg van alc.misbruik. Of complicatie van B of 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Levertransplantie is dan optie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Tijdelijke aanduiding voor dianummer 3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6391B81-E598-4725-A894-696767C26BEE}" type="slidenum">
              <a:rPr b="0" lang="nl-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002A3-19A6-4152-886B-407A25A2D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8F4A3-574B-4F06-99D2-1F693FF4B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DED32-6421-4622-ADFF-84622838F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09600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36544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82656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09600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536544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0D025-57A5-4829-8875-5F44C0C79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E7EAD-F57F-401F-8683-3CFA4C7B6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4836A-EFE8-4844-8D78-1CB133033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F862F-02FC-4B1B-9322-9C08B96CE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00017-95C6-42C7-8B09-E9A18D5DA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2FB03-2854-4E7B-A285-9BB36163F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83840" y="452160"/>
            <a:ext cx="7056360" cy="64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186C5-7E21-4649-A7DE-2905A7185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40DF6-B08B-46A3-855E-C12D69140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76D1C-50B3-488D-8A02-C407F3652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05F9C-35A9-4A11-9D08-7FB52F378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3D40E-A5E2-44D5-910D-8A214ACD5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33629-C799-4440-B151-77891FB8C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F9902-5576-49A5-98B7-FD73ABBEF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09600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36544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82656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09600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536544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E5672-7876-485E-8A7F-A3E4EABDE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874EDE-5799-475D-87E1-9B78DA5EE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A4981C-FBD3-4D72-93B6-317F686B2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70BA8C-DF87-44D1-8B44-76018EE87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8C275E-13B5-4BFC-9972-F367D29EE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87C368-80BE-4AD7-A6F3-0328720CD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8C0CB-E4B3-412E-B3CC-84E8BFD24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83840" y="452160"/>
            <a:ext cx="7056360" cy="64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9D479D-359B-4424-91EC-B0E3146D2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89CDA0-A656-4F09-BCA5-8D72105F3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BE86DC-E566-4B0C-A818-09CF0E6C6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E1063A-8017-481A-A96B-2BD13B689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99298F-AF6B-419F-A776-149CFA6A9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D2B846-4533-4D3D-B39B-78D63E45A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09600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36544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82656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09600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536544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53D2BD-F772-488A-9576-672CAFE02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345D65-B84F-4651-A132-7B8250A0C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1A7B41-F7C0-4063-B0D2-AB99A3505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82C96B-1FF1-461F-990F-6AC95DCCC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9384B-1FAE-4767-B19E-F49E5D436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D80584-2FDE-402B-80C7-DCC24DFF2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8C2E5F-2EB4-4267-B452-5B6A4C074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483840" y="452160"/>
            <a:ext cx="7056360" cy="64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F32CD1-215D-4F8E-9109-525B87A2E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A004F5-1E40-46E0-B6EC-5DAAB175B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0A2976-CDC1-479E-AAD7-BF079D530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855A12-04CD-44F5-B9AB-33346B24C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022B08-6F86-40D1-9C6E-8D68BAC9D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166902-847C-483B-9CEF-EEAE6D1CE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09600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36544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82656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09600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536544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956C9F-8BAF-4163-A60D-D627D8F58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C026F-BB4F-4DE5-87EA-C607AA599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83840" y="452160"/>
            <a:ext cx="7056360" cy="64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12050-F088-4E41-B866-8B331816F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901B8-B0E5-4205-93A5-B8004B8BE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431BF-28DC-4407-B5F7-68DC6A7BC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E06C1-78B8-4161-B3FD-E65F24AA6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7.xml"/><Relationship Id="rId9" Type="http://schemas.openxmlformats.org/officeDocument/2006/relationships/slideLayout" Target="../slideLayouts/slideLayout38.xml"/><Relationship Id="rId10" Type="http://schemas.openxmlformats.org/officeDocument/2006/relationships/slideLayout" Target="../slideLayouts/slideLayout39.xml"/><Relationship Id="rId11" Type="http://schemas.openxmlformats.org/officeDocument/2006/relationships/slideLayout" Target="../slideLayouts/slideLayout40.xml"/><Relationship Id="rId12" Type="http://schemas.openxmlformats.org/officeDocument/2006/relationships/slideLayout" Target="../slideLayouts/slideLayout41.xml"/><Relationship Id="rId13" Type="http://schemas.openxmlformats.org/officeDocument/2006/relationships/slideLayout" Target="../slideLayouts/slideLayout42.xml"/><Relationship Id="rId14" Type="http://schemas.openxmlformats.org/officeDocument/2006/relationships/slideLayout" Target="../slideLayouts/slideLayout43.xml"/><Relationship Id="rId15" Type="http://schemas.openxmlformats.org/officeDocument/2006/relationships/slideLayout" Target="../slideLayouts/slideLayout44.xml"/><Relationship Id="rId16" Type="http://schemas.openxmlformats.org/officeDocument/2006/relationships/slideLayout" Target="../slideLayouts/slideLayout45.xml"/><Relationship Id="rId17" Type="http://schemas.openxmlformats.org/officeDocument/2006/relationships/slideLayout" Target="../slideLayouts/slideLayout46.xml"/><Relationship Id="rId18" Type="http://schemas.openxmlformats.org/officeDocument/2006/relationships/slideLayout" Target="../slideLayouts/slideLayout47.xml"/><Relationship Id="rId19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Oval 21"/>
          <p:cNvGrpSpPr/>
          <p:nvPr/>
        </p:nvGrpSpPr>
        <p:grpSpPr>
          <a:xfrm>
            <a:off x="6297480" y="1676520"/>
            <a:ext cx="2822760" cy="2822400"/>
            <a:chOff x="6297480" y="1676520"/>
            <a:chExt cx="2822760" cy="2822400"/>
          </a:xfrm>
        </p:grpSpPr>
        <p:pic>
          <p:nvPicPr>
            <p:cNvPr id="1" name="Oval 21" descr=""/>
            <p:cNvPicPr/>
            <p:nvPr/>
          </p:nvPicPr>
          <p:blipFill>
            <a:blip r:embed="rId3"/>
            <a:stretch/>
          </p:blipFill>
          <p:spPr>
            <a:xfrm>
              <a:off x="6297480" y="1676520"/>
              <a:ext cx="2822760" cy="28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6711840" y="2089080"/>
              <a:ext cx="1994040" cy="199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3" name="Oval 22"/>
          <p:cNvGrpSpPr/>
          <p:nvPr/>
        </p:nvGrpSpPr>
        <p:grpSpPr>
          <a:xfrm>
            <a:off x="5688000" y="-457200"/>
            <a:ext cx="1603440" cy="1603440"/>
            <a:chOff x="5688000" y="-457200"/>
            <a:chExt cx="1603440" cy="1603440"/>
          </a:xfrm>
        </p:grpSpPr>
        <p:pic>
          <p:nvPicPr>
            <p:cNvPr id="4" name="Oval 22" descr=""/>
            <p:cNvPicPr/>
            <p:nvPr/>
          </p:nvPicPr>
          <p:blipFill>
            <a:blip r:embed="rId4"/>
            <a:stretch/>
          </p:blipFill>
          <p:spPr>
            <a:xfrm>
              <a:off x="5688000" y="-457200"/>
              <a:ext cx="1603440" cy="160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5924520" y="-222120"/>
              <a:ext cx="113184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6" name="Oval 23"/>
          <p:cNvGrpSpPr/>
          <p:nvPr/>
        </p:nvGrpSpPr>
        <p:grpSpPr>
          <a:xfrm>
            <a:off x="6297480" y="6095880"/>
            <a:ext cx="993960" cy="993960"/>
            <a:chOff x="6297480" y="6095880"/>
            <a:chExt cx="993960" cy="993960"/>
          </a:xfrm>
        </p:grpSpPr>
        <p:pic>
          <p:nvPicPr>
            <p:cNvPr id="7" name="Oval 23" descr=""/>
            <p:cNvPicPr/>
            <p:nvPr/>
          </p:nvPicPr>
          <p:blipFill>
            <a:blip r:embed="rId5"/>
            <a:stretch/>
          </p:blipFill>
          <p:spPr>
            <a:xfrm>
              <a:off x="6297480" y="6095880"/>
              <a:ext cx="993960" cy="99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" name=""/>
            <p:cNvSpPr/>
            <p:nvPr/>
          </p:nvSpPr>
          <p:spPr>
            <a:xfrm>
              <a:off x="6445080" y="6240600"/>
              <a:ext cx="70020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9" name="Oval 19"/>
          <p:cNvGrpSpPr/>
          <p:nvPr/>
        </p:nvGrpSpPr>
        <p:grpSpPr>
          <a:xfrm>
            <a:off x="-152280" y="2670120"/>
            <a:ext cx="4187880" cy="4187880"/>
            <a:chOff x="-152280" y="2670120"/>
            <a:chExt cx="4187880" cy="4187880"/>
          </a:xfrm>
        </p:grpSpPr>
        <p:pic>
          <p:nvPicPr>
            <p:cNvPr id="10" name="Oval 19" descr=""/>
            <p:cNvPicPr/>
            <p:nvPr/>
          </p:nvPicPr>
          <p:blipFill>
            <a:blip r:embed="rId6"/>
            <a:stretch/>
          </p:blipFill>
          <p:spPr>
            <a:xfrm>
              <a:off x="-152280" y="2670120"/>
              <a:ext cx="4187880" cy="418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" name=""/>
            <p:cNvSpPr/>
            <p:nvPr/>
          </p:nvSpPr>
          <p:spPr>
            <a:xfrm>
              <a:off x="460440" y="3281400"/>
              <a:ext cx="2962080" cy="29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12" name="Oval 20"/>
          <p:cNvGrpSpPr/>
          <p:nvPr/>
        </p:nvGrpSpPr>
        <p:grpSpPr>
          <a:xfrm>
            <a:off x="-841320" y="2895480"/>
            <a:ext cx="2365200" cy="2365560"/>
            <a:chOff x="-841320" y="2895480"/>
            <a:chExt cx="2365200" cy="2365560"/>
          </a:xfrm>
        </p:grpSpPr>
        <p:pic>
          <p:nvPicPr>
            <p:cNvPr id="13" name="Oval 20" descr=""/>
            <p:cNvPicPr/>
            <p:nvPr/>
          </p:nvPicPr>
          <p:blipFill>
            <a:blip r:embed="rId7"/>
            <a:stretch/>
          </p:blipFill>
          <p:spPr>
            <a:xfrm>
              <a:off x="-841320" y="2895480"/>
              <a:ext cx="2365200" cy="236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" name=""/>
            <p:cNvSpPr/>
            <p:nvPr/>
          </p:nvSpPr>
          <p:spPr>
            <a:xfrm>
              <a:off x="-493560" y="3241800"/>
              <a:ext cx="1670040" cy="16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15" name="Rectangle 18"/>
          <p:cNvSpPr/>
          <p:nvPr/>
        </p:nvSpPr>
        <p:spPr>
          <a:xfrm>
            <a:off x="7745400" y="0"/>
            <a:ext cx="685800" cy="1100160"/>
          </a:xfrm>
          <a:prstGeom prst="rect">
            <a:avLst/>
          </a:prstGeom>
          <a:solidFill>
            <a:srgbClr val="b01513"/>
          </a:solidFill>
          <a:ln w="0">
            <a:noFill/>
          </a:ln>
          <a:effectLst>
            <a:outerShdw dist="1260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body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dt" idx="1"/>
          </p:nvPr>
        </p:nvSpPr>
        <p:spPr>
          <a:xfrm rot="5400000">
            <a:off x="7494840" y="1828440"/>
            <a:ext cx="990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ftr" idx="2"/>
          </p:nvPr>
        </p:nvSpPr>
        <p:spPr>
          <a:xfrm rot="5400000">
            <a:off x="6233040" y="3263040"/>
            <a:ext cx="3859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sldNum" idx="3"/>
          </p:nvPr>
        </p:nvSpPr>
        <p:spPr>
          <a:xfrm>
            <a:off x="7765560" y="294840"/>
            <a:ext cx="628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28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71C0EDF-47CA-4370-B879-ED6FD4C863D4}" type="slidenum">
              <a:rPr b="0" lang="nl-NL" sz="28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Oval 21"/>
          <p:cNvGrpSpPr/>
          <p:nvPr/>
        </p:nvGrpSpPr>
        <p:grpSpPr>
          <a:xfrm>
            <a:off x="6297480" y="1676520"/>
            <a:ext cx="2822760" cy="2822400"/>
            <a:chOff x="6297480" y="1676520"/>
            <a:chExt cx="2822760" cy="2822400"/>
          </a:xfrm>
        </p:grpSpPr>
        <p:pic>
          <p:nvPicPr>
            <p:cNvPr id="58" name="Oval 21" descr=""/>
            <p:cNvPicPr/>
            <p:nvPr/>
          </p:nvPicPr>
          <p:blipFill>
            <a:blip r:embed="rId3"/>
            <a:stretch/>
          </p:blipFill>
          <p:spPr>
            <a:xfrm>
              <a:off x="6297480" y="1676520"/>
              <a:ext cx="2822760" cy="28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6711840" y="2089080"/>
              <a:ext cx="1994040" cy="199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60" name="Oval 22"/>
          <p:cNvGrpSpPr/>
          <p:nvPr/>
        </p:nvGrpSpPr>
        <p:grpSpPr>
          <a:xfrm>
            <a:off x="5688000" y="-457200"/>
            <a:ext cx="1603440" cy="1603440"/>
            <a:chOff x="5688000" y="-457200"/>
            <a:chExt cx="1603440" cy="1603440"/>
          </a:xfrm>
        </p:grpSpPr>
        <p:pic>
          <p:nvPicPr>
            <p:cNvPr id="61" name="Oval 22" descr=""/>
            <p:cNvPicPr/>
            <p:nvPr/>
          </p:nvPicPr>
          <p:blipFill>
            <a:blip r:embed="rId4"/>
            <a:stretch/>
          </p:blipFill>
          <p:spPr>
            <a:xfrm>
              <a:off x="5688000" y="-457200"/>
              <a:ext cx="1603440" cy="160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5924520" y="-222120"/>
              <a:ext cx="113184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63" name="Oval 23"/>
          <p:cNvGrpSpPr/>
          <p:nvPr/>
        </p:nvGrpSpPr>
        <p:grpSpPr>
          <a:xfrm>
            <a:off x="6297480" y="6095880"/>
            <a:ext cx="993960" cy="993960"/>
            <a:chOff x="6297480" y="6095880"/>
            <a:chExt cx="993960" cy="993960"/>
          </a:xfrm>
        </p:grpSpPr>
        <p:pic>
          <p:nvPicPr>
            <p:cNvPr id="64" name="Oval 23" descr=""/>
            <p:cNvPicPr/>
            <p:nvPr/>
          </p:nvPicPr>
          <p:blipFill>
            <a:blip r:embed="rId5"/>
            <a:stretch/>
          </p:blipFill>
          <p:spPr>
            <a:xfrm>
              <a:off x="6297480" y="6095880"/>
              <a:ext cx="993960" cy="99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6445080" y="6240600"/>
              <a:ext cx="70020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66" name="Oval 19"/>
          <p:cNvGrpSpPr/>
          <p:nvPr/>
        </p:nvGrpSpPr>
        <p:grpSpPr>
          <a:xfrm>
            <a:off x="-152280" y="2670120"/>
            <a:ext cx="4187880" cy="4187880"/>
            <a:chOff x="-152280" y="2670120"/>
            <a:chExt cx="4187880" cy="4187880"/>
          </a:xfrm>
        </p:grpSpPr>
        <p:pic>
          <p:nvPicPr>
            <p:cNvPr id="67" name="Oval 19" descr=""/>
            <p:cNvPicPr/>
            <p:nvPr/>
          </p:nvPicPr>
          <p:blipFill>
            <a:blip r:embed="rId6"/>
            <a:stretch/>
          </p:blipFill>
          <p:spPr>
            <a:xfrm>
              <a:off x="-152280" y="2670120"/>
              <a:ext cx="4187880" cy="418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460440" y="3281400"/>
              <a:ext cx="2962080" cy="29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69" name="Oval 20"/>
          <p:cNvGrpSpPr/>
          <p:nvPr/>
        </p:nvGrpSpPr>
        <p:grpSpPr>
          <a:xfrm>
            <a:off x="-841320" y="2895480"/>
            <a:ext cx="2365200" cy="2365560"/>
            <a:chOff x="-841320" y="2895480"/>
            <a:chExt cx="2365200" cy="2365560"/>
          </a:xfrm>
        </p:grpSpPr>
        <p:pic>
          <p:nvPicPr>
            <p:cNvPr id="70" name="Oval 20" descr=""/>
            <p:cNvPicPr/>
            <p:nvPr/>
          </p:nvPicPr>
          <p:blipFill>
            <a:blip r:embed="rId7"/>
            <a:stretch/>
          </p:blipFill>
          <p:spPr>
            <a:xfrm>
              <a:off x="-841320" y="2895480"/>
              <a:ext cx="2365200" cy="236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-493560" y="3241800"/>
              <a:ext cx="1670040" cy="16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72" name="Rectangle 18"/>
          <p:cNvSpPr/>
          <p:nvPr/>
        </p:nvSpPr>
        <p:spPr>
          <a:xfrm>
            <a:off x="7745400" y="0"/>
            <a:ext cx="685800" cy="1100160"/>
          </a:xfrm>
          <a:prstGeom prst="rect">
            <a:avLst/>
          </a:prstGeom>
          <a:solidFill>
            <a:srgbClr val="b01513"/>
          </a:solidFill>
          <a:ln w="0">
            <a:noFill/>
          </a:ln>
          <a:effectLst>
            <a:outerShdw dist="1260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TextBox 11"/>
          <p:cNvSpPr/>
          <p:nvPr/>
        </p:nvSpPr>
        <p:spPr>
          <a:xfrm>
            <a:off x="674640" y="971640"/>
            <a:ext cx="600120" cy="19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200" spc="-1" strike="noStrike">
                <a:solidFill>
                  <a:srgbClr val="8ad0d6"/>
                </a:solidFill>
                <a:latin typeface="Arial"/>
              </a:rPr>
              <a:t>“</a:t>
            </a:r>
            <a:endParaRPr b="0" lang="en-US" sz="1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4" name="TextBox 14"/>
          <p:cNvSpPr/>
          <p:nvPr/>
        </p:nvSpPr>
        <p:spPr>
          <a:xfrm>
            <a:off x="6999120" y="2612880"/>
            <a:ext cx="601920" cy="19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200" spc="-1" strike="noStrike">
                <a:solidFill>
                  <a:srgbClr val="8ad0d6"/>
                </a:solidFill>
                <a:latin typeface="Arial"/>
              </a:rPr>
              <a:t>”</a:t>
            </a:r>
            <a:endParaRPr b="0" lang="en-US" sz="1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dt" idx="4"/>
          </p:nvPr>
        </p:nvSpPr>
        <p:spPr>
          <a:xfrm rot="5400000">
            <a:off x="7494840" y="1828440"/>
            <a:ext cx="990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ftr" idx="5"/>
          </p:nvPr>
        </p:nvSpPr>
        <p:spPr>
          <a:xfrm rot="5400000">
            <a:off x="6233040" y="3263040"/>
            <a:ext cx="3859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 type="sldNum" idx="6"/>
          </p:nvPr>
        </p:nvSpPr>
        <p:spPr>
          <a:xfrm>
            <a:off x="7765560" y="294840"/>
            <a:ext cx="628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28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6255A0-6C21-4307-A132-CA301F8306B9}" type="slidenum">
              <a:rPr b="0" lang="nl-NL" sz="28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" name="Oval 21"/>
          <p:cNvGrpSpPr/>
          <p:nvPr/>
        </p:nvGrpSpPr>
        <p:grpSpPr>
          <a:xfrm>
            <a:off x="6297480" y="1676520"/>
            <a:ext cx="2822760" cy="2822400"/>
            <a:chOff x="6297480" y="1676520"/>
            <a:chExt cx="2822760" cy="2822400"/>
          </a:xfrm>
        </p:grpSpPr>
        <p:pic>
          <p:nvPicPr>
            <p:cNvPr id="117" name="Oval 21" descr=""/>
            <p:cNvPicPr/>
            <p:nvPr/>
          </p:nvPicPr>
          <p:blipFill>
            <a:blip r:embed="rId3"/>
            <a:stretch/>
          </p:blipFill>
          <p:spPr>
            <a:xfrm>
              <a:off x="6297480" y="1676520"/>
              <a:ext cx="2822760" cy="28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"/>
            <p:cNvSpPr/>
            <p:nvPr/>
          </p:nvSpPr>
          <p:spPr>
            <a:xfrm>
              <a:off x="6711840" y="2089080"/>
              <a:ext cx="1994040" cy="199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119" name="Oval 22"/>
          <p:cNvGrpSpPr/>
          <p:nvPr/>
        </p:nvGrpSpPr>
        <p:grpSpPr>
          <a:xfrm>
            <a:off x="5688000" y="-457200"/>
            <a:ext cx="1603440" cy="1603440"/>
            <a:chOff x="5688000" y="-457200"/>
            <a:chExt cx="1603440" cy="1603440"/>
          </a:xfrm>
        </p:grpSpPr>
        <p:pic>
          <p:nvPicPr>
            <p:cNvPr id="120" name="Oval 22" descr=""/>
            <p:cNvPicPr/>
            <p:nvPr/>
          </p:nvPicPr>
          <p:blipFill>
            <a:blip r:embed="rId4"/>
            <a:stretch/>
          </p:blipFill>
          <p:spPr>
            <a:xfrm>
              <a:off x="5688000" y="-457200"/>
              <a:ext cx="1603440" cy="160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5924520" y="-222120"/>
              <a:ext cx="113184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122" name="Oval 23"/>
          <p:cNvGrpSpPr/>
          <p:nvPr/>
        </p:nvGrpSpPr>
        <p:grpSpPr>
          <a:xfrm>
            <a:off x="6297480" y="6095880"/>
            <a:ext cx="993960" cy="993960"/>
            <a:chOff x="6297480" y="6095880"/>
            <a:chExt cx="993960" cy="993960"/>
          </a:xfrm>
        </p:grpSpPr>
        <p:pic>
          <p:nvPicPr>
            <p:cNvPr id="123" name="Oval 23" descr=""/>
            <p:cNvPicPr/>
            <p:nvPr/>
          </p:nvPicPr>
          <p:blipFill>
            <a:blip r:embed="rId5"/>
            <a:stretch/>
          </p:blipFill>
          <p:spPr>
            <a:xfrm>
              <a:off x="6297480" y="6095880"/>
              <a:ext cx="993960" cy="99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>
              <a:off x="6445080" y="6240600"/>
              <a:ext cx="70020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125" name="Oval 19"/>
          <p:cNvGrpSpPr/>
          <p:nvPr/>
        </p:nvGrpSpPr>
        <p:grpSpPr>
          <a:xfrm>
            <a:off x="-152280" y="2670120"/>
            <a:ext cx="4187880" cy="4187880"/>
            <a:chOff x="-152280" y="2670120"/>
            <a:chExt cx="4187880" cy="4187880"/>
          </a:xfrm>
        </p:grpSpPr>
        <p:pic>
          <p:nvPicPr>
            <p:cNvPr id="126" name="Oval 19" descr=""/>
            <p:cNvPicPr/>
            <p:nvPr/>
          </p:nvPicPr>
          <p:blipFill>
            <a:blip r:embed="rId6"/>
            <a:stretch/>
          </p:blipFill>
          <p:spPr>
            <a:xfrm>
              <a:off x="-152280" y="2670120"/>
              <a:ext cx="4187880" cy="418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460440" y="3281400"/>
              <a:ext cx="2962080" cy="29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128" name="Oval 20"/>
          <p:cNvGrpSpPr/>
          <p:nvPr/>
        </p:nvGrpSpPr>
        <p:grpSpPr>
          <a:xfrm>
            <a:off x="-841320" y="2895480"/>
            <a:ext cx="2365200" cy="2365560"/>
            <a:chOff x="-841320" y="2895480"/>
            <a:chExt cx="2365200" cy="2365560"/>
          </a:xfrm>
        </p:grpSpPr>
        <p:pic>
          <p:nvPicPr>
            <p:cNvPr id="129" name="Oval 20" descr=""/>
            <p:cNvPicPr/>
            <p:nvPr/>
          </p:nvPicPr>
          <p:blipFill>
            <a:blip r:embed="rId7"/>
            <a:stretch/>
          </p:blipFill>
          <p:spPr>
            <a:xfrm>
              <a:off x="-841320" y="2895480"/>
              <a:ext cx="2365200" cy="236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>
              <a:off x="-493560" y="3241800"/>
              <a:ext cx="1670040" cy="16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131" name="Rectangle 18"/>
          <p:cNvSpPr/>
          <p:nvPr/>
        </p:nvSpPr>
        <p:spPr>
          <a:xfrm>
            <a:off x="7745400" y="0"/>
            <a:ext cx="685800" cy="1100160"/>
          </a:xfrm>
          <a:prstGeom prst="rect">
            <a:avLst/>
          </a:prstGeom>
          <a:solidFill>
            <a:srgbClr val="b01513"/>
          </a:solidFill>
          <a:ln w="0">
            <a:noFill/>
          </a:ln>
          <a:effectLst>
            <a:outerShdw dist="1260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Straight Connector 16"/>
          <p:cNvSpPr/>
          <p:nvPr/>
        </p:nvSpPr>
        <p:spPr>
          <a:xfrm>
            <a:off x="2795760" y="2133720"/>
            <a:ext cx="0" cy="3962160"/>
          </a:xfrm>
          <a:prstGeom prst="line">
            <a:avLst/>
          </a:prstGeom>
          <a:ln cap="rnd" w="12600">
            <a:solidFill>
              <a:srgbClr val="8ad0d6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3" name="Straight Connector 17"/>
          <p:cNvSpPr/>
          <p:nvPr/>
        </p:nvSpPr>
        <p:spPr>
          <a:xfrm>
            <a:off x="5222880" y="2133720"/>
            <a:ext cx="0" cy="3967200"/>
          </a:xfrm>
          <a:prstGeom prst="line">
            <a:avLst/>
          </a:prstGeom>
          <a:ln cap="rnd" w="12600">
            <a:solidFill>
              <a:srgbClr val="8ad0d6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7"/>
          </p:nvPr>
        </p:nvSpPr>
        <p:spPr>
          <a:xfrm rot="5400000">
            <a:off x="7494840" y="1828440"/>
            <a:ext cx="990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8"/>
          </p:nvPr>
        </p:nvSpPr>
        <p:spPr>
          <a:xfrm rot="5400000">
            <a:off x="6233040" y="3263040"/>
            <a:ext cx="3859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9"/>
          </p:nvPr>
        </p:nvSpPr>
        <p:spPr>
          <a:xfrm>
            <a:off x="7765560" y="294840"/>
            <a:ext cx="628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28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EA48D10-3F17-461C-8AE8-F1F69C48B677}" type="slidenum">
              <a:rPr b="0" lang="nl-NL" sz="28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Oval 21"/>
          <p:cNvGrpSpPr/>
          <p:nvPr/>
        </p:nvGrpSpPr>
        <p:grpSpPr>
          <a:xfrm>
            <a:off x="6297480" y="1676520"/>
            <a:ext cx="2822760" cy="2822400"/>
            <a:chOff x="6297480" y="1676520"/>
            <a:chExt cx="2822760" cy="2822400"/>
          </a:xfrm>
        </p:grpSpPr>
        <p:pic>
          <p:nvPicPr>
            <p:cNvPr id="176" name="Oval 21" descr=""/>
            <p:cNvPicPr/>
            <p:nvPr/>
          </p:nvPicPr>
          <p:blipFill>
            <a:blip r:embed="rId3"/>
            <a:stretch/>
          </p:blipFill>
          <p:spPr>
            <a:xfrm>
              <a:off x="6297480" y="1676520"/>
              <a:ext cx="2822760" cy="28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6711840" y="2089080"/>
              <a:ext cx="1994040" cy="199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178" name="Oval 22"/>
          <p:cNvGrpSpPr/>
          <p:nvPr/>
        </p:nvGrpSpPr>
        <p:grpSpPr>
          <a:xfrm>
            <a:off x="5688000" y="-457200"/>
            <a:ext cx="1603440" cy="1603440"/>
            <a:chOff x="5688000" y="-457200"/>
            <a:chExt cx="1603440" cy="1603440"/>
          </a:xfrm>
        </p:grpSpPr>
        <p:pic>
          <p:nvPicPr>
            <p:cNvPr id="179" name="Oval 22" descr=""/>
            <p:cNvPicPr/>
            <p:nvPr/>
          </p:nvPicPr>
          <p:blipFill>
            <a:blip r:embed="rId4"/>
            <a:stretch/>
          </p:blipFill>
          <p:spPr>
            <a:xfrm>
              <a:off x="5688000" y="-457200"/>
              <a:ext cx="1603440" cy="160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"/>
            <p:cNvSpPr/>
            <p:nvPr/>
          </p:nvSpPr>
          <p:spPr>
            <a:xfrm>
              <a:off x="5924520" y="-222120"/>
              <a:ext cx="113184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181" name="Oval 23"/>
          <p:cNvGrpSpPr/>
          <p:nvPr/>
        </p:nvGrpSpPr>
        <p:grpSpPr>
          <a:xfrm>
            <a:off x="6297480" y="6095880"/>
            <a:ext cx="993960" cy="993960"/>
            <a:chOff x="6297480" y="6095880"/>
            <a:chExt cx="993960" cy="993960"/>
          </a:xfrm>
        </p:grpSpPr>
        <p:pic>
          <p:nvPicPr>
            <p:cNvPr id="182" name="Oval 23" descr=""/>
            <p:cNvPicPr/>
            <p:nvPr/>
          </p:nvPicPr>
          <p:blipFill>
            <a:blip r:embed="rId5"/>
            <a:stretch/>
          </p:blipFill>
          <p:spPr>
            <a:xfrm>
              <a:off x="6297480" y="6095880"/>
              <a:ext cx="993960" cy="99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"/>
            <p:cNvSpPr/>
            <p:nvPr/>
          </p:nvSpPr>
          <p:spPr>
            <a:xfrm>
              <a:off x="6445080" y="6240600"/>
              <a:ext cx="70020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184" name="Oval 19"/>
          <p:cNvGrpSpPr/>
          <p:nvPr/>
        </p:nvGrpSpPr>
        <p:grpSpPr>
          <a:xfrm>
            <a:off x="-152280" y="2670120"/>
            <a:ext cx="4187880" cy="4187880"/>
            <a:chOff x="-152280" y="2670120"/>
            <a:chExt cx="4187880" cy="4187880"/>
          </a:xfrm>
        </p:grpSpPr>
        <p:pic>
          <p:nvPicPr>
            <p:cNvPr id="185" name="Oval 19" descr=""/>
            <p:cNvPicPr/>
            <p:nvPr/>
          </p:nvPicPr>
          <p:blipFill>
            <a:blip r:embed="rId6"/>
            <a:stretch/>
          </p:blipFill>
          <p:spPr>
            <a:xfrm>
              <a:off x="-152280" y="2670120"/>
              <a:ext cx="4187880" cy="418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60440" y="3281400"/>
              <a:ext cx="2962080" cy="29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187" name="Oval 20"/>
          <p:cNvGrpSpPr/>
          <p:nvPr/>
        </p:nvGrpSpPr>
        <p:grpSpPr>
          <a:xfrm>
            <a:off x="-841320" y="2895480"/>
            <a:ext cx="2365200" cy="2365560"/>
            <a:chOff x="-841320" y="2895480"/>
            <a:chExt cx="2365200" cy="2365560"/>
          </a:xfrm>
        </p:grpSpPr>
        <p:pic>
          <p:nvPicPr>
            <p:cNvPr id="188" name="Oval 20" descr=""/>
            <p:cNvPicPr/>
            <p:nvPr/>
          </p:nvPicPr>
          <p:blipFill>
            <a:blip r:embed="rId7"/>
            <a:stretch/>
          </p:blipFill>
          <p:spPr>
            <a:xfrm>
              <a:off x="-841320" y="2895480"/>
              <a:ext cx="2365200" cy="236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"/>
            <p:cNvSpPr/>
            <p:nvPr/>
          </p:nvSpPr>
          <p:spPr>
            <a:xfrm>
              <a:off x="-493560" y="3241800"/>
              <a:ext cx="1670040" cy="16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190" name="Rectangle 18"/>
          <p:cNvSpPr/>
          <p:nvPr/>
        </p:nvSpPr>
        <p:spPr>
          <a:xfrm>
            <a:off x="7745400" y="0"/>
            <a:ext cx="685800" cy="1100160"/>
          </a:xfrm>
          <a:prstGeom prst="rect">
            <a:avLst/>
          </a:prstGeom>
          <a:solidFill>
            <a:srgbClr val="b01513"/>
          </a:solidFill>
          <a:ln w="0">
            <a:noFill/>
          </a:ln>
          <a:effectLst>
            <a:outerShdw dist="1260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1" name="Straight Connector 18"/>
          <p:cNvSpPr/>
          <p:nvPr/>
        </p:nvSpPr>
        <p:spPr>
          <a:xfrm>
            <a:off x="2795760" y="2133720"/>
            <a:ext cx="0" cy="3962160"/>
          </a:xfrm>
          <a:prstGeom prst="line">
            <a:avLst/>
          </a:prstGeom>
          <a:ln cap="rnd" w="12600">
            <a:solidFill>
              <a:srgbClr val="8ad0d6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2" name="Straight Connector 19"/>
          <p:cNvSpPr/>
          <p:nvPr/>
        </p:nvSpPr>
        <p:spPr>
          <a:xfrm>
            <a:off x="5222880" y="2133720"/>
            <a:ext cx="0" cy="3967200"/>
          </a:xfrm>
          <a:prstGeom prst="line">
            <a:avLst/>
          </a:prstGeom>
          <a:ln cap="rnd" w="12600">
            <a:solidFill>
              <a:srgbClr val="8ad0d6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dt" idx="10"/>
          </p:nvPr>
        </p:nvSpPr>
        <p:spPr>
          <a:xfrm rot="5400000">
            <a:off x="7494840" y="1828440"/>
            <a:ext cx="990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ftr" idx="11"/>
          </p:nvPr>
        </p:nvSpPr>
        <p:spPr>
          <a:xfrm rot="5400000">
            <a:off x="6233040" y="3263040"/>
            <a:ext cx="3859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sldNum" idx="12"/>
          </p:nvPr>
        </p:nvSpPr>
        <p:spPr>
          <a:xfrm>
            <a:off x="7765560" y="294840"/>
            <a:ext cx="628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28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C06981-6785-485A-B416-C6436FF574D3}" type="slidenum">
              <a:rPr b="0" lang="nl-NL" sz="28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8"/>
    <p:sldLayoutId id="2147483689" r:id="rId9"/>
    <p:sldLayoutId id="2147483690" r:id="rId10"/>
    <p:sldLayoutId id="2147483691" r:id="rId11"/>
    <p:sldLayoutId id="2147483692" r:id="rId12"/>
    <p:sldLayoutId id="2147483693" r:id="rId13"/>
    <p:sldLayoutId id="2147483694" r:id="rId14"/>
    <p:sldLayoutId id="2147483695" r:id="rId15"/>
    <p:sldLayoutId id="2147483696" r:id="rId16"/>
    <p:sldLayoutId id="2147483697" r:id="rId17"/>
    <p:sldLayoutId id="2147483698" r:id="rId18"/>
    <p:sldLayoutId id="2147483699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solidFill>
            <a:srgbClr val="58c1ba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7200" spc="-1" strike="noStrike">
                <a:solidFill>
                  <a:srgbClr val="ebebeb"/>
                </a:solidFill>
                <a:latin typeface="Century Gothic"/>
              </a:rPr>
              <a:t>Hepatitis</a:t>
            </a:r>
            <a:endParaRPr b="0" lang="en-US" sz="7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866880" y="4776840"/>
            <a:ext cx="6619680" cy="861840"/>
          </a:xfrm>
          <a:prstGeom prst="rect">
            <a:avLst/>
          </a:prstGeom>
          <a:solidFill>
            <a:srgbClr val="58c1ba"/>
          </a:solidFill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8ad0d6"/>
                </a:solidFill>
                <a:latin typeface="Century Gothic"/>
              </a:rPr>
              <a:t>LEVERONTSTEKING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3" descr="http://healthlob.com/wp-content/uploads/2011/05/hepatitis-300x181.jpg"/>
          <p:cNvPicPr/>
          <p:nvPr/>
        </p:nvPicPr>
        <p:blipFill>
          <a:blip r:embed="rId1"/>
          <a:stretch/>
        </p:blipFill>
        <p:spPr>
          <a:xfrm>
            <a:off x="609480" y="457200"/>
            <a:ext cx="4648320" cy="280368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4" descr="http://www.huidziekten.nl/afbeeldingen/hepatitis-b-4.jpg"/>
          <p:cNvPicPr/>
          <p:nvPr/>
        </p:nvPicPr>
        <p:blipFill>
          <a:blip r:embed="rId2"/>
          <a:stretch/>
        </p:blipFill>
        <p:spPr>
          <a:xfrm>
            <a:off x="4343400" y="3581280"/>
            <a:ext cx="4305240" cy="33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solidFill>
            <a:srgbClr val="58c1ba"/>
          </a:soli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200" spc="-1" strike="noStrike">
                <a:solidFill>
                  <a:srgbClr val="ebebeb"/>
                </a:solidFill>
                <a:latin typeface="Century Gothic"/>
              </a:rPr>
              <a:t>Herstelfase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826560" y="2052360"/>
            <a:ext cx="6712200" cy="4195800"/>
          </a:xfrm>
          <a:prstGeom prst="rect">
            <a:avLst/>
          </a:prstGeom>
          <a:solidFill>
            <a:srgbClr val="58c1ba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Meestal genezing binnen 6-8 weken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Soms kunnen gedurende een  jaar nog: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Vermoeidheid 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Lusteloosheid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Flatulentie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Vetintolerantie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solidFill>
            <a:srgbClr val="58c1ba"/>
          </a:soli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200" spc="-1" strike="noStrike">
                <a:solidFill>
                  <a:srgbClr val="ebebeb"/>
                </a:solidFill>
                <a:latin typeface="Century Gothic"/>
              </a:rPr>
              <a:t>Symptomen chronische hepatitis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685800" y="1980720"/>
            <a:ext cx="7772400" cy="4496040"/>
          </a:xfrm>
          <a:prstGeom prst="rect">
            <a:avLst/>
          </a:prstGeom>
          <a:solidFill>
            <a:srgbClr val="58c1ba"/>
          </a:solidFill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Century Gothic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609480" indent="-609480"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Century Gothic"/>
              </a:rPr>
              <a:t>veel patiënten hebben geen symptomen of dezelfde als bij de acute vorm.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609480" indent="-609480"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Century Gothic"/>
              </a:rPr>
              <a:t>vermoeidheid, een grotere behoefte aan slaap, pijnlijke spieren en gewrichten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609480" indent="-609480"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Century Gothic"/>
              </a:rPr>
              <a:t>periodieke lichte druk of pijn onder de rechterribben als gevolg van een vergrote lever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609480" indent="-609480"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Century Gothic"/>
              </a:rPr>
              <a:t>Geelzucht is een zeer laat symptoom van chronische hepatitis: het is een teken dat de ziekte ernstig is geworden.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609480" indent="-609480"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solidFill>
            <a:srgbClr val="58c1ba"/>
          </a:soli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200" spc="-1" strike="noStrike">
                <a:solidFill>
                  <a:srgbClr val="ebebeb"/>
                </a:solidFill>
                <a:latin typeface="Century Gothic"/>
              </a:rPr>
              <a:t>Onderzoek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826560" y="2052360"/>
            <a:ext cx="6712200" cy="4195800"/>
          </a:xfrm>
          <a:prstGeom prst="rect">
            <a:avLst/>
          </a:prstGeom>
          <a:solidFill>
            <a:srgbClr val="58c1ba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Bloed en urine onderzoek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Hepatitis B door HBs-AG (australi-antigeen) aan te tonen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solidFill>
            <a:srgbClr val="58c1ba"/>
          </a:soli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200" spc="-1" strike="noStrike">
                <a:solidFill>
                  <a:srgbClr val="ebebeb"/>
                </a:solidFill>
                <a:latin typeface="Century Gothic"/>
              </a:rPr>
              <a:t>Complicaties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Hepatitis A: geen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Hepatitis B: levercirrose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Hepatitis C: levercirrose, levercarcinoom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entury Gothic"/>
              </a:rPr>
              <a:t>https://www.youtube.com/watch?v=Q9L7ZQPc8EA Engels gesproken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nl-NL" sz="2800" spc="-1" strike="noStrike">
                <a:solidFill>
                  <a:srgbClr val="ffffff"/>
                </a:solidFill>
                <a:latin typeface="Century Gothic"/>
              </a:rPr>
              <a:t>http://www.youtube.com/watch J5c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entury Gothic"/>
              </a:rPr>
              <a:t>ttps://www.youtube.com/watch?v=Q9L7ZQ8EA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solidFill>
            <a:srgbClr val="58c1ba"/>
          </a:soli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200" spc="-1" strike="noStrike">
                <a:solidFill>
                  <a:srgbClr val="ebebeb"/>
                </a:solidFill>
                <a:latin typeface="Century Gothic"/>
              </a:rPr>
              <a:t>Behandeling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826560" y="2052360"/>
            <a:ext cx="6712200" cy="4195800"/>
          </a:xfrm>
          <a:prstGeom prst="rect">
            <a:avLst/>
          </a:prstGeom>
          <a:solidFill>
            <a:srgbClr val="58c1ba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Geen directe behandeling, hooguit symptoombestrijding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4360" y="1557360"/>
            <a:ext cx="7772400" cy="3951360"/>
          </a:xfrm>
          <a:prstGeom prst="rect">
            <a:avLst/>
          </a:prstGeom>
          <a:solidFill>
            <a:srgbClr val="58c1ba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7200" spc="-1" strike="noStrike">
                <a:solidFill>
                  <a:srgbClr val="ebebeb"/>
                </a:solidFill>
                <a:latin typeface="Century Gothic"/>
              </a:rPr>
              <a:t>Veel hepatitis gevallen worden aanvankelijk aangezien voor griep omdat de klachten erg kunnen lijken op griepverschijnselen</a:t>
            </a:r>
            <a:endParaRPr b="0" lang="en-US" sz="7200" spc="-1" strike="noStrike">
              <a:solidFill>
                <a:srgbClr val="ebebeb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solidFill>
            <a:srgbClr val="58c1ba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7200" spc="-1" strike="noStrike">
                <a:solidFill>
                  <a:srgbClr val="ebebeb"/>
                </a:solidFill>
                <a:latin typeface="Century Gothic"/>
              </a:rPr>
              <a:t>Levercirrose</a:t>
            </a:r>
            <a:endParaRPr b="0" lang="en-US" sz="7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866880" y="4776840"/>
            <a:ext cx="6619680" cy="861840"/>
          </a:xfrm>
          <a:prstGeom prst="rect">
            <a:avLst/>
          </a:prstGeom>
          <a:solidFill>
            <a:srgbClr val="58c1ba"/>
          </a:solidFill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8ad0d6"/>
                </a:solidFill>
                <a:latin typeface="Century Gothic"/>
              </a:rPr>
              <a:t>VERSCHROMPELING, VERBINDWEEFSELING VAN DE LEVER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Leverklachten: symptomen levercirrose, cirrose en alcohol"/>
          <p:cNvPicPr/>
          <p:nvPr/>
        </p:nvPicPr>
        <p:blipFill>
          <a:blip r:embed="rId1"/>
          <a:stretch/>
        </p:blipFill>
        <p:spPr>
          <a:xfrm>
            <a:off x="2362320" y="1600200"/>
            <a:ext cx="4657680" cy="424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solidFill>
            <a:srgbClr val="58c1ba"/>
          </a:soli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200" spc="-1" strike="noStrike">
                <a:solidFill>
                  <a:srgbClr val="ebebeb"/>
                </a:solidFill>
                <a:latin typeface="Century Gothic"/>
              </a:rPr>
              <a:t>Oorzaken </a:t>
            </a:r>
            <a:br>
              <a:rPr sz="4200"/>
            </a:b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826560" y="2052360"/>
            <a:ext cx="6712200" cy="4195800"/>
          </a:xfrm>
          <a:prstGeom prst="rect">
            <a:avLst/>
          </a:prstGeom>
          <a:solidFill>
            <a:srgbClr val="58c1ba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Chronische hepatitis B en C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Chronisch alcoholgebruik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3" descr="lever"/>
          <p:cNvPicPr/>
          <p:nvPr/>
        </p:nvPicPr>
        <p:blipFill>
          <a:blip r:embed="rId1"/>
          <a:stretch/>
        </p:blipFill>
        <p:spPr>
          <a:xfrm>
            <a:off x="826920" y="1125360"/>
            <a:ext cx="7452000" cy="48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solidFill>
            <a:srgbClr val="58c1ba"/>
          </a:soli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200" spc="-1" strike="noStrike">
                <a:solidFill>
                  <a:srgbClr val="ebebeb"/>
                </a:solidFill>
                <a:latin typeface="Century Gothic"/>
              </a:rPr>
              <a:t>Symptomen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826560" y="2052360"/>
            <a:ext cx="6712200" cy="4195800"/>
          </a:xfrm>
          <a:prstGeom prst="rect">
            <a:avLst/>
          </a:prstGeom>
          <a:solidFill>
            <a:srgbClr val="58c1ba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entury Gothic"/>
              </a:rPr>
              <a:t>Een opgezette lever en (vage) buikpijn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entury Gothic"/>
              </a:rPr>
              <a:t>Misselijkheid en braken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entury Gothic"/>
              </a:rPr>
              <a:t>Verminderde eetlust en gewichtsverlies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entury Gothic"/>
              </a:rPr>
              <a:t>Algehele zwakte en vermoeidheid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entury Gothic"/>
              </a:rPr>
              <a:t>Geelzucht; het geel zien van de huid en het oogwit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entury Gothic"/>
              </a:rPr>
              <a:t>Jeuk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entury Gothic"/>
              </a:rPr>
              <a:t>Kleine ‘spinvormige’ bloedvaatjes op de huid (spider naevi)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Picture 2" descr="http://www.huidziekten.nl/afbeeldingen/hepatitis-b-2.jpg"/>
          <p:cNvPicPr/>
          <p:nvPr/>
        </p:nvPicPr>
        <p:blipFill>
          <a:blip r:embed="rId1"/>
          <a:stretch/>
        </p:blipFill>
        <p:spPr>
          <a:xfrm>
            <a:off x="704880" y="609480"/>
            <a:ext cx="3867120" cy="441972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3" descr="http://upload.wikimedia.org/wikipedia/commons/thumb/4/42/Spider_nevus.jpg/230px-Spider_nevus.jpg"/>
          <p:cNvPicPr/>
          <p:nvPr/>
        </p:nvPicPr>
        <p:blipFill>
          <a:blip r:embed="rId2"/>
          <a:stretch/>
        </p:blipFill>
        <p:spPr>
          <a:xfrm>
            <a:off x="5410080" y="0"/>
            <a:ext cx="2629080" cy="442260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4" descr="http://www.sciencephoto.com/image/259930/large/M2200067-Spider_naevus_on_skin-SPL.jpg"/>
          <p:cNvPicPr/>
          <p:nvPr/>
        </p:nvPicPr>
        <p:blipFill>
          <a:blip r:embed="rId3"/>
          <a:stretch/>
        </p:blipFill>
        <p:spPr>
          <a:xfrm>
            <a:off x="4876920" y="4489560"/>
            <a:ext cx="3409920" cy="236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solidFill>
            <a:srgbClr val="58c1ba"/>
          </a:soli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200" spc="-1" strike="noStrike">
                <a:solidFill>
                  <a:srgbClr val="ebebeb"/>
                </a:solidFill>
                <a:latin typeface="Century Gothic"/>
              </a:rPr>
              <a:t>onderzoeken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826560" y="2052360"/>
            <a:ext cx="6712200" cy="4195800"/>
          </a:xfrm>
          <a:prstGeom prst="rect">
            <a:avLst/>
          </a:prstGeom>
          <a:solidFill>
            <a:srgbClr val="58c1ba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Bloedonderzoek: leverfuncties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X BOZ, MRI.leverscan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Echografie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Leverpunctie/ biopsie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solidFill>
            <a:srgbClr val="58c1ba"/>
          </a:soli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200" spc="-1" strike="noStrike">
                <a:solidFill>
                  <a:srgbClr val="ebebeb"/>
                </a:solidFill>
                <a:latin typeface="Century Gothic"/>
              </a:rPr>
              <a:t>Therapie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826560" y="2052360"/>
            <a:ext cx="6712200" cy="4195800"/>
          </a:xfrm>
          <a:prstGeom prst="rect">
            <a:avLst/>
          </a:prstGeom>
          <a:solidFill>
            <a:srgbClr val="58c1ba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Alleen symptomatisch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Levertransplantatie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66880" y="1447560"/>
            <a:ext cx="6619680" cy="3328920"/>
          </a:xfrm>
          <a:prstGeom prst="rect">
            <a:avLst/>
          </a:prstGeom>
          <a:solidFill>
            <a:srgbClr val="fbe0cf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7200" spc="-1" strike="noStrike">
                <a:solidFill>
                  <a:srgbClr val="ebebeb"/>
                </a:solidFill>
                <a:latin typeface="Century Gothic"/>
              </a:rPr>
              <a:t>Pancreatitis </a:t>
            </a:r>
            <a:endParaRPr b="0" lang="en-US" sz="7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127160"/>
          </a:xfrm>
          <a:prstGeom prst="rect">
            <a:avLst/>
          </a:prstGeom>
          <a:solidFill>
            <a:srgbClr val="fbe0cf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8ad0d6"/>
                </a:solidFill>
                <a:latin typeface="Century Gothic"/>
              </a:rPr>
              <a:t>ALVLEESKLIERONTSTEKING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8ad0d6"/>
                </a:solidFill>
                <a:latin typeface="Century Gothic"/>
              </a:rPr>
              <a:t>HTTP://PLAZILLA.COM/PAGE/4294981047/PANCREATITIS-WAT-IS-DAT-PRECIES  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2" descr=""/>
          <p:cNvPicPr/>
          <p:nvPr/>
        </p:nvPicPr>
        <p:blipFill>
          <a:blip r:embed="rId1"/>
          <a:stretch/>
        </p:blipFill>
        <p:spPr>
          <a:xfrm>
            <a:off x="468360" y="765000"/>
            <a:ext cx="7843680" cy="519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solidFill>
            <a:srgbClr val="fbe0cf"/>
          </a:soli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200" spc="-1" strike="noStrike">
                <a:solidFill>
                  <a:srgbClr val="ebebeb"/>
                </a:solidFill>
                <a:latin typeface="Century Gothic"/>
              </a:rPr>
              <a:t>Oorzaken van acute pancreatitis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826560" y="2052360"/>
            <a:ext cx="6712200" cy="4195800"/>
          </a:xfrm>
          <a:prstGeom prst="rect">
            <a:avLst/>
          </a:prstGeom>
          <a:solidFill>
            <a:srgbClr val="fbe0cf"/>
          </a:solidFill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Het gedeelte wat spijsverteringssappen maakt is ontstoken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Virus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Geneesmiddelen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Alcoho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Galstenen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315280" cy="1143000"/>
          </a:xfrm>
          <a:prstGeom prst="rect">
            <a:avLst/>
          </a:prstGeom>
          <a:solidFill>
            <a:srgbClr val="fbe0cf"/>
          </a:soli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200" spc="-1" strike="noStrike">
                <a:solidFill>
                  <a:srgbClr val="ebebeb"/>
                </a:solidFill>
                <a:latin typeface="Century Gothic"/>
              </a:rPr>
              <a:t>Verschijnselen 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539640" y="1412640"/>
            <a:ext cx="8315280" cy="5445000"/>
          </a:xfrm>
          <a:prstGeom prst="rect">
            <a:avLst/>
          </a:prstGeom>
          <a:solidFill>
            <a:srgbClr val="fbe0c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Vaak een mild verloop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Soms rnstige pijn in de bovenbuik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Uitstralend naar de rug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Patiënt zit rechtop en voorovergebogen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Ziek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Misselijk en braken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800280"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600" spc="-1" strike="noStrike">
                <a:solidFill>
                  <a:srgbClr val="ffffff"/>
                </a:solidFill>
                <a:latin typeface="Century Gothic"/>
              </a:rPr>
              <a:t>Ziekenhuisopname 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Amylase sterk verhoogd in het bloed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92" name="Picture 2" descr="Pancreatitis symptomen: buikpijn, misselijk, braken &amp; koorts"/>
          <p:cNvPicPr/>
          <p:nvPr/>
        </p:nvPicPr>
        <p:blipFill>
          <a:blip r:embed="rId1"/>
          <a:stretch/>
        </p:blipFill>
        <p:spPr>
          <a:xfrm>
            <a:off x="7093080" y="4437000"/>
            <a:ext cx="1761840" cy="17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solidFill>
            <a:srgbClr val="fbe0cf"/>
          </a:soli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200" spc="-1" strike="noStrike">
                <a:solidFill>
                  <a:srgbClr val="ebebeb"/>
                </a:solidFill>
                <a:latin typeface="Century Gothic"/>
              </a:rPr>
              <a:t>Behandeling </a:t>
            </a:r>
            <a:br>
              <a:rPr sz="4200"/>
            </a:b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826560" y="2052360"/>
            <a:ext cx="6712200" cy="4195800"/>
          </a:xfrm>
          <a:prstGeom prst="rect">
            <a:avLst/>
          </a:prstGeom>
          <a:solidFill>
            <a:srgbClr val="fbe0c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Kunstmatige voeding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Zware pijnstilling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Galstenen worden verwijderd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% overlijd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solidFill>
            <a:srgbClr val="fbe0cf"/>
          </a:soli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200" spc="-1" strike="noStrike">
                <a:solidFill>
                  <a:srgbClr val="ebebeb"/>
                </a:solidFill>
                <a:latin typeface="Century Gothic"/>
              </a:rPr>
              <a:t>Oorzaken chronische pancreatitis</a:t>
            </a:r>
            <a:br>
              <a:rPr sz="4200"/>
            </a:b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826560" y="2052360"/>
            <a:ext cx="6712200" cy="4195800"/>
          </a:xfrm>
          <a:prstGeom prst="rect">
            <a:avLst/>
          </a:prstGeom>
          <a:solidFill>
            <a:srgbClr val="fbe0c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Alcoholmisbruik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Aangeboren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Onbekend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solidFill>
            <a:srgbClr val="58c1ba"/>
          </a:soli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200" spc="-1" strike="noStrike">
                <a:solidFill>
                  <a:srgbClr val="ebebeb"/>
                </a:solidFill>
                <a:latin typeface="Century Gothic"/>
              </a:rPr>
              <a:t>oorzaken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685800" y="1981080"/>
            <a:ext cx="7772400" cy="3608640"/>
          </a:xfrm>
          <a:prstGeom prst="rect">
            <a:avLst/>
          </a:prstGeom>
          <a:solidFill>
            <a:srgbClr val="58c1ba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Virussen: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entury Gothic"/>
              </a:rPr>
              <a:t>hepatitis A, B, C, 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entury Gothic"/>
              </a:rPr>
              <a:t>Epstein-Barrvirus (Z. Pfeiffer), cytomegalievirus(herpesvirus)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Alcohol-  /drugsgebruik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Medicijnen bijv overdosis paracetamo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Stofwisselingsziekten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entury Gothic"/>
              </a:rPr>
              <a:t>https://www.youtube.com/watch?v=12q3byhdt00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solidFill>
            <a:srgbClr val="fbe0cf"/>
          </a:soli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200" spc="-1" strike="noStrike">
                <a:solidFill>
                  <a:srgbClr val="ebebeb"/>
                </a:solidFill>
                <a:latin typeface="Century Gothic"/>
              </a:rPr>
              <a:t>Symptomen chron. pancreatitis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826560" y="2052360"/>
            <a:ext cx="6712200" cy="4195800"/>
          </a:xfrm>
          <a:prstGeom prst="rect">
            <a:avLst/>
          </a:prstGeom>
          <a:solidFill>
            <a:srgbClr val="fbe0c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Wisselende pijn in de buik of in de rug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Afname pijn rechtop voorover gebogen zitten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Vettige ontlasting door tekort aan verteringssappen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Uiteindelijk aantasting endocriene cellen m.a.g. diabetes mellitus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solidFill>
            <a:srgbClr val="fbe0cf"/>
          </a:soli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200" spc="-1" strike="noStrike">
                <a:solidFill>
                  <a:srgbClr val="ebebeb"/>
                </a:solidFill>
                <a:latin typeface="Century Gothic"/>
              </a:rPr>
              <a:t>Behandeling 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826560" y="2052360"/>
            <a:ext cx="6712200" cy="4195800"/>
          </a:xfrm>
          <a:prstGeom prst="rect">
            <a:avLst/>
          </a:prstGeom>
          <a:solidFill>
            <a:srgbClr val="fbe0c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Pijnbestrijding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2" descr="http://www.rugzakreis.nl/images/medisch-hepatitis-a.gif"/>
          <p:cNvPicPr/>
          <p:nvPr/>
        </p:nvPicPr>
        <p:blipFill>
          <a:blip r:embed="rId1"/>
          <a:stretch/>
        </p:blipFill>
        <p:spPr>
          <a:xfrm>
            <a:off x="228600" y="0"/>
            <a:ext cx="5029200" cy="352116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3" descr="http://www.rugzakreis.nl/images/medisch-hepatitis.gif"/>
          <p:cNvPicPr/>
          <p:nvPr/>
        </p:nvPicPr>
        <p:blipFill>
          <a:blip r:embed="rId2"/>
          <a:stretch/>
        </p:blipFill>
        <p:spPr>
          <a:xfrm>
            <a:off x="3657600" y="3313080"/>
            <a:ext cx="5486400" cy="354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Picture 2" descr="http://www.umm.edu/graphics/images/en/18140.jpg"/>
          <p:cNvPicPr/>
          <p:nvPr/>
        </p:nvPicPr>
        <p:blipFill>
          <a:blip r:embed="rId1"/>
          <a:stretch/>
        </p:blipFill>
        <p:spPr>
          <a:xfrm>
            <a:off x="304920" y="380880"/>
            <a:ext cx="4572000" cy="365760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4" descr="http://www.huidziekten.nl/afbeeldingen/hepatitis-b-1.jpg"/>
          <p:cNvPicPr/>
          <p:nvPr/>
        </p:nvPicPr>
        <p:blipFill>
          <a:blip r:embed="rId2"/>
          <a:stretch/>
        </p:blipFill>
        <p:spPr>
          <a:xfrm>
            <a:off x="4800600" y="2819520"/>
            <a:ext cx="4343400" cy="35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solidFill>
            <a:srgbClr val="58c1ba"/>
          </a:soli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200" spc="-1" strike="noStrike">
                <a:solidFill>
                  <a:srgbClr val="ebebeb"/>
                </a:solidFill>
                <a:latin typeface="Century Gothic"/>
              </a:rPr>
              <a:t>Besmettingswegen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685800" y="1980720"/>
            <a:ext cx="7772400" cy="2816280"/>
          </a:xfrm>
          <a:prstGeom prst="rect">
            <a:avLst/>
          </a:prstGeom>
          <a:solidFill>
            <a:srgbClr val="58c1ba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A: besmet voedsel, water met faecaliën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B en C: seksueel contact, bloed/- transfusies en  naalden delen door  drugsgebruikers, mensen in de zorg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http://www.stophepatitis-c.nl/videos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solidFill>
            <a:srgbClr val="58c1ba"/>
          </a:soli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200" spc="-1" strike="noStrike">
                <a:solidFill>
                  <a:srgbClr val="ebebeb"/>
                </a:solidFill>
                <a:latin typeface="Century Gothic"/>
              </a:rPr>
              <a:t>Typen hepatitis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826560" y="2052360"/>
            <a:ext cx="6712200" cy="4195800"/>
          </a:xfrm>
          <a:prstGeom prst="rect">
            <a:avLst/>
          </a:prstGeom>
          <a:solidFill>
            <a:srgbClr val="58c1ba"/>
          </a:solidFill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8ad0d6"/>
              </a:buClr>
              <a:buSzPct val="80000"/>
              <a:buFont typeface="Century Gothic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609480" indent="-609480">
              <a:spcBef>
                <a:spcPts val="1001"/>
              </a:spcBef>
              <a:buClr>
                <a:srgbClr val="8ad0d6"/>
              </a:buClr>
              <a:buSzPct val="80000"/>
              <a:buFont typeface="Century Gothic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Acute hepatitis - duurt minder dan zes maanden, de virussen hepatitis A;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609480" indent="-609480">
              <a:spcBef>
                <a:spcPts val="1001"/>
              </a:spcBef>
              <a:buClr>
                <a:srgbClr val="8ad0d6"/>
              </a:buClr>
              <a:buSzPct val="80000"/>
              <a:buFont typeface="Century Gothic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Chronische hepatitis - duurt langer dan zes maanden,  de virussen hepatitis B en C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609480" indent="-6094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solidFill>
            <a:srgbClr val="58c1ba"/>
          </a:soli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200" spc="-1" strike="noStrike">
                <a:solidFill>
                  <a:srgbClr val="ebebeb"/>
                </a:solidFill>
                <a:latin typeface="Century Gothic"/>
              </a:rPr>
              <a:t>Symptomen  acute hepatitis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826560" y="2052360"/>
            <a:ext cx="6712200" cy="4195800"/>
          </a:xfrm>
          <a:prstGeom prst="rect">
            <a:avLst/>
          </a:prstGeom>
          <a:solidFill>
            <a:srgbClr val="58c1ba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vermoeidheid, algemene malaise, lichte koorts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diarree, misselijkheid, slechte eetlust, veranderingen in smaak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druk of pijn onder de rechterribben veroorzaakt door een vergrote lever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pijnlijke spieren en gewrichten, hoofdpijn, huiduitslag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solidFill>
            <a:srgbClr val="58c1ba"/>
          </a:soli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200" spc="-1" strike="noStrike">
                <a:solidFill>
                  <a:srgbClr val="ebebeb"/>
                </a:solidFill>
                <a:latin typeface="Century Gothic"/>
              </a:rPr>
              <a:t>In de icterusfase 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826560" y="2052360"/>
            <a:ext cx="6712200" cy="4195800"/>
          </a:xfrm>
          <a:prstGeom prst="rect">
            <a:avLst/>
          </a:prstGeom>
          <a:solidFill>
            <a:srgbClr val="58c1ba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Century Gothic"/>
              </a:rPr>
              <a:t>vergeling van de witte gedeelten van de ogen, de huid en de slijmvliezen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Century Gothic"/>
              </a:rPr>
              <a:t>donkere urine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Century Gothic"/>
              </a:rPr>
              <a:t>licht gekleurde ontlasting (stopverf)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Century Gothic"/>
              </a:rPr>
              <a:t>rond deze tijd verdwijnen de andere symptomen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Century Gothic"/>
              </a:rPr>
              <a:t>Herstel: uiteindelijk blijft alleen vermoeidheid over, die langzamerhand verdwijnt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1T08:32:41Z</dcterms:created>
  <dc:creator>Agnieta</dc:creator>
  <dc:description/>
  <dc:language>en-US</dc:language>
  <cp:lastModifiedBy>marlies bouland</cp:lastModifiedBy>
  <cp:lastPrinted>2015-03-20T11:56:38Z</cp:lastPrinted>
  <dcterms:modified xsi:type="dcterms:W3CDTF">2018-09-22T11:48:50Z</dcterms:modified>
  <cp:revision>20</cp:revision>
  <dc:subject/>
  <dc:title>Hepatitis</dc:title>
</cp:coreProperties>
</file>