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960043-FB41-4ACD-92B4-4C33395C82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www.ziekenhuis.nl/ziektebeelden/a/allergie/item608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DCBA-C751-4067-8FE5-45A9938E98E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A127C-9C01-4BE4-8830-37140144D14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gE staat voor immuunglobuline van klasse E. Deze antistoffen zijn betrokken bij de afweer tegen parasieten en bij allergische reac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ST: Een RAST-test (radioallergosorbent-test) is een bloedtest om er achter te komen of j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rgisch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bent voor bepaalde stoffen, zoals huisstofmijt of p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3C9-F1E8-485B-892E-8A12F7E5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0F6-E499-4A45-85F0-C08AFE1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9F8-3DF6-473E-8462-FAFAAC6D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B82-F0D9-44EB-B4B8-13D20421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3550-47B1-4DA7-BDC2-AAE5341A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73B2-5878-4B9A-89D2-F3B9AE44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F180-FFA9-4AA4-9E5F-32CA98E5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90F1-D28B-4644-9AE1-5A903E40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1B5-C276-452D-B1EA-8CF68C7A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1694-64F7-457E-8168-82B29CCD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BB35-67C3-4B02-806F-275B02DE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41D-3692-4AE7-A9BD-5B48F534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56F4-8E9A-452A-A0C0-88090DA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43B8-F687-4E6D-8C59-EB7A237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9E2-C5E3-4180-9AB1-4DD4DF4B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4FC-D394-45BC-B6C3-2A7674B0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4C4-19A6-4C6C-AE61-AFEF5D9B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751F3-9A2D-4247-BF4F-2CAA2782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A500-C083-4BB2-81F5-2A610439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BA7B-64F6-4DFF-A15A-B8610A4D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BEF9-1674-4149-96D9-F34AC4C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C4CB9-C56D-4CF9-AF7B-9375917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E03-0B20-4385-AE2B-2C16DB8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5573-A366-45C9-8762-AF559186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06B9-F361-4165-B68C-3E82C39A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6424-433A-4AED-A5EB-2B96D530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06195-1EBC-4293-B170-BB18990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7FC7-0147-4BAA-8B61-6667054A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013A-29F7-47BC-843A-866EA8BF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16308-C194-44BC-895A-D5F4C0D9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6916-B5B9-4650-B97D-B61D7688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201D4-8F67-44C3-8DB0-37A8CB0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A36C-D7CF-4670-AF7A-ED2EF432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1DB-2F27-4F34-8870-2FDC6DA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B4F5-BF7A-4B95-B456-B1D00566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BF77-3897-4957-8C5A-BB34610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8DC53-1F21-41B5-B37C-F0BAD0E1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6584A-5194-48FC-9772-551F5486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D69C6-792E-40A8-9D87-CE3EEF2E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8FA40-A346-4AD3-B7F2-63BFE4B9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F5433-C4D2-4DA7-97EA-663E95BE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41330-6CF1-4C3E-AE35-48623969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E0DA5-F469-4C86-8EA1-2DAEE22B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081-E9DE-4CA1-9AA1-1DD8F9F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295-AF11-4470-B805-2F51E97B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036-A13A-430C-8130-46999391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DB9-A729-4FBE-96F9-E439327D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D94-F437-4D6E-B1DA-3FAE89B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7FAD2-CB10-4432-B1FC-7DDE5B8B732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E6E77-F002-4E8C-ABC1-78AA44CF71F0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70FB8-9BFC-48CA-85F9-54CC9E0E5269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74032-D74B-4B43-A0C5-42BF1B633F42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entury Gothic"/>
              </a:rPr>
              <a:t>Aandoeningen van het Spijsverteringsstelsel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520" y="5084280"/>
            <a:ext cx="5916600" cy="554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DEE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uderdom: atrofie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rugstromen van gal uit d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fectie met helicobacter pylori bacter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 in de bovenbuik, 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l opgeblazen gevoel na weinig e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flu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, soms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lies van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hankelijk oorzaak, onthouding van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wandbeschermers: mucuprotec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astro-enter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en ontsteking van het slijmvlies van maag en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wel buikgriep genoem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een epidemiet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door voedselvergiftig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Afbeelding 3" descr=""/>
          <p:cNvPicPr/>
          <p:nvPr/>
        </p:nvPicPr>
        <p:blipFill>
          <a:blip r:embed="rId1"/>
          <a:stretch/>
        </p:blipFill>
        <p:spPr>
          <a:xfrm>
            <a:off x="5054760" y="4581360"/>
            <a:ext cx="3225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n of meer water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chte buik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inderde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</a:t>
            </a: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geen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virale infec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bacterieel (oa.salmon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entury Gothic"/>
              </a:rPr>
              <a:t>Dehydratie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(uitdroging),  vooral 0-2 jarigen en de zeer ouden van da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schijnselen van uitdroging zij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roge mond, lipp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o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fontanel(baby’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uilen zonder tra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nder urin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rikkelbaar/agressief of  suf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at vaak vanzelf o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ten is niet nod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inken heel belangrij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o nodig ORS (een water, zouten en glucose oploss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e (extra) hygiëne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ev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derzoek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eceskwe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agzweer / Ulcus Pepticum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79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licobacter pylori,  een bacterie(&gt;60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 hoge zoutzuurproductie en/of slechte kwaliteit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, hevige stres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evige pijn in de bovenbuik, bij ulcus ventriculi, vooral na het et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el oprispingen / bo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peekselvlo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ongergevoel / hongerpijn, vooral bij ulcus duode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Trage stoelga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lecht verdragen van sommige voedingsmiddelen, o.a. koffie, alcohol, pittig e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llergie - Intoleran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: jeuk, uitslag, galbulten, oede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chtwegen: astma(piepen,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rtademigheid), neus- en/of oog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nd: prikkelend gevoel in de mond, braken, misselijk, diarree, verstopp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rt- en vaatstelsel: anafylactische shoc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dere :excessief huilen (baby)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eiachterstand, gedragsklachte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Afbeelding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049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: gastrosco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9" name="Picture 3" descr="908310220313257"/>
          <p:cNvPicPr/>
          <p:nvPr/>
        </p:nvPicPr>
        <p:blipFill>
          <a:blip r:embed="rId1"/>
          <a:stretch/>
        </p:blipFill>
        <p:spPr>
          <a:xfrm>
            <a:off x="4732200" y="3382920"/>
            <a:ext cx="3721320" cy="298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658800" y="3648240"/>
            <a:ext cx="3429000" cy="272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gastroscopie"/>
          <p:cNvPicPr/>
          <p:nvPr/>
        </p:nvPicPr>
        <p:blipFill>
          <a:blip r:embed="rId3"/>
          <a:stretch/>
        </p:blipFill>
        <p:spPr>
          <a:xfrm>
            <a:off x="3132000" y="1928880"/>
            <a:ext cx="2189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aeceskweek om te kijken of de bacterie  helicobacter pylori aanwezig is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bloeding :hematemesis en melae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 de chronische prikkeling: maagkank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perforatie m.a.g. periton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ttekenvorming, mag een stenose en daardoor ontledigingsproblemen, projectiel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, afh. oorzaa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ppen m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edingsproducten die de klachten verergeren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tibiotica in combinatie met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bindende middelen(antacid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ress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nia diafragmatica 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ynonieme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iatus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liding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Middenrifbreu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Omschrijving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e opening tussen borst- en buikholte i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wijder dan normaal waardoor de maag voor een deel de borstholte inglijd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lachten door omhoog stromen van de maaginhou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geen klachten, 40%  van de mensen boven de 60 jaar heeft he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ïrriteerde ke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st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, branderig gevoel achter het borstbeen, soms 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ebeb"/>
                </a:solidFill>
                <a:latin typeface="Century Gothic"/>
              </a:rPr>
              <a:t>Complicatie: slokdarmontsteking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4" name="Picture 3" descr="foto02mini"/>
          <p:cNvPicPr/>
          <p:nvPr/>
        </p:nvPicPr>
        <p:blipFill>
          <a:blip r:embed="rId1"/>
          <a:stretch/>
        </p:blipFill>
        <p:spPr>
          <a:xfrm>
            <a:off x="231840" y="225900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624560" y="2259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: slikfoto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4788000" y="256536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: maagsap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efregels:* boveneinde bed 10 cm omhoo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 voeding aanpassen(vetarm, geen alcohol, chocola,pepermunt, scherpe kruiden, citrusvruchten)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ratie , als bovenstaande niet help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264px-Barretts_esophagus"/>
          <p:cNvPicPr/>
          <p:nvPr/>
        </p:nvPicPr>
        <p:blipFill>
          <a:blip r:embed="rId1"/>
          <a:stretch/>
        </p:blipFill>
        <p:spPr>
          <a:xfrm>
            <a:off x="6300720" y="4254480"/>
            <a:ext cx="2401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amnese en lichamelijk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IGE, R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prikt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k-priktest:eerst in product, dan in 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liminatie-Provocatie test (koemel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ubbelblind placebo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glaten van de voedingsmiddelen waarop wordt gereageer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pipen, Anapen, dit zijn met adrenaline gevulde injectiepe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cute Bui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e spreekt van een acute buik bij een plotselinge, mogelijk levensbedreigende, buikaandoening. Vaak gaat het om een ernstige acute ontsteking aan de organen in je buik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is belangrijk om snel te handelen en direct contact op te nemen met een ar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67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Ontstekingen: appendicitis,  peritonitis, cholecystitis, pancreatitis, ovariitis/adnex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l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erforatie van holle organen: maag, darm, galblaas, bloedva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efrolithiasis (niersten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xtra-uteriene gravid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vige pijn, druk- en loslaat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raken, misselijk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nkharde buik (défense musculai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ymptomen passend bij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f9d8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T-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tijd in een ziekenhu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richt op het behandelen van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Gastr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ONTSTEKING VAN HET MAAG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6594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547640" y="557280"/>
            <a:ext cx="26481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Marlies Bouland</cp:lastModifiedBy>
  <dcterms:modified xsi:type="dcterms:W3CDTF">2018-03-15T19:26:23Z</dcterms:modified>
  <cp:revision>33</cp:revision>
  <dc:subject/>
  <dc:title>Aandoeningen van het Spijsverteringsstelsel</dc:title>
</cp:coreProperties>
</file>