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B5DA-316A-44E1-B16D-4926EFD1F6B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A913-2963-4AAD-B379-57CB8F80F4CE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061-B767-4776-963C-3BB1AE7D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AF3-9BBB-4F92-AAEF-67D06873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A0B-AADC-4B3F-B88A-8B79DD77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9CB-0B55-406D-B6F5-9C7E0D55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7585-85C3-4580-BEFF-490FA9B3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5F4-265F-4C83-94F9-5A2CD0CF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C0A3-319B-4D6A-9446-F9A040A3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F153-16EE-4989-9E83-6CDDAA0A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07BC-E952-4B2E-9818-BF4119A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862C-3974-4281-9941-BB49E217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E1A-6E30-4379-9404-3612833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F7C-168C-468D-BDC1-4862E32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E295-FA14-422A-B7E6-6FAA166C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CF0D-DF64-4689-BD1A-7E8A120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488-EE04-4811-BDB6-1886E980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AD5D-16E7-4E7E-BE99-833CC046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0BF-AE35-466D-B5F6-663614DA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AAC-E6DF-4AE4-AAE7-EA3B1012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740-B474-4DE8-A9A3-40826B14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065-D535-49C4-9D1D-4DA2AB71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2F3-F20A-4EC6-95B3-02AC39B4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A98-229A-4EE3-84AC-37E1681B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504-9095-4DC7-A062-A5653A6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E77-C584-4CAB-AB98-75A82A67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DCAB-B711-4A16-A178-78223ED3DF54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368-7060-4B2B-B0DD-A217996102EC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ker en dunnere ontlasting dan norm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iet zelden waterd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stal buikkram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rmen5"/>
          <p:cNvPicPr/>
          <p:nvPr/>
        </p:nvPicPr>
        <p:blipFill>
          <a:blip r:embed="rId1"/>
          <a:stretch/>
        </p:blipFill>
        <p:spPr>
          <a:xfrm>
            <a:off x="54100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tinkende en/of brij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uurt vaak langer dan 10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oral mensen die naar (sub) topen zijn gewe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ndere oorzak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cute blindedarmonsteking (appendic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rikkelbare darmsynd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Ziekte van Croh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f andere (chronische) darmziek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medicij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nlangs gebrui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S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hypertens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gox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-epilep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heofylline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routine bij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, frequente diarree langer dan 3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Jonger dan 2, ouder dan 70 langer dan 1 dag of koorts boven 39 g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 gebruik: acpil, lithium, digoxine, diuretica, anti epileptica = overleg h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minderde weerst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rkzaam in voedselbereiding, verpleging of verzor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dringend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rend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xtreme do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eiging tot flauwval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uf, ver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 (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DV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 meer dan anders (liever geen vruchtensap, lightprod. of frisdran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et naar behoef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: borst of flesvoeding gewoon voortzetten (niet verdunn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trouwbaarheid OAC is niet gewaarborgd, maatregelen n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Hygi</a:t>
            </a: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ë</a:t>
            </a: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n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Handen goed wassen na toiletbezoek of verzorgen van kinderen met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wissel 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 vaak de lu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Reinig wc (deurkrukken!), bekers, keukengerei steeds na gebrui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angnetadvi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er contact opnemen bij langer dan 3 dgn waterdunne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inderen onder de 2 jaar, volw. van 70 jr of ouder: contact opnemen bij langer dan 1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rger ziek vo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Geneesmiddelen tegen 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operam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peramide"/>
          <p:cNvPicPr/>
          <p:nvPr/>
        </p:nvPicPr>
        <p:blipFill>
          <a:blip r:embed="rId1"/>
          <a:stretch/>
        </p:blipFill>
        <p:spPr>
          <a:xfrm>
            <a:off x="838080" y="3886200"/>
            <a:ext cx="4000680" cy="213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agem"/>
          <p:cNvPicPr/>
          <p:nvPr/>
        </p:nvPicPr>
        <p:blipFill>
          <a:blip r:embed="rId2"/>
          <a:stretch/>
        </p:blipFill>
        <p:spPr>
          <a:xfrm>
            <a:off x="6400800" y="4038480"/>
            <a:ext cx="17146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cute diarree/gastro-enterit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erie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eds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aras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dere oorz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operamide heeft een remmende werking. Vermindert in de eerste 2 dagen de frequent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kort de ziekteduur ni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werking: obstip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geen effect bij kinderen jonger dan 8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ag niet gebruikt worden bij koorts/ bloed-en slijm bijme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.R.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gevaar vo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4" descr="1-ORS"/>
          <p:cNvPicPr/>
          <p:nvPr/>
        </p:nvPicPr>
        <p:blipFill>
          <a:blip r:embed="rId1"/>
          <a:stretch/>
        </p:blipFill>
        <p:spPr>
          <a:xfrm>
            <a:off x="4775040" y="2286000"/>
            <a:ext cx="3740400" cy="421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attachment"/>
          <p:cNvPicPr/>
          <p:nvPr/>
        </p:nvPicPr>
        <p:blipFill>
          <a:blip r:embed="rId2"/>
          <a:stretch/>
        </p:blipFill>
        <p:spPr>
          <a:xfrm>
            <a:off x="977760" y="3213000"/>
            <a:ext cx="3086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iraal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ok wel buikgrie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ussen worden uitgescheiden en verspreid via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smett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s kleine epidemie ( bv gezin of peuterspeelza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symptom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/brijacht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dere keren per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uikpijn/miss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nnen enkele dagen vanzelf weer 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 drinken (gewoon e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bruik medicijnen meestal niet nodi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Bacteri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 of voedsel bes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loed en of slij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ak Campylobacter , Salmone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campylobacter"/>
          <p:cNvPicPr/>
          <p:nvPr/>
        </p:nvPicPr>
        <p:blipFill>
          <a:blip r:embed="rId1"/>
          <a:stretch/>
        </p:blipFill>
        <p:spPr>
          <a:xfrm>
            <a:off x="1447920" y="2209680"/>
            <a:ext cx="2457360" cy="196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ww-ei_clip_image004"/>
          <p:cNvPicPr/>
          <p:nvPr/>
        </p:nvPicPr>
        <p:blipFill>
          <a:blip r:embed="rId2"/>
          <a:stretch/>
        </p:blipFill>
        <p:spPr>
          <a:xfrm>
            <a:off x="5715000" y="2362320"/>
            <a:ext cx="2160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Picture 4" descr="darmen5"/>
          <p:cNvPicPr/>
          <p:nvPr/>
        </p:nvPicPr>
        <p:blipFill>
          <a:blip r:embed="rId1"/>
          <a:stretch/>
        </p:blipFill>
        <p:spPr>
          <a:xfrm>
            <a:off x="287172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oedselvergifti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mige bacter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ë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 produceren toxines = giftige stof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 binnen enkele uren na innemen voeds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ok misselijkheid en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. vooral bij schaaldieren kip, rundvlees, melk, sal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parasi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platwo10"/>
          <p:cNvPicPr/>
          <p:nvPr/>
        </p:nvPicPr>
        <p:blipFill>
          <a:blip r:embed="rId1"/>
          <a:stretch/>
        </p:blipFill>
        <p:spPr>
          <a:xfrm>
            <a:off x="5181480" y="274320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hookworm"/>
          <p:cNvPicPr/>
          <p:nvPr/>
        </p:nvPicPr>
        <p:blipFill>
          <a:blip r:embed="rId2"/>
          <a:stretch/>
        </p:blipFill>
        <p:spPr>
          <a:xfrm>
            <a:off x="1523880" y="2666880"/>
            <a:ext cx="2721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03:04Z</dcterms:created>
  <dc:creator>Henk Hermsen</dc:creator>
  <dc:description/>
  <dc:language>en-US</dc:language>
  <cp:lastModifiedBy>Uw naam</cp:lastModifiedBy>
  <dcterms:modified xsi:type="dcterms:W3CDTF">2016-03-30T13:18:25Z</dcterms:modified>
  <cp:revision>9</cp:revision>
  <dc:subject/>
  <dc:title>DIARREE</dc:title>
</cp:coreProperties>
</file>