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B978-6671-4A0E-8237-66B3470F8F9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F97-9AE3-4ADA-81B7-912DB9BC16CC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535-065C-4E57-9DBB-90030BA2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E4B-92C6-4FDF-B1E0-FE3011C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217-1109-46B6-B882-18BE21F4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AAD-4C48-4FED-A3D8-E1063E84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5A7C-394D-4E93-A5A5-EB6E5BC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61A-D745-4741-93B6-AD817418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959-E50C-446A-B203-332EDFDE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A4C-D92F-423F-BEDF-6E814C7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D62-6FDC-4FCC-B75A-9FFF975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26AB-E359-4A10-AA11-ADA31A8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6D72-FB42-419B-9CCC-8FB011D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523-F248-411C-9D5C-D8A2C54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6C4-787E-4B4F-858E-22BAA63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C7E6-F583-49FA-B522-4EF4E72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AB5-E39C-4370-B35B-19619AB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7AFF-0F02-45AB-9649-8210AD3B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F02A-0BAE-4D3D-BBBA-8D1A8114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CB8-7010-4951-AA96-4833851C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D33-D278-4BF3-A819-5CC02EB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3C6-D49A-4BB8-9D94-2AF68D46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218-D1BC-4766-87FA-32EF53BA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5BA-C818-4BA6-B70F-2BD7061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22A-0C86-4A27-B347-38892C7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014-B2E8-4B7B-B631-9B57951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0572-B51A-4F45-B4CD-B67D09C4F777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659-86F0-4141-8701-F51CBAB8B478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ker en dunnere ontlasting dan norm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iet zelden waterd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stal buikkram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rmen5"/>
          <p:cNvPicPr/>
          <p:nvPr/>
        </p:nvPicPr>
        <p:blipFill>
          <a:blip r:embed="rId1"/>
          <a:stretch/>
        </p:blipFill>
        <p:spPr>
          <a:xfrm>
            <a:off x="54100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tinkende en/of brij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uurt vaak langer dan 10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oral mensen die naar (sub) topen zijn gewe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ndere oorzak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cute blindedarmonsteking (appendic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rikkelbare darmsynd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Ziekte van Croh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f andere (chronische) darmziek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medicij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nlangs gebrui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S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hypertens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gox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-epilep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heofylline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routine bij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, frequente diarree langer dan 3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Jonger dan 2, ouder dan 70 langer dan 1 dag of koorts boven 39 g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 gebruik: acpil, lithium, digoxine, diuretica, anti epileptica = overleg h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minderde weerst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rkzaam in voedselbereiding, verpleging of verzor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dringend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rend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xtreme do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eiging tot flauwval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uf, ver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 (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DV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 meer dan anders (liever geen vruchtensap, lightprod. of frisdran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et naar behoef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: borst of flesvoeding gewoon voortzetten (niet verdunn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trouwbaarheid OAC is niet gewaarborgd, maatregelen n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Hygi</a:t>
            </a: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ë</a:t>
            </a: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n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Handen goed wassen na toiletbezoek of verzorgen van kinderen met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wissel 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 vaak de lu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Reinig wc (deurkrukken!), bekers, keukengerei steeds na gebrui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angnetadvi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er contact opnemen bij langer dan 3 dgn waterdunne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inderen onder de 2 jaar, volw. van 70 jr of ouder: contact opnemen bij langer dan 1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rger ziek vo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Geneesmiddelen tegen 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operam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peramide"/>
          <p:cNvPicPr/>
          <p:nvPr/>
        </p:nvPicPr>
        <p:blipFill>
          <a:blip r:embed="rId1"/>
          <a:stretch/>
        </p:blipFill>
        <p:spPr>
          <a:xfrm>
            <a:off x="838080" y="3886200"/>
            <a:ext cx="4000680" cy="213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agem"/>
          <p:cNvPicPr/>
          <p:nvPr/>
        </p:nvPicPr>
        <p:blipFill>
          <a:blip r:embed="rId2"/>
          <a:stretch/>
        </p:blipFill>
        <p:spPr>
          <a:xfrm>
            <a:off x="6400800" y="4038480"/>
            <a:ext cx="17146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cute diarree/gastro-enterit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erie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eds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aras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dere oorz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operamide heeft een remmende werking. Vermindert in de eerste 2 dagen de frequent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kort de ziekteduur ni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werking: obstip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geen effect bij kinderen jonger dan 8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ag niet gebruikt worden bij koorts/ bloed-en slijm bijme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.R.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gevaar vo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4" descr="1-ORS"/>
          <p:cNvPicPr/>
          <p:nvPr/>
        </p:nvPicPr>
        <p:blipFill>
          <a:blip r:embed="rId1"/>
          <a:stretch/>
        </p:blipFill>
        <p:spPr>
          <a:xfrm>
            <a:off x="4775040" y="2286000"/>
            <a:ext cx="3740400" cy="421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attachment"/>
          <p:cNvPicPr/>
          <p:nvPr/>
        </p:nvPicPr>
        <p:blipFill>
          <a:blip r:embed="rId2"/>
          <a:stretch/>
        </p:blipFill>
        <p:spPr>
          <a:xfrm>
            <a:off x="977760" y="3213000"/>
            <a:ext cx="3086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iraal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ok wel buikgrie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ussen worden uitgescheiden en verspreid via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smett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s kleine epidemie ( bv gezin of peuterspeelza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symptom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/brijacht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dere keren per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uikpijn/miss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nnen enkele dagen vanzelf weer 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 drinken (gewoon e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bruik medicijnen meestal niet nodi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Bacteri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 of voedsel bes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loed en of slij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ak Campylobacter , Salmone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campylobacter"/>
          <p:cNvPicPr/>
          <p:nvPr/>
        </p:nvPicPr>
        <p:blipFill>
          <a:blip r:embed="rId1"/>
          <a:stretch/>
        </p:blipFill>
        <p:spPr>
          <a:xfrm>
            <a:off x="1447920" y="2209680"/>
            <a:ext cx="2457360" cy="196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ww-ei_clip_image004"/>
          <p:cNvPicPr/>
          <p:nvPr/>
        </p:nvPicPr>
        <p:blipFill>
          <a:blip r:embed="rId2"/>
          <a:stretch/>
        </p:blipFill>
        <p:spPr>
          <a:xfrm>
            <a:off x="5715000" y="2362320"/>
            <a:ext cx="2160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Picture 4" descr="darmen5"/>
          <p:cNvPicPr/>
          <p:nvPr/>
        </p:nvPicPr>
        <p:blipFill>
          <a:blip r:embed="rId1"/>
          <a:stretch/>
        </p:blipFill>
        <p:spPr>
          <a:xfrm>
            <a:off x="287172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oedselvergifti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mige bacter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ë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 produceren toxines = giftige stof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 binnen enkele uren na innemen voeds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ok misselijkheid en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. vooral bij schaaldieren kip, rundvlees, melk, sal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parasi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platwo10"/>
          <p:cNvPicPr/>
          <p:nvPr/>
        </p:nvPicPr>
        <p:blipFill>
          <a:blip r:embed="rId1"/>
          <a:stretch/>
        </p:blipFill>
        <p:spPr>
          <a:xfrm>
            <a:off x="5181480" y="274320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hookworm"/>
          <p:cNvPicPr/>
          <p:nvPr/>
        </p:nvPicPr>
        <p:blipFill>
          <a:blip r:embed="rId2"/>
          <a:stretch/>
        </p:blipFill>
        <p:spPr>
          <a:xfrm>
            <a:off x="1523880" y="2666880"/>
            <a:ext cx="2721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03:04Z</dcterms:created>
  <dc:creator>Henk Hermsen</dc:creator>
  <dc:description/>
  <dc:language>en-US</dc:language>
  <cp:lastModifiedBy>Uw naam</cp:lastModifiedBy>
  <dcterms:modified xsi:type="dcterms:W3CDTF">2016-03-30T13:18:25Z</dcterms:modified>
  <cp:revision>9</cp:revision>
  <dc:subject/>
  <dc:title>DIARREE</dc:title>
</cp:coreProperties>
</file>