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3.xml.rels" ContentType="application/vnd.openxmlformats-package.relationships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84564-1BE9-4C75-B605-336E68FF0836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396E1-9C29-40F3-BB34-523ABD0D8998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7223B-2280-4606-8E88-815FC1D3B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930CC-3AF3-4A8B-8C03-B6724BCC0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FE72A-5772-4D85-8A80-ECAE27706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B77BA-795F-4018-AB42-E61BC5A22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FBD98-1EC9-409D-B209-6E6EB4BFB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10B14-921A-4D9B-9B9F-C783A66E5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FC140-CB2C-47EF-B701-8FA8A2173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258E7-4836-4BC0-8DCA-FE169B451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6CD03-B885-491F-B634-94ABE5067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8C520-8644-4B5A-A3FE-9BC576D73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8CE5E-1E6E-494E-882C-2DABF20D2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63FF2-4295-4BE1-B777-54FF4227C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2754F-FB55-43FF-8AE2-0E7A02C02F13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med-info.nl/images/images_algemeen/Diverticulitis_00.jpg" TargetMode="External"/><Relationship Id="rId2" Type="http://schemas.openxmlformats.org/officeDocument/2006/relationships/hyperlink" Target="http://www.med-info.nl/images/images_algemeen/Diverticulitis_00.jpg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6002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Aandoeningen van het Spijsverteringsstels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Darmaandoening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Diverticulit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Ontsteking van een divertikel in linker deel van de dikke da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" name="Group 15"/>
          <p:cNvGrpSpPr/>
          <p:nvPr/>
        </p:nvGrpSpPr>
        <p:grpSpPr>
          <a:xfrm>
            <a:off x="1371600" y="1306440"/>
            <a:ext cx="9144000" cy="5551560"/>
            <a:chOff x="1371600" y="1306440"/>
            <a:chExt cx="9144000" cy="5551560"/>
          </a:xfrm>
        </p:grpSpPr>
        <p:sp>
          <p:nvSpPr>
            <p:cNvPr id="73" name="Rectangle 14"/>
            <p:cNvSpPr/>
            <p:nvPr/>
          </p:nvSpPr>
          <p:spPr>
            <a:xfrm>
              <a:off x="1371600" y="1306440"/>
              <a:ext cx="9144000" cy="5551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4" name="Group 13"/>
            <p:cNvGrpSpPr/>
            <p:nvPr/>
          </p:nvGrpSpPr>
          <p:grpSpPr>
            <a:xfrm>
              <a:off x="1371600" y="1306440"/>
              <a:ext cx="9144000" cy="5551560"/>
              <a:chOff x="1371600" y="1306440"/>
              <a:chExt cx="9144000" cy="5551560"/>
            </a:xfrm>
          </p:grpSpPr>
          <p:sp>
            <p:nvSpPr>
              <p:cNvPr id="75" name="Rectangle 2"/>
              <p:cNvSpPr/>
              <p:nvPr/>
            </p:nvSpPr>
            <p:spPr>
              <a:xfrm>
                <a:off x="1371600" y="1306440"/>
                <a:ext cx="5572080" cy="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6" name="Group 12"/>
              <p:cNvGrpSpPr/>
              <p:nvPr/>
            </p:nvGrpSpPr>
            <p:grpSpPr>
              <a:xfrm>
                <a:off x="1371600" y="1306440"/>
                <a:ext cx="9144000" cy="5551560"/>
                <a:chOff x="1371600" y="1306440"/>
                <a:chExt cx="9144000" cy="5551560"/>
              </a:xfrm>
            </p:grpSpPr>
            <p:sp>
              <p:nvSpPr>
                <p:cNvPr id="77" name="Rectangle 3"/>
                <p:cNvSpPr/>
                <p:nvPr/>
              </p:nvSpPr>
              <p:spPr>
                <a:xfrm>
                  <a:off x="1371600" y="1306440"/>
                  <a:ext cx="9144000" cy="55515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8" name="Group 11"/>
                <p:cNvGrpSpPr/>
                <p:nvPr/>
              </p:nvGrpSpPr>
              <p:grpSpPr>
                <a:xfrm>
                  <a:off x="1371600" y="1306440"/>
                  <a:ext cx="4665600" cy="1403280"/>
                  <a:chOff x="1371600" y="1306440"/>
                  <a:chExt cx="4665600" cy="1403280"/>
                </a:xfrm>
              </p:grpSpPr>
              <p:grpSp>
                <p:nvGrpSpPr>
                  <p:cNvPr id="79" name="Group 9"/>
                  <p:cNvGrpSpPr/>
                  <p:nvPr/>
                </p:nvGrpSpPr>
                <p:grpSpPr>
                  <a:xfrm>
                    <a:off x="1371600" y="1306440"/>
                    <a:ext cx="4665600" cy="1403280"/>
                    <a:chOff x="1371600" y="1306440"/>
                    <a:chExt cx="4665600" cy="1403280"/>
                  </a:xfrm>
                </p:grpSpPr>
                <p:sp>
                  <p:nvSpPr>
                    <p:cNvPr id="80" name="Rectangle 8"/>
                    <p:cNvSpPr/>
                    <p:nvPr/>
                  </p:nvSpPr>
                  <p:spPr>
                    <a:xfrm>
                      <a:off x="1371600" y="1306440"/>
                      <a:ext cx="4665600" cy="140328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81" name="Group 7"/>
                    <p:cNvGrpSpPr/>
                    <p:nvPr/>
                  </p:nvGrpSpPr>
                  <p:grpSpPr>
                    <a:xfrm>
                      <a:off x="1371600" y="1306440"/>
                      <a:ext cx="4665600" cy="1403280"/>
                      <a:chOff x="1371600" y="1306440"/>
                      <a:chExt cx="4665600" cy="1403280"/>
                    </a:xfrm>
                  </p:grpSpPr>
                  <p:sp>
                    <p:nvSpPr>
                      <p:cNvPr id="82" name="Rectangle 4"/>
                      <p:cNvSpPr/>
                      <p:nvPr/>
                    </p:nvSpPr>
                    <p:spPr>
                      <a:xfrm>
                        <a:off x="1371600" y="1306440"/>
                        <a:ext cx="4665600" cy="140328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rmAutofit fontScale="99000"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nl-NL" sz="900" spc="-1" strike="noStrike" u="sng">
                            <a:solidFill>
                              <a:srgbClr val="ccccff"/>
                            </a:solidFill>
                            <a:uFillTx/>
                            <a:latin typeface="Times New Roman"/>
                            <a:hlinkClick r:id="rId1"/>
                          </a:rPr>
                          <a:t>  </a:t>
                        </a:r>
                        <a:r>
                          <a:rPr b="0" lang="nl-NL" sz="86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 </a:t>
                        </a:r>
                        <a:r>
                          <a:rPr b="0" lang="nl-NL" sz="9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                                                       </a:t>
                        </a:r>
                        <a:endPara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3" name="Rectangle 6"/>
                      <p:cNvSpPr/>
                      <p:nvPr/>
                    </p:nvSpPr>
                    <p:spPr>
                      <a:xfrm>
                        <a:off x="1371600" y="1306440"/>
                        <a:ext cx="4665600" cy="140328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0">
                        <a:solidFill>
                          <a:srgbClr val="a0a0a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rm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84" name="Rectangle 10"/>
                  <p:cNvSpPr/>
                  <p:nvPr/>
                </p:nvSpPr>
                <p:spPr>
                  <a:xfrm>
                    <a:off x="1371600" y="1306440"/>
                    <a:ext cx="4665600" cy="14032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solidFill>
                      <a:srgbClr val="111111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pic>
        <p:nvPicPr>
          <p:cNvPr id="85" name="Picture 5" descr="Diverticulitis_00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523880" y="746280"/>
            <a:ext cx="632484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Oorzak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Te lange aanwezigheid van veel ontlasting in de divertik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Symptom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Vage buikpijn , acuut toeneme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Kramp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Verstopping , een veranderd ontlasting patro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Koo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Opgezette bui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Misselijkheid en brak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Onderzoeke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CT-sc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Complicatie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Abcesvorm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Perforat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Therap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Kunstmatige voeding om de darm rust te gev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Antibiot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Alleen bij complicaties operat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Peritoniti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Buikvliesontsteking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Oorzake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Bacteriën  (sepsi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Tuberkelbacil geeft vaak chronische ontstek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Chemisch via een perforat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Mechanisch: achter gebleven materia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Peritoneale dialys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symptomen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Buikpij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Misselijkheid en Brak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Koorts soms ook koude rilling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Shockverschijnselen:dorst, klamme huid, zweten,weinig urineproductie,snelle pols, verlaagde bloeddr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Inhoud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Appendicit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Diverticulit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Peritonit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Cholelithiasi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Onderzoeke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XBO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CT-sc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Kweek van buikvoc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complica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De aandoening kan levensbedreigend zij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Behandel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De oorzaak aanpakk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Antibiot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Operati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Koliekpijne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Door sten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http://www.rijndejonge.nl/images/voeding/galstenen2.jpg"/>
          <p:cNvPicPr/>
          <p:nvPr/>
        </p:nvPicPr>
        <p:blipFill>
          <a:blip r:embed="rId1"/>
          <a:stretch/>
        </p:blipFill>
        <p:spPr>
          <a:xfrm>
            <a:off x="185760" y="1747800"/>
            <a:ext cx="3925800" cy="29527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" descr="http://upload.wikimedia.org/wikipedia/commons/9/92/Galstenen.jpg"/>
          <p:cNvPicPr/>
          <p:nvPr/>
        </p:nvPicPr>
        <p:blipFill>
          <a:blip r:embed="rId2"/>
          <a:stretch/>
        </p:blipFill>
        <p:spPr>
          <a:xfrm>
            <a:off x="4267080" y="620640"/>
            <a:ext cx="487692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Oorzaak en Gevol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Pijn in aanvallen optredend tengevolge van  spierkrampen van glad spierweefsel gepaard gaand met bewegingsdrang, misselijkheid en braken, soms ook diarre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Uitstralend naar de rug en/of schou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Symptomen cholelithia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Geen, toevalsbevin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Vage pijn in de bovenbuik na vet eten,idem wat misselij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Vol gevoel na vetrijk et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Winderigheid(flatulenti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Boeren (ructu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Ontkleurde ontlasting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http://us.123rf.com/400wm/400/400/alila/alila1104/alila110400002/9245821-galstenen-eps8.jpg"/>
          <p:cNvPicPr/>
          <p:nvPr/>
        </p:nvPicPr>
        <p:blipFill>
          <a:blip r:embed="rId1"/>
          <a:stretch/>
        </p:blipFill>
        <p:spPr>
          <a:xfrm>
            <a:off x="1468440" y="28440"/>
            <a:ext cx="6877080" cy="687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Onderzoeke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4360" y="2276640"/>
            <a:ext cx="7772400" cy="36036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Echoscop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ERCP( via endoscoop in de galwegen kijken, kleine steentjes kunnen gelijk verwijderd worden) Endoscopische Retrograde Cholangeo-Pancreatograf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MR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http://www.chirurgenoperatie.nl/pagina/buik_algemeen/foto/galblaas.gif"/>
          <p:cNvPicPr/>
          <p:nvPr/>
        </p:nvPicPr>
        <p:blipFill>
          <a:blip r:embed="rId1"/>
          <a:stretch/>
        </p:blipFill>
        <p:spPr>
          <a:xfrm>
            <a:off x="136440" y="981000"/>
            <a:ext cx="4145040" cy="37432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4" descr="http://www.huisdokteronline.nl/images/Galstenen%201.jpg"/>
          <p:cNvPicPr/>
          <p:nvPr/>
        </p:nvPicPr>
        <p:blipFill>
          <a:blip r:embed="rId2"/>
          <a:stretch/>
        </p:blipFill>
        <p:spPr>
          <a:xfrm>
            <a:off x="4281480" y="3317760"/>
            <a:ext cx="4608360" cy="34560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6" descr="http://www.kiesbeter.nl/object_binary/o2011.jpg"/>
          <p:cNvPicPr/>
          <p:nvPr/>
        </p:nvPicPr>
        <p:blipFill>
          <a:blip r:embed="rId3"/>
          <a:stretch/>
        </p:blipFill>
        <p:spPr>
          <a:xfrm>
            <a:off x="4264200" y="260280"/>
            <a:ext cx="421776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Appendiciti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Ontsteking van het wormvormig aanhangs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(appendix vermiformis) aan de blinde da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Risicofactoren voor galsteenvorm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Fatty, fourty, fairy fema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Vrouwelijk geslach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Boven de veertig ja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Overgewich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Blond wordt soms ook als kenmerk genoem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Complicaties van galsten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Cholecystit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Afsluiting galweg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Verstopping papil van Vater m.a.g. ook een pancreatit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Galblaasperforatie m.a.g.een peritonit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Operatieve verwijder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Picture 5" descr="http://www.chirurgenspijkenisse.nl/wp-content/uploads/2010/05/galblaas3.jpg"/>
          <p:cNvPicPr/>
          <p:nvPr/>
        </p:nvPicPr>
        <p:blipFill>
          <a:blip r:embed="rId1"/>
          <a:stretch/>
        </p:blipFill>
        <p:spPr>
          <a:xfrm>
            <a:off x="1619280" y="2133720"/>
            <a:ext cx="6048360" cy="39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Behandeling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11280" y="2205000"/>
            <a:ext cx="7772400" cy="44719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Bij weinig klachten voeding aanpass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ERCP bij kleine steentj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Cholecystectomie (galblaasverwijdering) door laparoscopie of door een conventionele operat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Tijdens aanval supp of im-injectie met een NSAID of een spasmolytic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7"/>
          <p:cNvGrpSpPr/>
          <p:nvPr/>
        </p:nvGrpSpPr>
        <p:grpSpPr>
          <a:xfrm>
            <a:off x="0" y="1636560"/>
            <a:ext cx="9144000" cy="3450960"/>
            <a:chOff x="0" y="1636560"/>
            <a:chExt cx="9144000" cy="3450960"/>
          </a:xfrm>
        </p:grpSpPr>
        <p:sp>
          <p:nvSpPr>
            <p:cNvPr id="55" name="Rectangle 2"/>
            <p:cNvSpPr/>
            <p:nvPr/>
          </p:nvSpPr>
          <p:spPr>
            <a:xfrm>
              <a:off x="0" y="1636560"/>
              <a:ext cx="56800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" name="Group 6"/>
            <p:cNvGrpSpPr/>
            <p:nvPr/>
          </p:nvGrpSpPr>
          <p:grpSpPr>
            <a:xfrm>
              <a:off x="0" y="1656720"/>
              <a:ext cx="9144000" cy="3430800"/>
              <a:chOff x="0" y="1656720"/>
              <a:chExt cx="9144000" cy="3430800"/>
            </a:xfrm>
          </p:grpSpPr>
          <p:sp>
            <p:nvSpPr>
              <p:cNvPr id="57" name="Rectangle 3"/>
              <p:cNvSpPr/>
              <p:nvPr/>
            </p:nvSpPr>
            <p:spPr>
              <a:xfrm>
                <a:off x="22320" y="1676520"/>
                <a:ext cx="9099360" cy="339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360" rIns="0" tIns="0" bIns="33480" anchor="t">
                <a:normAutofit fontScale="98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NL" sz="8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0" lang="nl-NL" sz="22300" spc="-1" strike="noStrike">
                    <a:solidFill>
                      <a:srgbClr val="000000"/>
                    </a:solidFill>
                    <a:latin typeface="Arial"/>
                  </a:rPr>
                  <a:t> </a:t>
                </a:r>
                <a:r>
                  <a:rPr b="0" lang="nl-NL" sz="800" spc="-1" strike="noStrike">
                    <a:solidFill>
                      <a:srgbClr val="000000"/>
                    </a:solidFill>
                    <a:latin typeface="Arial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Rectangle 5"/>
              <p:cNvSpPr/>
              <p:nvPr/>
            </p:nvSpPr>
            <p:spPr>
              <a:xfrm>
                <a:off x="0" y="1656720"/>
                <a:ext cx="9144000" cy="3430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59" name="Picture 4" descr="Appendicitis Illustratie - Ontsteking van het aanhangsel"/>
          <p:cNvPicPr/>
          <p:nvPr/>
        </p:nvPicPr>
        <p:blipFill>
          <a:blip r:embed="rId1"/>
          <a:stretch/>
        </p:blipFill>
        <p:spPr>
          <a:xfrm>
            <a:off x="2438280" y="1600200"/>
            <a:ext cx="4492800" cy="35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Oorzaak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Verstopping van de appendix door ingedikt fae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Afsluiting door zwelling van het omringende lymfeweefs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Symptom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Buikpijn, vaak rond de navel beginnend en later afzakkend naar rechtson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Wanneer het buikvlies wordt geprikkeld een hevige pijn ,doodstil ligg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Verlies van eetlu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Misselijk en brak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Soms van te voren wat diaree  en kleine buikpijnaanvalletj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Onderzoeke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Lichamelijk onderzoek, druk-loslaatpij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Echoscop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X BO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CT-sc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Complica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Ontstaan van een ab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Perforatie, gevolgd door een peritonit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Sepsi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Therap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Appendectomi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9T12:11:41Z</dcterms:created>
  <dc:creator>Agnieta</dc:creator>
  <dc:description/>
  <dc:language>en-US</dc:language>
  <cp:lastModifiedBy>Marlies Bouland</cp:lastModifiedBy>
  <dcterms:modified xsi:type="dcterms:W3CDTF">2018-03-13T13:29:39Z</dcterms:modified>
  <cp:revision>18</cp:revision>
  <dc:subject/>
  <dc:title>Aandoeningen van het Spijsverteringskanaal</dc:title>
</cp:coreProperties>
</file>