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2ED-ED04-4EAE-BC32-1F1595A0F4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22A9-66FA-4DB8-97D4-DCE756764C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00E-BABC-4B68-9415-C03C7A9D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631-6A07-4CB0-A3F0-51E461A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BF1-5D25-4BE3-8095-C898DA77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FA2-B758-45E0-B7D8-89A02DD1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BD3C-9363-4039-BB70-BE8E2BDF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CF8F-4869-4E78-BDF1-A8E68244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62B3-0DBB-489E-8DCE-53316E76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8845-08BC-447B-A7F8-F12E18B0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D89-19AC-450F-B90A-6966CF72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4BF6-8799-456E-9A73-C46DA69D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8180-BAAA-447C-9EFE-C238D37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BF7-0891-4A74-82AC-40F5CBB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8B5E-3175-4FF5-8217-9BD4B953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402A-E360-4419-93F0-05705E9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B2D1-682E-43A0-94D6-50F4C11B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A26E-2C6E-422A-B0B5-809B7100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EBD3-D0A1-4789-9478-7DD20DB4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120E-755B-4040-A4F1-21915A41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E8B2-97BE-4D85-BF70-CE2D9982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0074-7B67-4E9B-8323-64C094D8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C38E-7351-49C9-9EC6-EF99BEC8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5927-3371-41D1-912D-6E0C180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4B4-617A-4E71-801B-2E00609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5678-EFE6-4779-9E8D-51346C0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F4DB-0458-4075-9372-8FA8A26A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3A8C-56DA-4615-A5BE-BA36A00A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2844-11DF-4019-B43F-FFAB3B2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1D77-3B32-4A17-9AF7-2CDEB930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03C3-E322-4DE0-8C7F-C44CDFE9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04E6-8217-4C0A-9522-5E061808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D486-98EC-4961-A963-FEF4FD4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2A4E-9108-44EA-923C-06521E33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1F79-2642-4E73-AA66-7BEEFF8C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B9B-50FC-4383-BC0F-D8320BF5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76C1-4D66-4947-8DD4-C9A0BE2D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EDC02-9156-4023-A549-6D0CEC10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0661-DD8E-47B9-A055-544C5F2D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1CE6-3603-467B-A2BF-6B70079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E452-3168-4171-B82E-AE2E403A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B5E7-1F24-40F1-AF1E-BD5C746E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E96D-7E9A-4404-A4AF-27246652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924D-5968-4AA5-8D85-2683F20E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8CEA-EB2B-4660-8F83-18CE31AE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FB1C-FB76-4120-87FC-317F8C94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636-216B-4EA9-AD1A-BF232012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0422E-0757-4E08-8761-B92F2C6D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5DB3-E2B2-4684-ADF6-E460A527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EA6A-C1B2-4EE9-8C4E-3D4D7D45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CC2F-5FBA-44E9-BBCB-BC6D32EF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3B77-17FA-4A78-A84F-0D1576F1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8658-C151-41D1-9BF3-422C670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00E75-572F-489B-A2A5-5B9E857F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FC6F-F9DF-4562-A8A0-0671954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C227-A5CB-45D5-AA97-4A75A1D8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5E5D-32C3-44E7-B58B-411E92DA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1F1-8F69-4EC9-A6D7-949D3B59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F6D2-A710-447E-882F-44B7A2C1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1A5A-1BF9-4E99-B871-10307C57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0490-CC36-4BEB-948A-BFFD37B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2731-A4AD-4426-8ABD-B3486113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6827A-C139-4D37-9827-EBCB744B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3567-91FD-41CD-9EFD-8A4D02C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F1B3C-1699-455D-957B-6A086C5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D1BC-D9A6-4999-8E1E-2EB881B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1597-3169-4CB7-B4B1-DA9AC2F0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32FD-C93E-475B-93D5-3FEAE98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AD9-6335-4F9F-8939-2E0B59F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9AEE-8897-4F2E-9775-0A2FD719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AE297-BEDF-4AC4-803B-F3CED9B9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CD92-C6A3-4CD3-9F0D-9154E4BA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0AC-6152-445B-A50A-D39A30AD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1D0-41A3-4FE5-B73F-F6140ED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5BC8-BD1A-4558-976E-282CA1BDF1B5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614-41FA-4CC9-A8A2-FEFBF427DE06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3D3D-FAAC-42FC-BD76-1C120CF3A00C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A318-CBC9-4426-BCD8-B532F2C6EBA2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44CA-77F3-4003-AA42-2E456242B4E8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D78D-0F4A-402E-BE6A-FEBB7DCAC234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8047080" cy="1474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fwijkingen aan spieren, pezen en slijmbeurz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rtro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3444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al bij elleboog en kni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ar ook bij heup, schouder en de hiel (achilluspe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en bursa is een met slijm gevuld zakje onder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Bursitis van de knie"/>
          <p:cNvPicPr/>
          <p:nvPr/>
        </p:nvPicPr>
        <p:blipFill>
          <a:blip r:embed="rId1"/>
          <a:stretch/>
        </p:blipFill>
        <p:spPr>
          <a:xfrm>
            <a:off x="0" y="2895480"/>
            <a:ext cx="4267080" cy="3413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http://www.menselijk-lichaam.com/wp-content/uploads/slijmbeursontsteking.jpg"/>
          <p:cNvPicPr/>
          <p:nvPr/>
        </p:nvPicPr>
        <p:blipFill>
          <a:blip r:embed="rId2"/>
          <a:stretch/>
        </p:blipFill>
        <p:spPr>
          <a:xfrm>
            <a:off x="4572000" y="533520"/>
            <a:ext cx="4389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wegingsbeper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Ko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oodhei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wel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veel druk op de slijmbeurs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 van een gewricht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en val of een infecti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doseerde bewegin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mijden van de overbelasting van het gewrich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 injecti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el 1" descr=""/>
          <p:cNvPicPr/>
          <p:nvPr/>
        </p:nvPicPr>
        <p:blipFill>
          <a:blip r:embed="rId1"/>
          <a:stretch/>
        </p:blipFill>
        <p:spPr>
          <a:xfrm>
            <a:off x="438120" y="11592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de kniehol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: overbelasting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wrichtsziekte :reuma, artr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schijnselen: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lo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veel vloeistof in het gewricht te voelen als een zwell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knie kan niet goed gebogen wor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zwelling onderbeen door stagnatie bloedafvo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381400" y="1238400"/>
            <a:ext cx="43812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an vanzelf overgaan : Gedu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gzuigen van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spuiten van corticosteroïd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iden soms zinv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operatie, cyste komt vaak teru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het kapsel van een gewricht of in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s gevuld met slijmerig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dwijnt meestal vanz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d.m.v. een punctie vocht verwijd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f inspuiten corticosteroï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fwijking komt soms weer terug na  behandeling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el 1" descr=""/>
          <p:cNvPicPr/>
          <p:nvPr/>
        </p:nvPicPr>
        <p:blipFill>
          <a:blip r:embed="rId1"/>
          <a:stretch/>
        </p:blipFill>
        <p:spPr>
          <a:xfrm>
            <a:off x="4286160" y="262080"/>
            <a:ext cx="4602240" cy="1401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-7920" y="69228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857320" cy="146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4"/>
          <a:stretch/>
        </p:blipFill>
        <p:spPr>
          <a:xfrm>
            <a:off x="4221000" y="3078000"/>
            <a:ext cx="4943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89040" y="476280"/>
            <a:ext cx="8047080" cy="1504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1905120"/>
            <a:ext cx="7775280" cy="31795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Gewrichtsslijtage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Het gladde kraakbeenoppervlak raakt beschadig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Vooral coxartrose en gonartrose, daarnaast in de wervelkolom en han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enbrel.nl/upload/flash/artrose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swf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youtube.com/watch?v=hzjje-m0s-o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hthoek 1"/>
          <p:cNvSpPr/>
          <p:nvPr/>
        </p:nvSpPr>
        <p:spPr>
          <a:xfrm>
            <a:off x="2305080" y="5952960"/>
            <a:ext cx="63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JrC4DiTysi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hthoek 2"/>
          <p:cNvSpPr/>
          <p:nvPr/>
        </p:nvSpPr>
        <p:spPr>
          <a:xfrm>
            <a:off x="1860480" y="6388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u4371S27E4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365040" y="1908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61760" y="1412640"/>
            <a:ext cx="373356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uis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niselleboog/ -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eesschede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aker-cys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ijmbeurs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Fibromyalg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7960" y="1412640"/>
            <a:ext cx="380988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SI:repetetive strain injury(oude naam) Nu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ans(KANS): complaints of arm, neck and should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picondylitis lateralis humer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dinitis of tendovagin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angl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urs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Artro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ijfhe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rt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beperkingen, minder bewegen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e conditie van de spieren neemt dan af en komt er meer druk op de gewrichten te staan. Hierdoor kunnen de slijmbeurzen weer ontstoken rake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 den duur vorming van botuitsteekse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10954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Animatieplaatje over wat artrose is"/>
          <p:cNvPicPr/>
          <p:nvPr/>
        </p:nvPicPr>
        <p:blipFill>
          <a:blip r:embed="rId1"/>
          <a:stretch/>
        </p:blipFill>
        <p:spPr>
          <a:xfrm>
            <a:off x="1095480" y="885960"/>
            <a:ext cx="6953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Slijtage die van nature ontstaat bij het ouder wor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Overbelasting / overgewic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rhaalde blessur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Ziekten en acute trauma gewri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updysplasi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Erfelijke aanle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In beweging blijven  Rust roes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rticosteroï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Fysiotherapie en ergo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eratie: osteotomie, arthrodese, prothese, arthroscopie om aanhangsels t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verwijd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 in bindweefsel en spi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ke delen reuma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ronisch pijnsyndroom: spierpijn, stijfheid, vermoeidheid, hoofdpij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 onbeke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te doen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pijnstillers, antidepressiva of slaapmiddele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Behandeling in een pijncentrum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Fysio- en oefentherapie Cesar of Mensendieck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vermijden van str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Leefregel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epetitive Strain Inju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lessure door herhaalde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zamelnaam: Spier en gewrichtklacht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, tintelingen, doof gevo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eventie: ergenomie op werkpl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4140360" y="2546280"/>
            <a:ext cx="44035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476280" y="585720"/>
            <a:ext cx="798516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pier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ruk op de peesaanhechtingspunt geeft pijnstijg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Moe gevo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perking in activitei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3954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1026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637400" cy="142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nderliggende aandoening behandel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 / NSAID/corticostero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ïdinjec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efen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Z.n. werk aanpass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Wel aan het werk blijven en anders contact houden met de collega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ntact bedrijfsarts/ -verpleegkundi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gnitieve gedragstherapie: psycholo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cale verdikking van de elleboo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arm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 rond elleboog, toenemend bij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blemen in cervicale wervelkol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is een self-limiting disease (8 – 13 maanden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pe, bandages, oefeningen en fysiotherapie geven geen snellere verbet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ndinit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oudering of overbela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: syndroom van De Quervain (Peesschedeontsteking van pol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wegen van duim is pijnlij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rigger Finger: Omhulsels buigpezen vinger zwellen op. Blijft in buigstand staan. Corticosteroiden inspui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, eventueel gips of een spal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een operatie,waarbij de peesschede wordt opengesne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4:08:33Z</dcterms:created>
  <dc:creator>Agnieta</dc:creator>
  <dc:description/>
  <dc:language>en-US</dc:language>
  <cp:lastModifiedBy>Bouland,M.</cp:lastModifiedBy>
  <dcterms:modified xsi:type="dcterms:W3CDTF">2015-12-10T09:36:44Z</dcterms:modified>
  <cp:revision>25</cp:revision>
  <dc:subject/>
  <dc:title>Reumatische Aandoeningen</dc:title>
</cp:coreProperties>
</file>