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4.jpeg" ContentType="image/jpeg"/>
  <Override PartName="/ppt/media/image25.png" ContentType="image/png"/>
  <Override PartName="/ppt/media/image28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E26B-EF78-4019-98FE-27A98078E90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C67D-6C4E-420A-9B31-F79DFB6BD0D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0C2A-6ED2-4570-B20C-407CC0EA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AAD0-52D7-4AF9-8F57-74D35023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FFDE-DBF3-4DDF-B075-659CA0ED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9B88-CA5A-4A90-B5EB-043D4D40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4428-6977-4744-9101-C6D6A6A9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990A-7A56-48E5-AE3D-96607269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162A-427B-4E64-BC02-8A6F445F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2B75-05E2-40CB-80A5-4B54418A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91E9-0438-4C28-BDEC-9FD3AB4D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EEC1-7837-4C34-9825-8CFFF51C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83A9-75CF-4D4D-ACF4-73B78922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A38-873F-4C29-8671-6A8AAB28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A65B-D4B8-4055-962E-1960E10D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E5AD-545C-4D60-AD6A-0900BE44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81DD-6B3D-4437-95EA-BC998D7B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1EDE-1A1C-4D2B-B266-68C2CEB6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C7DB-95C2-4F8C-8C37-BDF7CA33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BEAFE-94A2-453C-A5D6-DF9B60AF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F57BD-4986-4891-AC29-6A82C04B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F62DA-BE2D-4226-8090-0945A351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DF58E-330E-4C85-B098-1A405BD1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9FD54-ACD4-4F73-9419-D1E407D8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268A-978F-4DB6-B7B7-11F1BF1A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445E6-F68C-48CD-BF59-E10878F3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F13F5-48B6-430B-86A3-3AEBFBF4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B0405-53D0-465B-AB3C-58E1B78A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73C53-2F08-4082-893D-D0AE8E14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EB713-0CB4-4EC6-BBC1-E5F8628F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82AE5-DBBB-46E6-A6FC-486D5246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8E9E8-53C7-45DF-A9CB-471EC5D3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157E9-BFA4-4DB7-95EE-FCB4A705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ADF2F-39F5-4D7A-8C4C-AC8B1F38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F97E7-738E-424E-A895-4F843E7B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26F8-8BDD-4003-9739-164401C1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53A2B-6D80-476B-83CB-FD4C8059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5E84C-0A9F-4006-AC2F-88200BDF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45820-6B0C-47C8-ABBB-EA18D932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73BF9-78C3-4179-A06D-863A3C6D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8D6A4-9860-4E94-A303-18DB47B1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990F9-9F57-473E-AD8C-F25CFDEB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919BB-0B2C-4D5F-8D40-D3871A3E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C4C4F-A0E8-4C80-885B-150FEADF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49E91-9E4C-48AC-9E03-376A67FF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3FFBA-C985-44B9-94A6-36CB85FA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052F-FCB5-47A3-B02D-92B8462A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8ACFF-EE66-42CD-A348-0F4ED0AD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BEA3A-3836-4443-BD96-67FC3D63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6F5BD-15AA-459E-AF51-64BE04FB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C6B35-EC5D-4072-A65E-341C66E7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A9779-5AA4-4407-AD2A-4F0C581E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A202A-604F-4660-97C6-AC21ECBC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2F816-E297-4E4D-AEDE-F9F05BA3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3C010-23E7-41D4-87E1-E47AEA0F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AE5B0-BFB9-4CC9-BC49-25D1708B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2B995-F0CE-4049-BC7C-5BB348F6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0524-83F8-405C-ABB8-805742FB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BDC16-D576-49FE-B8BB-813DAC7C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59229-5D7B-4614-BD72-D644DEC6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9229A-BE0D-4707-A521-FAA299EA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BF548-6689-4C25-97D2-89BADAED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A7BC5-7102-4693-934E-83CEAC69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DEC19-11DC-4D9B-AD84-EB726D89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44D24-D389-472E-A3DF-EA7EEB48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6933D-A818-449E-B777-30443247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E6DCA-AC6C-4396-9210-BAA01630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C071D-9A5F-4432-9AAA-36FD00CC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E395-6F8A-4823-8B40-5552694B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5F2DC-CB6F-4BAE-BA18-0BF31ADE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87C86-7D7B-4960-B59D-ECA09EB8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9BC93-24F7-4299-96DF-5309FE40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42BC-C623-436E-AFCC-8C52EB92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00AD-6064-454B-9F42-ECFFFA8E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E48C-5307-4391-A998-9FD0C93995E5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hthoe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hthoe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hte verbindingslijn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175B-25AA-4A3D-9267-4050E4C2F00E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6AC6-6C7F-404D-80DA-C36C84DE0A57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hthoe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A50D-67F3-4AF9-9FDD-4BD0553E044D}" type="slidenum">
              <a:rPr b="0" lang="nl-NL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5A58-71F6-4F4E-88BB-A908B09E7AB2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1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EACF-EE68-461D-BB0D-17CFBDBFB40D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2" descr=""/>
          <p:cNvPicPr/>
          <p:nvPr/>
        </p:nvPicPr>
        <p:blipFill>
          <a:blip r:embed="rId1"/>
          <a:stretch/>
        </p:blipFill>
        <p:spPr>
          <a:xfrm>
            <a:off x="689040" y="2286000"/>
            <a:ext cx="8047080" cy="14749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Afwijkingen aan spieren, pezen en slijmbeurze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Artros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Rectangle 2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7534440" cy="13953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ooral bij elleboog en knie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aar ook bij heup, schouder en de hiel (achilluspee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Een bursa is een met slijm gevuld zakje onder een pe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Bursitis van de knie"/>
          <p:cNvPicPr/>
          <p:nvPr/>
        </p:nvPicPr>
        <p:blipFill>
          <a:blip r:embed="rId1"/>
          <a:stretch/>
        </p:blipFill>
        <p:spPr>
          <a:xfrm>
            <a:off x="0" y="2895480"/>
            <a:ext cx="4267080" cy="34131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http://www.menselijk-lichaam.com/wp-content/uploads/slijmbeursontsteking.jpg"/>
          <p:cNvPicPr/>
          <p:nvPr/>
        </p:nvPicPr>
        <p:blipFill>
          <a:blip r:embed="rId2"/>
          <a:stretch/>
        </p:blipFill>
        <p:spPr>
          <a:xfrm>
            <a:off x="4572000" y="533520"/>
            <a:ext cx="438948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Klacht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orzaa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ij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ewegingsbeperk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Koor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Roodheid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zwell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teveel druk op de slijmbeurs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verbelasting van een gewricht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een val of een infecti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us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doseerde beweginge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ermijden van de overbelasting van het gewrich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SAI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orticosteroïd injectie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el 1" descr=""/>
          <p:cNvPicPr/>
          <p:nvPr/>
        </p:nvPicPr>
        <p:blipFill>
          <a:blip r:embed="rId1"/>
          <a:stretch/>
        </p:blipFill>
        <p:spPr>
          <a:xfrm>
            <a:off x="438120" y="115920"/>
            <a:ext cx="8016840" cy="14382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685800" y="1341360"/>
            <a:ext cx="77724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yste in de kniehol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orzaak: overbelasting,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                 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wrichtsziekte :reuma, artro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erschijnselen: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pijnlo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teveel vloeistof in het gewricht te voelen als een zwell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e knie kan niet goed gebogen word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oms zwelling onderbeen door stagnatie bloedafvo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2381400" y="1238400"/>
            <a:ext cx="438120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el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1653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Kan vanzelf overgaan : Geduld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egzuigen van voch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Inspuiten van corticosteroïde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eiden soms zinvo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oms operatie, cyste komt vaak teru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685800" y="198072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yste in het kapsel van een gewricht of in een pe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yste is gevuld met slijmerig voch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erdwijnt meestal vanzelf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oms d.m.v. een punctie vocht verwijder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f inspuiten corticosteroïd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Afwijking komt soms weer terug na  behandeling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el 1" descr=""/>
          <p:cNvPicPr/>
          <p:nvPr/>
        </p:nvPicPr>
        <p:blipFill>
          <a:blip r:embed="rId1"/>
          <a:stretch/>
        </p:blipFill>
        <p:spPr>
          <a:xfrm>
            <a:off x="4286160" y="262080"/>
            <a:ext cx="4602240" cy="14014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"/>
          <p:cNvPicPr/>
          <p:nvPr/>
        </p:nvPicPr>
        <p:blipFill>
          <a:blip r:embed="rId2"/>
          <a:stretch/>
        </p:blipFill>
        <p:spPr>
          <a:xfrm>
            <a:off x="-7920" y="692280"/>
            <a:ext cx="4381560" cy="2857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6" descr=""/>
          <p:cNvPicPr/>
          <p:nvPr/>
        </p:nvPicPr>
        <p:blipFill>
          <a:blip r:embed="rId3"/>
          <a:stretch/>
        </p:blipFill>
        <p:spPr>
          <a:xfrm>
            <a:off x="684360" y="4076640"/>
            <a:ext cx="2857320" cy="1467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"/>
          <p:cNvPicPr/>
          <p:nvPr/>
        </p:nvPicPr>
        <p:blipFill>
          <a:blip r:embed="rId4"/>
          <a:stretch/>
        </p:blipFill>
        <p:spPr>
          <a:xfrm>
            <a:off x="4221000" y="3078000"/>
            <a:ext cx="4943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689040" y="476280"/>
            <a:ext cx="8047080" cy="15048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4360" y="1905120"/>
            <a:ext cx="7775280" cy="317952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Gewrichtsslijtage”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Het gladde kraakbeenoppervlak raakt beschadigt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Vooral coxartrose en gonartrose, daarnaast in de wervelkolom en hande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rebuchet MS"/>
              </a:rPr>
              <a:t>http://www.enbrel.nl/upload/flash/artrose</a:t>
            </a: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.</a:t>
            </a:r>
            <a:r>
              <a:rPr b="0" lang="nl-NL" sz="2000" spc="-1" strike="noStrike">
                <a:solidFill>
                  <a:srgbClr val="ffffff"/>
                </a:solidFill>
                <a:latin typeface="Trebuchet MS"/>
              </a:rPr>
              <a:t>swf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rebuchet MS"/>
              </a:rPr>
              <a:t>http://www.youtube.com/watch?v=hzjje-m0s-o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Rechthoek 1"/>
          <p:cNvSpPr/>
          <p:nvPr/>
        </p:nvSpPr>
        <p:spPr>
          <a:xfrm>
            <a:off x="2305080" y="5952960"/>
            <a:ext cx="63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ttp://www.youtube.com/watch?v=JrC4DiTysi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hthoek 2"/>
          <p:cNvSpPr/>
          <p:nvPr/>
        </p:nvSpPr>
        <p:spPr>
          <a:xfrm>
            <a:off x="1860480" y="63882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ttp://www.youtube.com/watch?v=u4371S27E4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365040" y="19080"/>
            <a:ext cx="8016840" cy="14382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761760" y="1412640"/>
            <a:ext cx="3733560" cy="544500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Muisar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Tenniselleboog/ -ar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eesschedeontstek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aker-cys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Slijmbeursontstek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Fibromyalgi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7960" y="1412640"/>
            <a:ext cx="3809880" cy="544500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RSI:repetetive strain injury(oude naam) Nu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Cans(KANS): complaints of arm, neck and should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Epicondylitis lateralis humer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Tendinitis of tendovaginiti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Gangl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ursiti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Artros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Stijfhei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pij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Startpij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Bewegingsbeperkingen, minder bewegen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De conditie van de spieren neemt dan af en komt er meer druk op de gewrichten te staan. Hierdoor kunnen de slijmbeurzen weer ontstoken raken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p den duur vorming van botuitsteeksel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3"/>
          <p:cNvSpPr/>
          <p:nvPr/>
        </p:nvSpPr>
        <p:spPr>
          <a:xfrm>
            <a:off x="109548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2" descr="Animatieplaatje over wat artrose is"/>
          <p:cNvPicPr/>
          <p:nvPr/>
        </p:nvPicPr>
        <p:blipFill>
          <a:blip r:embed="rId1"/>
          <a:stretch/>
        </p:blipFill>
        <p:spPr>
          <a:xfrm>
            <a:off x="1095480" y="885960"/>
            <a:ext cx="695304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33"/>
                </a:solidFill>
                <a:latin typeface="Arial"/>
                <a:ea typeface="Arial"/>
              </a:rPr>
              <a:t>Slijtage die van nature ontstaat bij het ouder word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33"/>
                </a:solidFill>
                <a:latin typeface="Arial"/>
                <a:ea typeface="Arial"/>
              </a:rPr>
              <a:t>Overbelasting / overgewich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33"/>
                </a:solidFill>
                <a:latin typeface="Arial"/>
                <a:ea typeface="Arial"/>
              </a:rPr>
              <a:t>herhaalde blessures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33"/>
                </a:solidFill>
                <a:latin typeface="Arial"/>
                <a:ea typeface="Arial"/>
              </a:rPr>
              <a:t>Ziekten en acute trauma gewricht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33"/>
                </a:solidFill>
                <a:latin typeface="Arial"/>
                <a:ea typeface="Arial"/>
              </a:rPr>
              <a:t>Heupdysplasie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33"/>
                </a:solidFill>
                <a:latin typeface="Arial"/>
                <a:ea typeface="Arial"/>
              </a:rPr>
              <a:t>Erfelijke aanle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In beweging blijven  Rust roes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Paracetamo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NSAI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Corticosteroïd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Fysiotherapie en ergotherapi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peratie: osteotomie, arthrodese, prothese, arthroscopie om aanhangsels te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                    </a:t>
            </a: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verwijder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Pijn in bindweefsel en spier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‘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eke delen reuma’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hronisch pijnsyndroom: spierpijn, stijfheid, vermoeidheid, hoofdpij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orzaak onbeken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t te doen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pijnstillers, antidepressiva of slaapmiddelen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Behandeling in een pijncentrum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Fysio- en oefentherapie Cesar of Mensendieck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Het vermijden van stres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Leefregels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Repetitive Strain Injur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lessure door herhaalde beweg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Verzamelnaam: Spier en gewrichtklachte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ijn, tintelingen, doof gevo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reventie: ergenomie op werkplek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2"/>
          <a:stretch/>
        </p:blipFill>
        <p:spPr>
          <a:xfrm>
            <a:off x="4140360" y="2546280"/>
            <a:ext cx="440352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Rectangle 2" descr=""/>
          <p:cNvPicPr/>
          <p:nvPr/>
        </p:nvPicPr>
        <p:blipFill>
          <a:blip r:embed="rId1"/>
          <a:stretch/>
        </p:blipFill>
        <p:spPr>
          <a:xfrm>
            <a:off x="476280" y="585720"/>
            <a:ext cx="7985160" cy="14256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Spierpij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Bewegingspij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Druk op de peesaanhechtingspunt geeft pijnstijg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Moe gevo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Beperking in activiteit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6" descr=""/>
          <p:cNvPicPr/>
          <p:nvPr/>
        </p:nvPicPr>
        <p:blipFill>
          <a:blip r:embed="rId2"/>
          <a:stretch/>
        </p:blipFill>
        <p:spPr>
          <a:xfrm>
            <a:off x="4648320" y="2349360"/>
            <a:ext cx="39542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1026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637400" cy="1420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nderliggende aandoening behandel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Paracetamol / NSAID/corticostero</a:t>
            </a:r>
            <a:r>
              <a:rPr b="0" lang="nl-NL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ïdinjecti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efentherapi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Z.n. werk aanpass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Wel aan het werk blijven en anders contact houden met de collega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Contact bedrijfsarts/ -verpleegkundig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Cognitieve gedragstherapie: psycholoo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Klacht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orzaa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Locale verdikking van de elleboo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Warm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ijn rond elleboog, toenemend bij beweg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verbelast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roblemen in cervicale wervelkolo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et is een self-limiting disease (8 – 13 maanden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Paracetamo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SAI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orticosteroïden, loca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Tape, bandages, oefeningen en fysiotherapie geven geen snellere verbeter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Tendinit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eroudering of overbelast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oorbeeld: syndroom van De Quervain (Peesschedeontsteking van pol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ewegen van duim is pijnlijk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Trigger Finger: Omhulsels buigpezen vinger zwellen op. Blijft in buigstand staan. Corticosteroiden inspuit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ust, eventueel gips of een spal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SAI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orticosteroïden, loca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oms een operatie,waarbij de peesschede wordt opengesned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4:08:33Z</dcterms:created>
  <dc:creator>Agnieta</dc:creator>
  <dc:description/>
  <dc:language>en-US</dc:language>
  <cp:lastModifiedBy>Bouland,M.</cp:lastModifiedBy>
  <dcterms:modified xsi:type="dcterms:W3CDTF">2015-12-10T09:36:44Z</dcterms:modified>
  <cp:revision>25</cp:revision>
  <dc:subject/>
  <dc:title>Reumatische Aandoeningen</dc:title>
</cp:coreProperties>
</file>