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70CDF-636F-4161-9359-D997E101E4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s://www.ziekenhuis.nl/ziektebeelden/a/allergie/item608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57092-F89A-4B3C-898C-608A9D05773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C83AF-8341-4B92-85FB-487B41950BD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gE staat voor immuunglobuline van klasse E. Deze antistoffen zijn betrokken bij de afweer tegen parasieten en bij allergische reac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AST: Een RAST-test (radioallergosorbent-test) is een bloedtest om er achter te komen of j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llergisch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bent voor bepaalde stoffen, zoals huisstofmijt of poll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ubbelblind: patiënt, nog arts weten wanneer het verdachte voedingsmiddel is g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8CF-9841-463C-B406-AB427FB6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63B-6A73-4123-B8DA-F265ACEB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E04-F9EF-4021-831A-62D8CF5B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C43-CAB1-4CC5-99F3-6214336A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A243-8B73-4652-B4D9-90397456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B9B5-0939-4C13-B0E2-C8419865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F148-D71D-43CC-BC30-7C156315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6C6D-A213-406B-A7DD-56C8ED9A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CEF3-66D3-4889-8B70-9808206F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BD58-5AEF-484F-BF07-6C6C6C46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B888-CBFB-4E2F-B6FD-FB0C7B49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C64-0886-46E7-9998-B507AFDF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CFC1-FC32-4FB9-9A87-4FB5A40F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C58F-F3F9-47F0-8751-B6CF6891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3EA8-BB75-4334-9AAD-4A18E4B2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200B-170A-4541-BFFA-86950CC7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2268-2A96-4719-B3CE-C30A926A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0440B-4A6A-4C67-AAFD-BCBE6458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5D725-527D-4EF9-8017-7D3EA6D9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8081A-2AE9-48B5-AD63-35FC7671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8BA6B-7704-4B49-83FA-29820D74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671CB-F825-459F-A068-C8B870C7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B44-EC6A-4F46-8AFC-9C2FB31A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631A2-95BD-40D5-87FE-148BB4B6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6EB0A-4BD9-42C5-86CE-CA4E0EAB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7E1CE-4D31-41C9-8744-03766495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B72D1-1F26-4AAB-9F1E-BB56025B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C75F6-F887-48AB-98ED-6D3F23B2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49A71-75CB-4124-A8E0-5F7262C6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C4AF-8728-49DA-AF90-A377A14F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44E1C-8731-4BD4-8F8A-7B57B14D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4AF22-28C4-47B2-8E3B-283FCCE1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47921-EBC9-4FA5-B5D5-1F6F7BEE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05E-0C75-43BA-8850-B2F5B0F9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5009B-C62E-4D93-9CE4-BD0F6585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4AED8-80EB-4349-8BA3-4AC2FC3F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F89A1-57DA-40BB-9C91-654FEE6A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6EE25-7503-4AB2-B0B0-5DC0545D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B4228-33CD-4F04-B547-96C4EFA9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DA0C7-2136-424E-88C6-C46310DB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FA790-36B5-47EE-986B-095B6207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8AFC4-BC64-43FC-93D8-30D21C4B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63B4A-F88C-49DA-BE87-D00D1821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B7C-16B5-4A75-8FE9-F8D1032C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4B1-C3ED-41B9-AE68-F0A79D46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B56-B113-489F-9184-8D72C0F5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857-E90C-4C20-97F5-CE15C222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350-0E97-4B45-8238-971DC28A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159286-4E00-48E0-810D-BCB376281E62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ef53a5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ef53a5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8BBFA-D433-4A02-A941-039CE910692C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710AF-E1CE-4CEC-A85E-299E40F4553A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650A0-B7EF-40D5-974E-EE583074EE13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hernia+diafragmatica&amp;hl=nl&amp;safe=active&amp;sa=X&amp;biw=1111&amp;bih=708&amp;tbm=isch&amp;prmd=imvnsb&amp;tbnid=KlBdcfDX2gVc8M:&amp;imgrefurl=http://www.barrett.nl/website/html/algemeenfoto04a.htm&amp;docid=ykKrD_rYRpvcDM&amp;w=300&amp;h=300&amp;ei=UyByTvnpMM6YOpz8xJIJ&amp;zoom=1&amp;iact=rc&amp;dur=15&amp;page=1&amp;tbnh=167&amp;tbnw=167&amp;start=0&amp;ndsp=12&amp;ved=1t:429,r:1,s:0&amp;tx=102&amp;ty=107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ebeb"/>
                </a:solidFill>
                <a:latin typeface="Century Gothic"/>
              </a:rPr>
              <a:t>Aandoeningen van het Spijsverteringsstelsel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66520" y="5084280"/>
            <a:ext cx="5916600" cy="554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ef53a5"/>
                </a:solidFill>
                <a:latin typeface="Century Gothic"/>
              </a:rPr>
              <a:t>DEEL 1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SAID’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uderdom: atrofie van het slijmvl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erugstromen van gal uit de da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fectie met helicobacter pylori bacter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Verschijnsel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 in de bovenbuik, zuurbran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l opgeblazen gevoel na weinig e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Reflux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isselijkheid, soms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lies van eetlu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diarre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stroscop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herapi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fhankelijk oorzaak, onthouding van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wandbeschermers: mucuprotectiv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zuursecretieremm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iet r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Gastro-enter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en ontsteking van het slijmvlies van maag en da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ok wel buikgriep genoem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een epidemietj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ok door voedselvergiftig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1" name="Afbeelding 3" descr=""/>
          <p:cNvPicPr/>
          <p:nvPr/>
        </p:nvPicPr>
        <p:blipFill>
          <a:blip r:embed="rId1"/>
          <a:stretch/>
        </p:blipFill>
        <p:spPr>
          <a:xfrm>
            <a:off x="5054760" y="4581360"/>
            <a:ext cx="32256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700280"/>
            <a:ext cx="7772400" cy="43956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arree, min of meer wateri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ichte buikpij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isselijkheid en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minderde eetlu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estal </a:t>
            </a:r>
            <a:r>
              <a:rPr b="1" lang="nl-NL" sz="2000" spc="-1" strike="noStrike">
                <a:solidFill>
                  <a:srgbClr val="ffffff"/>
                </a:solidFill>
                <a:latin typeface="Century Gothic"/>
              </a:rPr>
              <a:t>geen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koor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aak virale infec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bacterieel (oa.salmonell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Complicat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699920"/>
            <a:ext cx="7772400" cy="48243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entury Gothic"/>
              </a:rPr>
              <a:t>Dehydratie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(uitdroging),  vooral 0-2 jarigen en de zeer ouden van dag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Verschijnselen van uitdroging zijn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roge mond, lipp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Ingevallen og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Ingevallen fontanel(baby’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uilen zonder tra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inder uriner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rikkelbaar/agressief of  suf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at vaak vanzelf ov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ten is niet nodi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rinken heel belangrij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o nodig ORS (een water, zouten en glucose oplossing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oede (extra) hygiëne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reven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derzoek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Feceskwe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Maagzweer / Ulcus Pepticum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79" name="Picture 3" descr="39970-maagzweer-symptomen-klachten-behandeling-en-dieet"/>
          <p:cNvPicPr/>
          <p:nvPr/>
        </p:nvPicPr>
        <p:blipFill>
          <a:blip r:embed="rId1"/>
          <a:stretch/>
        </p:blipFill>
        <p:spPr>
          <a:xfrm>
            <a:off x="3772080" y="2629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o2401"/>
          <p:cNvPicPr/>
          <p:nvPr/>
        </p:nvPicPr>
        <p:blipFill>
          <a:blip r:embed="rId2"/>
          <a:stretch/>
        </p:blipFill>
        <p:spPr>
          <a:xfrm>
            <a:off x="6180120" y="4199040"/>
            <a:ext cx="2286000" cy="2593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h_pylori%20scott%20smith"/>
          <p:cNvPicPr/>
          <p:nvPr/>
        </p:nvPicPr>
        <p:blipFill>
          <a:blip r:embed="rId3"/>
          <a:stretch/>
        </p:blipFill>
        <p:spPr>
          <a:xfrm>
            <a:off x="304920" y="2209680"/>
            <a:ext cx="2307960" cy="2819520"/>
          </a:xfrm>
          <a:prstGeom prst="rect">
            <a:avLst/>
          </a:prstGeom>
          <a:ln w="0">
            <a:noFill/>
          </a:ln>
        </p:spPr>
      </p:pic>
      <p:sp>
        <p:nvSpPr>
          <p:cNvPr id="282" name="Rechthoek 1"/>
          <p:cNvSpPr/>
          <p:nvPr/>
        </p:nvSpPr>
        <p:spPr>
          <a:xfrm>
            <a:off x="4003560" y="5029200"/>
            <a:ext cx="27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1.Zwe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2.Opening naar de 12vingerige da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3.Maagwa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3" name="Picture 7" descr="maagzweer"/>
          <p:cNvPicPr/>
          <p:nvPr/>
        </p:nvPicPr>
        <p:blipFill>
          <a:blip r:embed="rId4"/>
          <a:stretch/>
        </p:blipFill>
        <p:spPr>
          <a:xfrm>
            <a:off x="6319800" y="1844640"/>
            <a:ext cx="20066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licobacter pylori,  een bacterie(&gt;60%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SAID’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e hoge zoutzuurproductie en/of slechte kwaliteit van het slijmvl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cute, hevige stres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evige pijn in de bovenbuik, bij ulcus ventriculi, vooral na het et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Zuurbrand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Veel oprispingen / boer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Speekselvlo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ongergevoel / hongerpijn, vooral bij ulcus duoden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Trage stoelga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Slecht verdragen van sommige voedingsmiddelen, o.a. koffie, alcohol, pittig et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Allergie - Intoleranti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uid: jeuk, uitslag, galbulten, oedee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uchtwegen: astma(piepen,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kortademigheid), neus- en/of oogklach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ond: prikkelend gevoel in de mond, braken, misselijk, diarree, verstopp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art- en vaatstelsel: anafylactische shoc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ndere :excessief huilen (baby)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eiachterstand, gedragsklachten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5" name="Afbeelding 2" descr=""/>
          <p:cNvPicPr/>
          <p:nvPr/>
        </p:nvPicPr>
        <p:blipFill>
          <a:blip r:embed="rId1"/>
          <a:stretch/>
        </p:blipFill>
        <p:spPr>
          <a:xfrm>
            <a:off x="6443640" y="4365720"/>
            <a:ext cx="20494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: gastrosco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89" name="Picture 3" descr="908310220313257"/>
          <p:cNvPicPr/>
          <p:nvPr/>
        </p:nvPicPr>
        <p:blipFill>
          <a:blip r:embed="rId1"/>
          <a:stretch/>
        </p:blipFill>
        <p:spPr>
          <a:xfrm>
            <a:off x="4732200" y="3382920"/>
            <a:ext cx="3721320" cy="2984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ANd9GcRD6l_PMnAu7GpQWc-ji63_bWfyLNQ0eyAj1YxBkJjv7yxyazUUsp9QqejIXQ"/>
          <p:cNvPicPr/>
          <p:nvPr/>
        </p:nvPicPr>
        <p:blipFill>
          <a:blip r:embed="rId2"/>
          <a:stretch/>
        </p:blipFill>
        <p:spPr>
          <a:xfrm>
            <a:off x="658800" y="3648240"/>
            <a:ext cx="3429000" cy="2720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gastroscopie"/>
          <p:cNvPicPr/>
          <p:nvPr/>
        </p:nvPicPr>
        <p:blipFill>
          <a:blip r:embed="rId3"/>
          <a:stretch/>
        </p:blipFill>
        <p:spPr>
          <a:xfrm>
            <a:off x="3132000" y="1928880"/>
            <a:ext cx="21891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Faeceskweek om te kijken of de bacterie  helicobacter pylori aanwezig is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Complicati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4360" y="2060640"/>
            <a:ext cx="7772400" cy="43927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bloeding :hematemesis en melae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oor de chronische prikkeling: maagkank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perforatie m.a.g. peritonit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ittekenvorming, mag een stenose en daardoor ontledigingsproblemen, projectiel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, afh. oorzaa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oppen met r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edingsproducten die de klachten verergeren vermij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ntibiotica in combinatie met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zuurbindende middelen(antacid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ress vermij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Hernia diafragmatica 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Synoniemen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Hiatus herni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Sliding herni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Middenrifbreu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Omschrijving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De opening tussen borst- en buikholte is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wijder dan normaal waardoor de maag voor een deel de borstholte inglijd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47840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AutoShape 4">
            <a:hlinkClick r:id="rId1"/>
          </p:cNvPr>
          <p:cNvSpPr/>
          <p:nvPr/>
        </p:nvSpPr>
        <p:spPr>
          <a:xfrm>
            <a:off x="4570560" y="3527280"/>
            <a:ext cx="79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47840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AutoShape 7"/>
          <p:cNvSpPr/>
          <p:nvPr/>
        </p:nvSpPr>
        <p:spPr>
          <a:xfrm>
            <a:off x="4570560" y="3527280"/>
            <a:ext cx="79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647640" y="20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647640" y="20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Rectangle 13"/>
          <p:cNvSpPr/>
          <p:nvPr/>
        </p:nvSpPr>
        <p:spPr>
          <a:xfrm>
            <a:off x="6523200" y="2930400"/>
            <a:ext cx="188568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Rectangle 16"/>
          <p:cNvSpPr/>
          <p:nvPr/>
        </p:nvSpPr>
        <p:spPr>
          <a:xfrm>
            <a:off x="736560" y="24303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AutoShape 15"/>
          <p:cNvSpPr/>
          <p:nvPr/>
        </p:nvSpPr>
        <p:spPr>
          <a:xfrm>
            <a:off x="739800" y="2430360"/>
            <a:ext cx="7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17" descr="De%20binnenzijde%20van%20een%20normale%20slokdarm%20met%20hernia"/>
          <p:cNvPicPr/>
          <p:nvPr/>
        </p:nvPicPr>
        <p:blipFill>
          <a:blip r:embed="rId2"/>
          <a:stretch/>
        </p:blipFill>
        <p:spPr>
          <a:xfrm>
            <a:off x="3352680" y="3657600"/>
            <a:ext cx="3429000" cy="3200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http://www.merckmanual.nl/media/mmhe2/figures/2004GI123_01.gif"/>
          <p:cNvPicPr/>
          <p:nvPr/>
        </p:nvPicPr>
        <p:blipFill>
          <a:blip r:embed="rId3"/>
          <a:stretch/>
        </p:blipFill>
        <p:spPr>
          <a:xfrm>
            <a:off x="1450800" y="519120"/>
            <a:ext cx="62406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Klachten door omhoog stromen van de maaginhou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aak geen klachten, 40%  van de mensen boven de 60 jaar heeft he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uurbran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ïrriteerde ke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stklach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, branderig gevoel achter het borstbeen, soms uitstralend naar de ru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ebeb"/>
                </a:solidFill>
                <a:latin typeface="Century Gothic"/>
              </a:rPr>
              <a:t>Complicatie: slokdarmontsteking</a:t>
            </a:r>
            <a:endParaRPr b="0" lang="en-US" sz="2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14" name="Picture 3" descr="foto02mini"/>
          <p:cNvPicPr/>
          <p:nvPr/>
        </p:nvPicPr>
        <p:blipFill>
          <a:blip r:embed="rId1"/>
          <a:stretch/>
        </p:blipFill>
        <p:spPr>
          <a:xfrm>
            <a:off x="231840" y="2259000"/>
            <a:ext cx="4228920" cy="2943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4624560" y="2259000"/>
            <a:ext cx="2457360" cy="18572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"/>
          <p:cNvPicPr/>
          <p:nvPr/>
        </p:nvPicPr>
        <p:blipFill>
          <a:blip r:embed="rId3"/>
          <a:stretch/>
        </p:blipFill>
        <p:spPr>
          <a:xfrm>
            <a:off x="4572000" y="4149720"/>
            <a:ext cx="2563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700280"/>
            <a:ext cx="7772400" cy="43956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X Röntgen: slikfoto’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stroscopi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Picture 2" descr="De%20binnenzijde%20van%20een%20normale%20slokdarm%20met%20kort%20Barrett%20seg"/>
          <p:cNvPicPr/>
          <p:nvPr/>
        </p:nvPicPr>
        <p:blipFill>
          <a:blip r:embed="rId1"/>
          <a:stretch/>
        </p:blipFill>
        <p:spPr>
          <a:xfrm>
            <a:off x="4788000" y="256536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en: maagsapsecretieremm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eefregels:* boveneinde bed 10 cm omhoo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* voeding aanpassen(vetarm, geen alcohol, chocola,pepermunt, scherpe kruiden, citrusvruchten)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*niet r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peratie , als bovenstaande niet help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2" name="Picture 3" descr="264px-Barretts_esophagus"/>
          <p:cNvPicPr/>
          <p:nvPr/>
        </p:nvPicPr>
        <p:blipFill>
          <a:blip r:embed="rId1"/>
          <a:stretch/>
        </p:blipFill>
        <p:spPr>
          <a:xfrm>
            <a:off x="6300720" y="4254480"/>
            <a:ext cx="24019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namnese en lichamelijk 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onderzoek: IGE, RA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uidprikte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rik-priktest:eerst in product, dan in 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liminatie-Provocatie test (koemelk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ubbelblind placebo 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eglaten van de voedingsmiddelen waarop wordt gereageerd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pipen, Anapen, dit zijn met adrenaline gevulde injectiepe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Acute Bui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e spreekt van een acute buik bij een plotselinge, mogelijk levensbedreigende, buikaandoening. Vaak gaat het om een ernstige acute ontsteking aan de organen in je buik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t is belangrijk om snel te handelen en direct contact op te nemen met een ar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2" name="Afbeelding 2" descr=""/>
          <p:cNvPicPr/>
          <p:nvPr/>
        </p:nvPicPr>
        <p:blipFill>
          <a:blip r:embed="rId1"/>
          <a:stretch/>
        </p:blipFill>
        <p:spPr>
          <a:xfrm>
            <a:off x="4932360" y="4365720"/>
            <a:ext cx="40672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1628640"/>
            <a:ext cx="7772400" cy="51134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cute Ontstekingen: appendicitis,  peritonitis, cholecystitis, pancreatitis, ovariitis/adnexit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l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erforatie van holle organen: maag, darm, galblaas, bloedva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efrolithiasis (nierstenen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xtra-uteriene gravidite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11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2349360"/>
            <a:ext cx="7772400" cy="4114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vige pijn, druk- en loslaatpij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raken, misselijkhe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arre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Koor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nkharde buik (défense musculaire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ymptomen passend bij de oorzaa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f9d8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X Röntg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T-sc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choscop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herapi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tijd in een ziekenhu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richt op het behandelen van de oorzaa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bestrijding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3135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Gastritis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55280" y="3611520"/>
            <a:ext cx="7777080" cy="23385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ef53a5"/>
                </a:solidFill>
                <a:latin typeface="Century Gothic"/>
              </a:rPr>
              <a:t>ONTSTEKING VAN HET MAAGSLIJMVL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4659480" y="557280"/>
            <a:ext cx="2655720" cy="2135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1547640" y="557280"/>
            <a:ext cx="264816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09:17Z</dcterms:created>
  <dc:creator>Agnieta</dc:creator>
  <dc:description/>
  <dc:language>en-US</dc:language>
  <cp:lastModifiedBy>Marlies Bouland</cp:lastModifiedBy>
  <dcterms:modified xsi:type="dcterms:W3CDTF">2018-03-15T19:26:23Z</dcterms:modified>
  <cp:revision>33</cp:revision>
  <dc:subject/>
  <dc:title>Aandoeningen van het Spijsverteringsstelsel</dc:title>
</cp:coreProperties>
</file>