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0CC0-DF3B-46E8-8453-7033E8FFD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2CB4-83AC-4863-9D47-0997202A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69F3-CFF8-4ABA-8C86-F0671CBDC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E721-7093-40F4-9F2D-D47F8DE2D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5424-BCE0-43AA-950E-B8C759C0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5FD6-CD68-4D94-A8A2-AD17F48C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FD0E-D113-4F82-8838-008152DF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4194-E90E-4572-8296-5F02DF49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800F-F8E2-43C3-9D46-63E6D6C8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CEDD-9E95-46E0-9C5E-0B86FDEA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CEFB-BCDB-4713-A04E-63A6416D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B1CA-ABCE-4C55-97CD-D7494E1A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4E42-4CE7-46CA-AE1B-C6C6304A57DA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Obstipati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2491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efinitie: Ontlasting komt minder vaak dan normaal en is hard(minder dan 3 maal per week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evolg: Versto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5" descr="obstipatie"/>
          <p:cNvPicPr/>
          <p:nvPr/>
        </p:nvPicPr>
        <p:blipFill>
          <a:blip r:embed="rId1"/>
          <a:stretch/>
        </p:blipFill>
        <p:spPr>
          <a:xfrm>
            <a:off x="468360" y="4292640"/>
            <a:ext cx="226224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lume vergrotende middel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ullen de darmen, bevatten onverteerbare vezels, die vocht vast houden. Ontlasting wordt zachter. Vaak ter voorbereiding op een onderzoek (Klean Prep) waarbij de darm helemaal leeg moet zij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Obstipatie bij kinderen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et kind voelt de aandrang niet go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lasproble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anleg kan een oorzaak zij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oms spastische darm(lagere schoolleeftij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omplicatie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leus: Darmobstructie. Hierbij treed er een afsluiting van de darm op, hevige koliek pijn, braken, opgezette bui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vaginatie ”: Bij kinderen zal een deel van de darm uitstulpen in het naastgelegen gedeelte van de darm. Dit verzoorzaakt obstruc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Invaginati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7" descr="o1844"/>
          <p:cNvPicPr/>
          <p:nvPr/>
        </p:nvPicPr>
        <p:blipFill>
          <a:blip r:embed="rId1"/>
          <a:stretch/>
        </p:blipFill>
        <p:spPr>
          <a:xfrm>
            <a:off x="5135400" y="1333440"/>
            <a:ext cx="3438720" cy="4608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N-205-nlImgImage_2"/>
          <p:cNvPicPr/>
          <p:nvPr/>
        </p:nvPicPr>
        <p:blipFill>
          <a:blip r:embed="rId2"/>
          <a:stretch/>
        </p:blipFill>
        <p:spPr>
          <a:xfrm>
            <a:off x="536400" y="1268280"/>
            <a:ext cx="3564000" cy="46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5" descr="meconium_ileus2"/>
          <p:cNvPicPr/>
          <p:nvPr/>
        </p:nvPicPr>
        <p:blipFill>
          <a:blip r:embed="rId1"/>
          <a:stretch/>
        </p:blipFill>
        <p:spPr>
          <a:xfrm>
            <a:off x="1332000" y="1484280"/>
            <a:ext cx="684036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5" descr="MecIleus-PerforationAP"/>
          <p:cNvPicPr/>
          <p:nvPr/>
        </p:nvPicPr>
        <p:blipFill>
          <a:blip r:embed="rId1"/>
          <a:stretch/>
        </p:blipFill>
        <p:spPr>
          <a:xfrm>
            <a:off x="2495520" y="549360"/>
            <a:ext cx="520056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Triag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outin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rmagering en verminderde eetlu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loed en/of slijm ontla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fwisseling diarree en obstip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hronische ziek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bstipatie door medicatie: overle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bstipatie langer dan 3 weken: dan overle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Triage: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ringend: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Rectaal bloedverlies dat aanhoud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rnstig zi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Spoed: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Braken en hevige buikpij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5" descr="rectum-ptt_NL"/>
          <p:cNvPicPr/>
          <p:nvPr/>
        </p:nvPicPr>
        <p:blipFill>
          <a:blip r:embed="rId1"/>
          <a:stretch/>
        </p:blipFill>
        <p:spPr>
          <a:xfrm>
            <a:off x="1619280" y="1197000"/>
            <a:ext cx="538308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Obstipatie bij volwassen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Oorzak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e weinig vezels in de voeding /Te weinig drinken/ Te weinig bewe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Medicijnen die verstopping veroorza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(ijzerpillen, morfin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tress/ ophouden van ontlasting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Chronische (darm)ziektes, darmkank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sychologische problemati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een oorzaak bek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Symptomen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e weinig ontlasting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uikpij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pgeblazen gevo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asvorming, loze aandrang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brek aan eetlu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uikkram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5" descr="obstipatie_150137"/>
          <p:cNvPicPr/>
          <p:nvPr/>
        </p:nvPicPr>
        <p:blipFill>
          <a:blip r:embed="rId1"/>
          <a:stretch/>
        </p:blipFill>
        <p:spPr>
          <a:xfrm>
            <a:off x="1590840" y="1100160"/>
            <a:ext cx="596232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Advie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zonde voeding met voldoende vez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zels zorgen ervoor dat de ontlasting vocht vast houdt waardoor er meer en zachtere faeces kom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beeld vezels: volkoren producten(brood)/ peulvruchten, groentes, fru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inimaal 30 gram per da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1,5 – 2 liter water per dag drin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wegen, ten minste een half uur per da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oiletbezoek nooit uitstell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handeling met medic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obstipatie"/>
          <p:cNvPicPr/>
          <p:nvPr/>
        </p:nvPicPr>
        <p:blipFill>
          <a:blip r:embed="rId1"/>
          <a:stretch/>
        </p:blipFill>
        <p:spPr>
          <a:xfrm>
            <a:off x="2563920" y="692280"/>
            <a:ext cx="531468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Drie groepen medicijnen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Contralaxantia: prikkelen de darmwand, waardoor iemand snel van “kan” poe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B: Dulcolax, microlax, klys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eel gegeven ter voorbereiding OK of darmonderzo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Osmotische laxantia: Houdt vocht vast, mild werke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evolg: Ontlasting wordt zach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B: Lactulose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Mag langdurig gebruik worden, ‘s ochtends inne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5:13:38Z</dcterms:created>
  <dc:creator>Rina</dc:creator>
  <dc:description/>
  <dc:language>en-US</dc:language>
  <cp:lastModifiedBy>Marlies Bouland</cp:lastModifiedBy>
  <dcterms:modified xsi:type="dcterms:W3CDTF">2018-04-10T19:49:15Z</dcterms:modified>
  <cp:revision>4</cp:revision>
  <dc:subject/>
  <dc:title>Obstipatie</dc:title>
</cp:coreProperties>
</file>