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D21C59-1FF8-4C29-A710-C432DC0C1C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00AA5-A941-46EF-86E0-2E8FAC4CFC3C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llirubine niet goed verwerken: ASAT en ALAT verhoog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hron hep kan overgaan in cirrose: langer dan 6 m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88962-CA7C-4A8E-A8CC-24907A5D729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219AB0-0634-487E-9713-01ED30E2473A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: besmettelijke geelzucht, vooral bij kinderen, rond middelandsezee gebied, besmetting via ontlasting. Incubatietijd een maand. Prognose is go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C6BF78-3648-4D72-9ED6-4256F04E697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: kan chronisch worden en leiden tot cirrose of kank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: bijna alleen via bloed-bloed contact. Kan chron worden en tot cirrose lijd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05F4EF-6839-4E65-8F2C-8FBDA132A2C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lever verandert in bindweefsel. Diagnose: via echo, scopie of biopt. Vaak gevolg van alc.misbruik. Of complicatie van B of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vertransplantie is dan opti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6F0BEF-9ADD-4292-9DF9-B9915446E0D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8134-0EA2-4149-91FC-955F2526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B433-CB0D-4327-98E0-ECD1F23B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D87-3CA6-4810-9C85-C3E26AAA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61FE-D0A9-4045-BE42-8D682895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B478-FD04-49CE-BAAF-7348F03C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50F8-6A9B-46BC-AE0C-F9B0AED5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CC1A-06F0-4A4D-89E7-526350E6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366D-5509-4FD7-BA35-4A516C21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D21E-3E1E-4BD2-A9D7-F23060E1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251B-3C6E-4211-93C3-46221ACA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93F5-C427-4199-A12D-3C36A7D4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BCB-1127-4B79-9093-265C8E11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60B3-C4F6-42FE-B231-1277AC80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D0FB-62EE-40E8-8A7F-2CB1ECA4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0C3C-61ED-46F3-948F-E54C49CF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F908-C0FE-43B9-A4DD-0DA1C481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4011-9582-4538-BE5D-23E4245C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0A5B5-588F-4155-8994-2A6849DE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394CF-6A76-4C46-93A5-E7A5A0FC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7742F-71CA-454E-95C4-704107EA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77308-1DD7-45FE-B5B1-2E34F08A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A0BEA-7A8C-4066-B55A-08C18068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AD3E-EEA8-48C8-ABAB-ADD6C61E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C06B8-C583-42ED-885B-A8BADBC3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3E737-7B7B-4835-9139-20756AD6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D4B66-0BC5-4569-BAE4-F413C93D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9635A-11DA-4034-9E0C-1E9CEB6F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5839A-F112-425E-9D54-73084478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4D133-64EA-457B-8384-DD97F14E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6F788-CA6F-4758-9D01-9E289D4F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96B4F-39CF-4BD0-A231-33E3D4CE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71444-5FFD-484A-B06E-3B526F82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B5EF8-57D3-4F44-A3AC-FBE4EE51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BF8E-13B7-4D2F-9C9D-32F536E8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0B2AB-B03D-4B95-81DB-75787A8B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1637B-18B7-407B-8707-17DA160E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49B2E-2878-4D08-BF80-4B9A4658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77FB6-B78E-4633-A92A-CABDA577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DC424-3C8C-4D50-9FF3-1632E0D9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5A9A6-D3A1-4DA4-869D-28B57719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364FC-F3D1-4008-BE17-1F6FDA8C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4C42D-0F4E-45BB-BCCE-9DCE525F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1E892-4B1E-4ECC-8D4F-6A362BF1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5D16-652E-4133-B360-ECD06541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5695-6CF6-4E3C-AFBF-BC61BD94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3843-2EFC-43D4-A82E-384AFA3B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3362-6DBB-4A06-B2E7-3ADFD0EC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1641-A38E-48EF-A4D8-67D61E59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4D1202-3358-4AC0-9863-94A695FA2362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4CE4C-FEB2-496A-96D4-1A4289CCE213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3C22A-AA5E-4825-84CD-086D4035DC0A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1D0337-F87B-4C84-B5AA-51A7EA98109A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Hepatitis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8ad0d6"/>
                </a:solidFill>
                <a:latin typeface="Century Gothic"/>
              </a:rPr>
              <a:t>LEVERONTSTEK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http://healthlob.com/wp-content/uploads/2011/05/hepatitis-300x181.jpg"/>
          <p:cNvPicPr/>
          <p:nvPr/>
        </p:nvPicPr>
        <p:blipFill>
          <a:blip r:embed="rId1"/>
          <a:stretch/>
        </p:blipFill>
        <p:spPr>
          <a:xfrm>
            <a:off x="609480" y="457200"/>
            <a:ext cx="4648320" cy="2803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http://www.huidziekten.nl/afbeeldingen/hepatitis-b-4.jpg"/>
          <p:cNvPicPr/>
          <p:nvPr/>
        </p:nvPicPr>
        <p:blipFill>
          <a:blip r:embed="rId2"/>
          <a:stretch/>
        </p:blipFill>
        <p:spPr>
          <a:xfrm>
            <a:off x="4343400" y="3581280"/>
            <a:ext cx="430524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Herstelfas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estal genezing binnen 6-8 weken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oms kunnen gedurende een  jaar nog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rmoeidheid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ustelooshe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Flatulent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tintoleranti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 chronische hepat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980720"/>
            <a:ext cx="7772400" cy="4496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veel patiënten hebben geen symptomen of dezelfde als bij de acute vorm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vermoeidheid, een grotere behoefte aan slaap, pijnlijke spieren en gewrichte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periodieke lichte druk of pijn onder de rechterribben als gevolg van een vergrote leve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Geelzucht is een zeer laat symptoom van chronische hepatitis: het is een teken dat de ziekte ernstig is geworden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loed en urine onderzo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patitis B door HBs-AG (australi-antigeen) aan te to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Complicati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patitis A: ge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patitis B: levercirros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patitis C: levercirrose, levercarcino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https://www.youtube.com/watch?v=Q9L7ZQPc8EA Engels gesproken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http://www.youtube.com/watch J5c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entury Gothic"/>
              </a:rPr>
              <a:t>ttps://www.youtube.com/watch?v=Q9L7ZQ8E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ehandeling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n directe behandeling, hooguit symptoombestrijd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395136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Veel hepatitis gevallen worden aanvankelijk aangezien voor griep omdat de klachten erg kunnen lijken op griepverschijnselen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Levercirrose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8ad0d6"/>
                </a:solidFill>
                <a:latin typeface="Century Gothic"/>
              </a:rPr>
              <a:t>VERSCHROMPELING, VERBINDWEEFSELING VAN DE LEV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Leverklachten: symptomen levercirrose, cirrose en alcohol"/>
          <p:cNvPicPr/>
          <p:nvPr/>
        </p:nvPicPr>
        <p:blipFill>
          <a:blip r:embed="rId1"/>
          <a:stretch/>
        </p:blipFill>
        <p:spPr>
          <a:xfrm>
            <a:off x="2362320" y="1600200"/>
            <a:ext cx="46576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 </a:t>
            </a:r>
            <a:br>
              <a:rPr sz="4200"/>
            </a:b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hronische hepatitis B en C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hronisch alcoholgebrui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lever"/>
          <p:cNvPicPr/>
          <p:nvPr/>
        </p:nvPicPr>
        <p:blipFill>
          <a:blip r:embed="rId1"/>
          <a:stretch/>
        </p:blipFill>
        <p:spPr>
          <a:xfrm>
            <a:off x="826920" y="1125360"/>
            <a:ext cx="7452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Een opgezette lever en (vage) buikpijn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isselijkheid en braken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Verminderde eetlust en gewichtsverlie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Algehele zwakte en vermoeidheid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Geelzucht; het geel zien van de huid en het oogwit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Jeuk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Kleine ‘spinvormige’ bloedvaatjes op de huid (spider naevi)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http://www.huidziekten.nl/afbeeldingen/hepatitis-b-2.jpg"/>
          <p:cNvPicPr/>
          <p:nvPr/>
        </p:nvPicPr>
        <p:blipFill>
          <a:blip r:embed="rId1"/>
          <a:stretch/>
        </p:blipFill>
        <p:spPr>
          <a:xfrm>
            <a:off x="704880" y="609480"/>
            <a:ext cx="3867120" cy="4419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http://upload.wikimedia.org/wikipedia/commons/thumb/4/42/Spider_nevus.jpg/230px-Spider_nevus.jpg"/>
          <p:cNvPicPr/>
          <p:nvPr/>
        </p:nvPicPr>
        <p:blipFill>
          <a:blip r:embed="rId2"/>
          <a:stretch/>
        </p:blipFill>
        <p:spPr>
          <a:xfrm>
            <a:off x="5410080" y="0"/>
            <a:ext cx="2629080" cy="4422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http://www.sciencephoto.com/image/259930/large/M2200067-Spider_naevus_on_skin-SPL.jpg"/>
          <p:cNvPicPr/>
          <p:nvPr/>
        </p:nvPicPr>
        <p:blipFill>
          <a:blip r:embed="rId3"/>
          <a:stretch/>
        </p:blipFill>
        <p:spPr>
          <a:xfrm>
            <a:off x="4876920" y="4489560"/>
            <a:ext cx="340992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loedonderzoek: leverfunc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X BOZ, MRI.leversc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chograf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everpunctie/ biops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Therapi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leen symptomatisc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evertransplantat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66880" y="1447560"/>
            <a:ext cx="6619680" cy="332892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Pancreatitis 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8ad0d6"/>
                </a:solidFill>
                <a:latin typeface="Century Gothic"/>
              </a:rPr>
              <a:t>ALVLEESKLIERONTSTEKIN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8ad0d6"/>
                </a:solidFill>
                <a:latin typeface="Century Gothic"/>
              </a:rPr>
              <a:t>HTTP://PLAZILLA.COM/PAGE/4294981047/PANCREATITIS-WAT-IS-DAT-PRECIES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84368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 van acute pancreat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t gedeelte wat spijsverteringssappen maakt is ontsto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ir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neesmiddel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coh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alstenen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15280" cy="11430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Verschijnselen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9640" y="1412640"/>
            <a:ext cx="8315280" cy="54450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aak een mild verloop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oms rnstige pijn in de bovenbui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Uitstralend naar de ru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tiënt zit rechtop en voorovergebog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i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isselijk en bra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80028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Ziekenhuisopname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mylase sterk verhoogd in het bloed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92" name="Picture 2" descr="Pancreatitis symptomen: buikpijn, misselijk, braken &amp; koorts"/>
          <p:cNvPicPr/>
          <p:nvPr/>
        </p:nvPicPr>
        <p:blipFill>
          <a:blip r:embed="rId1"/>
          <a:stretch/>
        </p:blipFill>
        <p:spPr>
          <a:xfrm>
            <a:off x="7093080" y="4437000"/>
            <a:ext cx="17618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ehandeling </a:t>
            </a:r>
            <a:br>
              <a:rPr sz="4200"/>
            </a:b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Kunstmatige voed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ware pijnstill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alstenen worden verwijder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% overlijd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 chronische pancreatitis</a:t>
            </a:r>
            <a:br>
              <a:rPr sz="4200"/>
            </a:b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coholmisbrui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angebo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bekend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1981080"/>
            <a:ext cx="7772400" cy="36086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irussen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hepatitis A, B, C,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Epstein-Barrvirus (Z. Pfeiffer), cytomegalievirus(herpesvirus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cohol-  /drugsgebrui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en bijv overdosis paracetam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ofwisselingsziekten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https://www.youtube.com/watch?v=12q3byhdt00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 chron. pancreat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isselende pijn in de buik of in de ru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fname pijn rechtop voorover gebogen zit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ttige ontlasting door tekort aan verteringssapp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Uiteindelijk aantasting endocriene cellen m.a.g. diabetes mellit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ehandeling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ijnbestrijding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www.rugzakreis.nl/images/medisch-hepatitis-a.gif"/>
          <p:cNvPicPr/>
          <p:nvPr/>
        </p:nvPicPr>
        <p:blipFill>
          <a:blip r:embed="rId1"/>
          <a:stretch/>
        </p:blipFill>
        <p:spPr>
          <a:xfrm>
            <a:off x="228600" y="0"/>
            <a:ext cx="5029200" cy="3521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http://www.rugzakreis.nl/images/medisch-hepatitis.gif"/>
          <p:cNvPicPr/>
          <p:nvPr/>
        </p:nvPicPr>
        <p:blipFill>
          <a:blip r:embed="rId2"/>
          <a:stretch/>
        </p:blipFill>
        <p:spPr>
          <a:xfrm>
            <a:off x="3657600" y="3313080"/>
            <a:ext cx="548640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http://www.umm.edu/graphics/images/en/18140.jpg"/>
          <p:cNvPicPr/>
          <p:nvPr/>
        </p:nvPicPr>
        <p:blipFill>
          <a:blip r:embed="rId1"/>
          <a:stretch/>
        </p:blipFill>
        <p:spPr>
          <a:xfrm>
            <a:off x="304920" y="38088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http://www.huidziekten.nl/afbeeldingen/hepatitis-b-1.jpg"/>
          <p:cNvPicPr/>
          <p:nvPr/>
        </p:nvPicPr>
        <p:blipFill>
          <a:blip r:embed="rId2"/>
          <a:stretch/>
        </p:blipFill>
        <p:spPr>
          <a:xfrm>
            <a:off x="4800600" y="2819520"/>
            <a:ext cx="43434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esmettingsweg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980720"/>
            <a:ext cx="7772400" cy="281628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: besmet voedsel, water met faecalië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 en C: seksueel contact, bloed/- transfusies en  naalden delen door  drugsgebruikers, mensen in de zor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ttp://www.stophepatitis-c.nl/videos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Typen hepat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cute hepatitis - duurt minder dan zes maanden, de virussen hepatitis A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hronische hepatitis - duurt langer dan zes maanden,  de virussen hepatitis B en C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  acute hepat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rmoeidheid, algemene malaise, lichte koort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iarree, misselijkheid, slechte eetlust, veranderingen in smaa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ruk of pijn onder de rechterribben veroorzaakt door een vergrote lev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ijnlijke spieren en gewrichten, hoofdpijn, huiduitsla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In de icterusfase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vergeling van de witte gedeelten van de ogen, de huid en de slijmvlieze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donkere urin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licht gekleurde ontlasting (stopverf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rond deze tijd verdwijnen de andere symptome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Herstel: uiteindelijk blijft alleen vermoeidheid over, die langzamerhand verdwijn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08:32:41Z</dcterms:created>
  <dc:creator>Agnieta</dc:creator>
  <dc:description/>
  <dc:language>en-US</dc:language>
  <cp:lastModifiedBy>marlies bouland</cp:lastModifiedBy>
  <cp:lastPrinted>2015-03-20T11:56:38Z</cp:lastPrinted>
  <dcterms:modified xsi:type="dcterms:W3CDTF">2018-09-22T11:48:50Z</dcterms:modified>
  <cp:revision>20</cp:revision>
  <dc:subject/>
  <dc:title>Hepatitis</dc:title>
</cp:coreProperties>
</file>