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EC4D2-93DB-46EC-9EAA-2D7E4A587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DFEE0-2E9E-447F-8DDA-8751983F061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llirubine niet goed verwerken: ASAT en ALAT verhoog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ron hep kan overgaan in cirrose: langer dan 6 m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BBEB7-6DEB-413F-BEE2-F63B64AC85C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4058C-8646-4BB8-B2C5-29D81E6F21D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: besmettelijke geelzucht, vooral bij kinderen, rond middelandsezee gebied, besmetting via ontlasting. Incubatietijd een maand. Prognose is g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336C4-86B6-4724-A97D-8FED9A72FF3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: kan chronisch worden en leiden tot cirrose of kan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: bijna alleen via bloed-bloed contact. Kan chron worden en tot cirrose lijd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178CB-DF0B-4033-AB16-040152B576F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ver verandert in bindweefsel. Diagnose: via echo, scopie of biopt. Vaak gevolg van alc.misbruik. Of complicatie van B of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rtransplantie is dan opti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DA35F-E618-4437-AB32-698B3C40F31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276-9E41-49DB-AB58-9548F568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59F-5997-4298-9A80-82702125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34F-F897-467C-8F1A-6DB1F1ED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078-0CD4-40E8-8C85-9F942590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C54-A423-4FD7-97E7-8B060181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D957-585D-4397-9F6F-F9DFF8DA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4DE9-F3E4-4017-A89D-2E8D17DF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865A-4E9E-40BA-B45A-356E97F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272-EE63-491D-9C29-653FE4A3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407-A9ED-48C2-BF6B-FCC6F1D6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6B8F-B813-4988-9D50-C88CF57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EDD-B260-49CA-B7E3-9D9691C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DC1A-D9A7-4DE1-9E99-AEA0628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8986-B8F6-45F5-878C-6C9C526B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73E3-0C2B-4174-B9B5-9CBC385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9A4F-9070-4AED-804F-8AD6A1C7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D16B-BD18-4D5D-BEFC-3D503DE1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CF94-E6F1-4406-A096-897A1364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D397-5296-411B-B307-4ABFE99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2F4A-ACD0-4D63-9BA1-EFBD49C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7C58-E514-4583-A95F-4EAE6BC3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BA27-FC41-49BD-B132-6B8A00A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D61-344A-4060-BBEF-3976FD73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7A17-D3EF-4BD4-927A-3B19F305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AF1D-2899-476C-9D73-DE59DBCD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7073-C181-4AD6-914D-5D3F25D5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7CDD-A3BC-4261-A7AB-3D46BE5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6B7E-CD99-4235-8556-89DEC566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A1F9-36DC-4913-B14B-D6D0BDE5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2EEF-9954-42F0-8C67-0730C143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0E96-B55C-4AEC-968A-DA5A6213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A8A7-FF3B-44E6-9982-9DFC66D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6541-7231-4C40-9079-0BCFF23B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886-062F-42E8-86DD-14442C1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A9E8-BAD1-4ABF-B476-774FCA96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8350-DA56-4CFF-9BCD-63D491BF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68A1-B653-401E-88E5-A0F051E5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7C0F-86F9-459F-AD45-C563D509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AE74-D6E0-442A-AD72-3A7B07F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72DC-CB92-4933-811E-A49F46EF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D8E0-03FA-4DB1-AEED-E738E3F8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D0D5-FB1F-4941-B9CA-0D07F24B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6392-389B-476F-974B-FF2E7A9B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28F-D1E9-43CC-A5BF-583AD227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2E8-EC46-4C3A-B2AB-E5EA0022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B3E-800F-46F1-9FE8-17FD3AA6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34C-6075-43F0-897C-0552B54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2AC-1276-47EC-87B3-0978F48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ADDE9-18D6-4246-BD19-3B297FFEBA80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4B633-A044-467F-A879-A9CBB4A70973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36DC1-5333-431F-9949-D922E2155FDA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586B3-D145-420E-9C00-423295702637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Hepat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LEVERONTSTE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http://healthlob.com/wp-content/uploads/2011/05/hepatitis-300x181.jpg"/>
          <p:cNvPicPr/>
          <p:nvPr/>
        </p:nvPicPr>
        <p:blipFill>
          <a:blip r:embed="rId1"/>
          <a:stretch/>
        </p:blipFill>
        <p:spPr>
          <a:xfrm>
            <a:off x="609480" y="457200"/>
            <a:ext cx="4648320" cy="2803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huidziekten.nl/afbeeldingen/hepatitis-b-4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05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stelfa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genezing binnen 6-8 weke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kunnen gedurende een  jaar no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steloos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latul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intolerant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isch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el patiënten hebben geen symptomen of dezelfde als bij de acute vor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moeidheid, een grotere behoefte aan slaap, pijnlijke spieren en gewricht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periodieke lichte druk of pijn onder de rechterribben als gevolg van een vergrote lev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Geelzucht is een zeer laat symptoom van chronische hepatitis: het is een teken dat de ziekte ernstig is geworde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 en urine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 door HBs-AG (australi-antigeen) aan te to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A: ge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: levercirr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C: levercirrose, levercarcin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Q9L7ZQPc8EA Engels gespro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http://www.youtube.com/watch J5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ttps://www.youtube.com/watch?v=Q9L7ZQ8E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n directe behandeling, hooguit symptoombestrij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95136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Veel hepatitis gevallen worden aanvankelijk aangezien voor griep omdat de klachten erg kunnen lijken op griepverschijnselen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Levercirrose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VERSCHROMPELING, VERBINDWEEFSELING VAN D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Leverklachten: symptomen levercirrose, cirrose en alcohol"/>
          <p:cNvPicPr/>
          <p:nvPr/>
        </p:nvPicPr>
        <p:blipFill>
          <a:blip r:embed="rId1"/>
          <a:stretch/>
        </p:blipFill>
        <p:spPr>
          <a:xfrm>
            <a:off x="2362320" y="1600200"/>
            <a:ext cx="4657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B en 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 alcohol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lever"/>
          <p:cNvPicPr/>
          <p:nvPr/>
        </p:nvPicPr>
        <p:blipFill>
          <a:blip r:embed="rId1"/>
          <a:stretch/>
        </p:blipFill>
        <p:spPr>
          <a:xfrm>
            <a:off x="826920" y="1125360"/>
            <a:ext cx="745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Een opgezette lever en (vage) buikpij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sselijkheid en bra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minderde eetlust en gewichtsverli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Algehele zwakte en vermoeidhei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Geelzucht; het geel zien van de huid en het oogwi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Jeuk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Kleine ‘spinvormige’ bloedvaatjes op de huid (spider naevi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huidziekten.nl/afbeeldingen/hepatitis-b-2.jpg"/>
          <p:cNvPicPr/>
          <p:nvPr/>
        </p:nvPicPr>
        <p:blipFill>
          <a:blip r:embed="rId1"/>
          <a:stretch/>
        </p:blipFill>
        <p:spPr>
          <a:xfrm>
            <a:off x="704880" y="60948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http://upload.wikimedia.org/wikipedia/commons/thumb/4/42/Spider_nevus.jpg/230px-Spider_nevus.jpg"/>
          <p:cNvPicPr/>
          <p:nvPr/>
        </p:nvPicPr>
        <p:blipFill>
          <a:blip r:embed="rId2"/>
          <a:stretch/>
        </p:blipFill>
        <p:spPr>
          <a:xfrm>
            <a:off x="5410080" y="0"/>
            <a:ext cx="2629080" cy="442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www.sciencephoto.com/image/259930/large/M2200067-Spider_naevus_on_skin-SPL.jpg"/>
          <p:cNvPicPr/>
          <p:nvPr/>
        </p:nvPicPr>
        <p:blipFill>
          <a:blip r:embed="rId3"/>
          <a:stretch/>
        </p:blipFill>
        <p:spPr>
          <a:xfrm>
            <a:off x="4876920" y="4489560"/>
            <a:ext cx="34099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leverfunc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BOZ, MRI.lever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graf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punctie/ biops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leen symptomatis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transplanta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Pancreatitis 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ALVLEESKLIERONTSTEKIN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HTTP://PLAZILLA.COM/PAGE/4294981047/PANCREATITIS-WAT-IS-DAT-PRECIES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8436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van acute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gedeelte wat spijsverteringssappen maakt is ontst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neesmiddel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15280" cy="1143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9640" y="1412640"/>
            <a:ext cx="8315280" cy="5445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een mild verl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rnstige pijn in de bovenb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zit rechtop en voorovergebo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002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Ziekenhuisopname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mylase sterk verhoogd in het bloe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2" descr="Pancreatitis symptomen: buikpijn, misselijk, braken &amp; koorts"/>
          <p:cNvPicPr/>
          <p:nvPr/>
        </p:nvPicPr>
        <p:blipFill>
          <a:blip r:embed="rId1"/>
          <a:stretch/>
        </p:blipFill>
        <p:spPr>
          <a:xfrm>
            <a:off x="7093080" y="4437000"/>
            <a:ext cx="176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unstmatige voe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are pijnstill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worden verwijde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% overlijd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chronische pancreatitis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mis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gebo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beke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36086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sen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patitis A, B, C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Epstein-Barrvirus (Z. Pfeiffer), cytomegalievirus(herpesviru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-  /drugs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 bijv overdosis paracetam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fwisselingsziekt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12q3byhdt00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.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isselende pijn in de buik of in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name pijn rechtop voorover gebogen zi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tige ontlasting door tekort aan 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eindelijk aantasting endocriene cellen m.a.g. diabetes mellit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rugzakreis.nl/images/medisch-hepatitis-a.gif"/>
          <p:cNvPicPr/>
          <p:nvPr/>
        </p:nvPicPr>
        <p:blipFill>
          <a:blip r:embed="rId1"/>
          <a:stretch/>
        </p:blipFill>
        <p:spPr>
          <a:xfrm>
            <a:off x="228600" y="0"/>
            <a:ext cx="5029200" cy="352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http://www.rugzakreis.nl/images/medisch-hepatitis.gif"/>
          <p:cNvPicPr/>
          <p:nvPr/>
        </p:nvPicPr>
        <p:blipFill>
          <a:blip r:embed="rId2"/>
          <a:stretch/>
        </p:blipFill>
        <p:spPr>
          <a:xfrm>
            <a:off x="3657600" y="331308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umm.edu/graphics/images/en/18140.jpg"/>
          <p:cNvPicPr/>
          <p:nvPr/>
        </p:nvPicPr>
        <p:blipFill>
          <a:blip r:embed="rId1"/>
          <a:stretch/>
        </p:blipFill>
        <p:spPr>
          <a:xfrm>
            <a:off x="304920" y="380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huidziekten.nl/afbeeldingen/hepatitis-b-1.jpg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smettingsweg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0720"/>
            <a:ext cx="7772400" cy="281628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: besmet voedsel, water met faecalië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 en C: seksueel contact, bloed/- transfusies en  naalden delen door  drugsgebruikers, mensen in de zor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ttp://www.stophepatitis-c.nl/video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ypen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hepatitis - duurt minder dan zes maanden, de virussen hepatitis A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- duurt langer dan zes maanden,  de virussen hepatitis B en 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 acut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, algemene malaise, lichte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sselijkheid, slechte eetlust, veranderingen in sm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uk of pijn onder de rechterribben veroorzaakt door een vergrot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lijke spieren en gewrichten, hoofdpijn, huiduit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In de icterusfase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geling van de witte gedeelten van de ogen, de huid en de slijmvliez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onkere ur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licht gekleurde ontlasting (stopverf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rond deze tijd verdwijnen de andere symptom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erstel: uiteindelijk blijft alleen vermoeidheid over, die langzamerhand verdwijn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32:41Z</dcterms:created>
  <dc:creator>Agnieta</dc:creator>
  <dc:description/>
  <dc:language>en-US</dc:language>
  <cp:lastModifiedBy>marlies bouland</cp:lastModifiedBy>
  <cp:lastPrinted>2015-03-20T11:56:38Z</cp:lastPrinted>
  <dcterms:modified xsi:type="dcterms:W3CDTF">2018-09-22T11:48:50Z</dcterms:modified>
  <cp:revision>20</cp:revision>
  <dc:subject/>
  <dc:title>Hepatitis</dc:title>
</cp:coreProperties>
</file>