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C75-B04C-45F3-A48C-EF156378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E63-4447-4615-B0EE-DBAC4ABF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051-93B9-49B1-AE47-0261F8C1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01C-132B-4C82-BAA3-F26CDD7F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A92D-050B-48E2-AA7B-6C282A70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6365-7E91-43D4-967E-353DAD41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EDA8-7BE1-4C9F-8064-0F6CEB74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9724-A055-4393-BE63-C0573F65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4343-0A53-4FFE-B9C2-072CB846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2519-AF9B-49BB-9C6A-71ACF5C0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DE1F-B975-4CC1-B04B-183C88F4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4E6-D81F-471E-A9AA-DBD1340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2FA5-1BD2-4301-8139-B7C56E3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B5BD-E610-4FA6-8CA7-98A98C30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6ABB-4A6F-48F0-88E9-85EAFEC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7FD-ED85-4D32-8CB5-069C39EE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3DB4-66C3-49A8-A3C3-C13484CE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BDC0-A461-449E-8A77-76A96409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1F96-956B-4802-97DB-198D36F9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64D8-A8DF-42E1-9CE5-0F96550D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AE04-9B3D-4485-8103-7C0B7BC9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A1D3-83A9-4AD5-95E3-3AD0AD17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FC2-9D54-4519-B94C-61A301F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5947-1A45-4180-A822-AE8F0B28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31D8B-639C-4224-88D3-AA3F3E0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53A4-81D7-4F31-9A29-BE465134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BBC5-7670-43D5-A23A-14490BE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C717-B837-47EC-BC09-9DBD9AC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5CD8-CD7E-406F-89EF-F8AB4750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01B6-DC1C-44CC-8904-A288490B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D448-911E-4FAA-A0A3-38536F06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2CD1-6D41-45D9-9015-4F609785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47C1-EA62-46B6-ADD8-0B19E819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989-EC0A-4621-AA42-7215817F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17C70-4010-499B-804F-ABD63F26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31E5-F674-45F7-B23D-D49E6EE0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983C9-6FE6-4FB6-826E-46A145D9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009E2-CAD4-4784-98CF-7CE0B52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8956-FE4C-416F-80D8-77ECE35E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CA41-2C27-4DFA-AC46-C549A08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6316-70CE-40C4-ACF1-89D4A7B8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A85B-6399-4458-AA7A-0510C3EC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E96D-E504-4666-9B55-97CAE598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FEB8-7470-4517-A876-07928282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948-D568-405E-9212-09F37321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81B5D-9E44-4D0B-9C5C-0CCA0BEB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A576D-4FDA-4CF6-A34E-E4F3495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97C1-13E5-424B-B2C9-364D2A28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3517-6713-4FA5-9DCD-1E6CF42C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2AD8E-BD85-487B-94D6-2E008AC8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805A-1E86-43D6-8BAE-3B890A7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947A9-28D8-4E8B-AC0F-8BB9F798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D82D0-D8A6-4635-8A54-472DBFF6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2F6EC-6DCE-4CE6-8446-7D84B8CA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4D9FC-68D1-4E4E-AB16-ADEF22BE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8EE-3DD7-4ABD-843A-331ADECF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0E5E-BB5F-4FDD-AC1A-39457E27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30F-C441-46C2-8746-8A0940C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400-89F8-41BC-BB0B-11B4806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181-B6FA-48BB-BF41-811681E3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3F46A-6896-4565-A160-CE9A2C130650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BB677-33BB-4B40-A5B8-2B438BDC6A09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2952D-471F-48A0-8FC5-779ADD1A5E93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75772-FA57-48E6-8C54-5FAA715E62F9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CBC99-51B3-40A1-8B4C-37CBCEE8AEB5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7ey8wyI5eo&amp;feature=relmfu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AANDOENINGEN VAN HET SPIJSVERTERINGSKANAA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Deel 2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Spastisch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Irritable bowel syndrom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De oorzaak is onbekend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Een rol spelen: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Bewegingsstoornissen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oedingsfactoren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erlaagde pijndrempel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Psychosociale factoren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Afwijkingen in de darmflora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Mogelijke ontstekingscellen in de darmen. 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&gt; 6maanden en 3 maanden actief aan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wisselend aan- af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Zeurende, krampende of stekende  pijn in de buik die soms vermindert na defecatie of na het et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Pijn soms zo hevig dat de activiteiten niet meer lukk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fwijkend ontlasting patroo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VOLG SYMPTOM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fwisselend diarree en obstip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andere klachten Tr. Dig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uurbrand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lacht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Winderighei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blazen gevo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Geen specifieke onderzoeken, goede anamnese en lichamelijk onderzoek is voldoend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oed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eefregel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ventueel medicijnen afh. van de klachten     bulkvormers, analgetica, vochtvasthouders, laxanti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gnitieve gedragstherap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Hernia incarcerat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BREU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DEFINIT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uitstulping van ingewanden of buikvlies door een opening in de buikwand m.a.g. afsterving van het weefsel in de breukza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LITTEKEN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INHOUD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rbus Croh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NAVELBREU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GROTE 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evige 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ocale ontstekingsverschijns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THERAPIE: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hirurg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 van het slijmvlies van de dikke darm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amen met de Morbus Crohn hoort het tot de  Inflammatory Bowel Diseases (IBD)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287800" y="302904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eases Inflammatory Bowel (IB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gelijk ook omgevingsfactor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</a:t>
            </a: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loed bij de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moeidheid,  slechte eetlust, gewichtsda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oorts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loopt in golv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alleen proctiti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ecesonderzoe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BOZ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uid -, oog- en gewrichtsklachten en ontstekingen van de galwegen in en buiten de lever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steoporose, door verminderde kalkopnam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 niet nodi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ontstekingsremmer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: colonresectie/ colectom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Voorkomend in zowel dunne als dikk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ZIEKTE VAN CROH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itis terminali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sziekte van het maag-darmstelsel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crohn.nl/animatie.html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019920" y="3879720"/>
            <a:ext cx="3124080" cy="2978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250920" y="981000"/>
            <a:ext cx="5384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wel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youtube.com/watch?v=i7ey8wyI5eo&amp;feature=relmfu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mager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nem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iekte verloopt in golven(exacerbaties en remissie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Koorts tijdens opvlamming van de ziekt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ch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en videocapsul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vorm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klevingen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pijnstillers, anti-diarree middelen, vitamines, foliumzuur en ijzer gebruiken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medicijnen die werken tegen de ontstekingen.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stopping obstructie van de darmdoorga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echanische blokkade door inklemming (invaginatie), afklemming of verdraaiing (stranguratie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kleving van de darmwand aan het buikvlie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zwel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verlamming(paralytische ileus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SCHIJNSEL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anvallen van hevige buikpijn(kolieken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bewegingen zichtbaar op de buik(niet bij paralytische ileus, stille buik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Gootsteengeruisen te hor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isselijk en braken tot fecaal braken aan to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Wegblijven van winden en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overloop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hoc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T-sca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coloninloop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RI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perfo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necrose (afsterving)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 zonodig met stoma-aanlegg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derliggende oorzaak behand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nservatief: maaghevel, infuus, clysma’s, later orale laxantia, pijnstillers, antiemetic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Marlies Bouland</cp:lastModifiedBy>
  <dcterms:modified xsi:type="dcterms:W3CDTF">2018-03-13T13:25:50Z</dcterms:modified>
  <cp:revision>19</cp:revision>
  <dc:subject/>
  <dc:title>Aandoeningen van het spijsverteringskanaal</dc:title>
</cp:coreProperties>
</file>