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3.png" ContentType="image/png"/>
  <Override PartName="/ppt/media/image4.jpeg" ContentType="image/jpeg"/>
  <Override PartName="/ppt/media/image25.png" ContentType="image/png"/>
  <Override PartName="/ppt/media/image28.png" ContentType="image/png"/>
  <Override PartName="/ppt/media/image5.png" ContentType="image/png"/>
  <Override PartName="/ppt/media/image29.jpeg" ContentType="image/jpeg"/>
  <Override PartName="/ppt/media/image30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jpeg" ContentType="image/jpe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dt" idx="19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0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 type="sldNum" idx="21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BC1D8-289A-447C-A589-395A2727BB5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67148-E62B-4487-A529-36E6EEDF971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6989-E527-4703-8564-FD05D316E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8292-9C62-443E-8FA0-CC45E79B6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9420-198C-4B76-BD21-A7E9BB7A1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3916-F983-471B-B6CC-DCBE74C7C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37055-01A8-46C3-B383-9A892244D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4124A-EF87-4D79-9A49-811C9A59E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3002E-BC18-4311-A008-E5DA9D295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54A5A-11C1-4316-B208-A505ADC18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545AC-AC03-4D6C-9273-471C5AE3A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39807-7777-49F2-840F-CC8A3498C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07D27-15BF-45FE-A7FF-87F4034E7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2147-433D-448A-A00A-6DA3E6156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C986D-870F-4C5F-9607-B33015693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1D778-AFF7-4C30-ADBA-77F6C9C47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09625-E136-48FA-9C20-275131F9F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2AA7E-E9CB-4B89-8866-75EC987EC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CB794-09DE-418B-9637-1314AAFD7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A661B-FF0A-492D-A179-211111091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F6A73-B9B7-44C4-A8A8-E50F960BD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2E4F1-9C89-4D4E-A5B8-27864F606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EECC1-3505-4D0C-8CBA-1D90A9412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CFDB6-4B31-45D2-8615-F772E395E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98D9-BA24-44A4-962D-28353C174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98D92-C861-4C0F-92AF-E2B126DCC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3BAB6-91D3-4EBC-9BF0-C242D5585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E1931-E63C-46A3-B166-9DC2615B0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808F7-1511-4904-9F84-8C84826B5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17217-D622-49AE-AB68-52B4B3DA9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734D8-4064-460B-AFFB-0E69D1E1D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8058C-A3A2-427E-B17B-20C30C9F8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C31BE-0580-441D-8EA0-2EA250C0A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1C9B4-B11C-428E-9C90-32A7F68A7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A98E2-A829-4EDF-A35B-59EE21C32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C357-9A2C-4036-AC86-FF3A3009C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55FF3-1BE5-4DCF-9462-7CE8D9A80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324C4-69BD-4D9F-A7DE-7C3905B02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14236-2F1A-4E35-A52B-A39648348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FB5AC-B64C-4705-BBCD-DB927D37D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21820F-49E5-4FD9-B5A0-5B367F52B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74401A-4042-4023-A8BB-453558EFE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391E6-A73C-431B-A9C7-1D597B739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61A0A-5E3D-45C9-B416-AB6B419E0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6E78F-F651-4370-8030-EB7CD2441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1D845A-AA66-44D6-A0A1-E6B677D39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69A1-5F23-4FCD-8B01-949B87F00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5D0426-3042-49C7-9400-3CB57BB6A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E6D2B7-A697-4978-AA70-BE4735B32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6722F6-23DE-4488-8729-31F0A2D9D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5DB84D-1BCD-482C-B34C-92F3C3A60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A1EC80-CD9B-4868-9A23-C21D4EC5A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19707C-F678-40DC-A180-5E1FCA4CE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426CED-69E5-4E6B-A1A5-B320AB8A1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38812D-04A9-4EA0-82AC-A4481B175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34094D-5EE3-4F2E-AF2E-CAF1A5B43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4A813F-7215-456D-834D-24C4CA2CB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8071-0BA3-4D93-B690-A383492CF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9B49D6-7C9C-4A6A-B54B-1C02C2BAE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B604FB-F357-41E3-9B63-B7170A89A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39E85D-BA13-4174-B8DB-808B79B3E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7AAE02-D7B2-4C37-BBF3-245A09E86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9B4E5B-1FE4-4289-81D8-E1F666E54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2A3909-1174-4C53-9B80-FE9789DE9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8BF2F8-F091-4868-9440-5FDE68029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954D31-3A21-471E-8A32-FD84BB7F9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815063-1324-421C-8C10-095A08A6B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8D27EF-713F-45AB-8DFA-B6E2DA92D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994B-891F-4D74-905B-18639B118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0C6E16-0130-46E6-8979-0A0F617CF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CD9639-EC1C-4748-8A9D-F546BB0E3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B7129E-CC53-42F2-BEDE-F3C6EAC18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474A-C489-4118-9C49-93205BC6D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24C4-3950-4039-AD21-8B11EAF13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hthoek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Rechthoek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DBFCF-0E67-4F41-8C30-7F69A14D4CE2}" type="slidenum">
              <a:rPr b="0" lang="nl-NL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hthoek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Rechthoek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Rechte verbindingslijn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78128-4D11-4E47-AD34-9EA9D91AAF1F}" type="slidenum">
              <a:rPr b="0" lang="nl-NL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hthoek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Rechthoek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BCF60-BD53-4346-A26B-C7F28CC483AC}" type="slidenum">
              <a:rPr b="0" lang="nl-NL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hthoek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hthoek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A8B8F-A570-4242-B309-AA7D331658BB}" type="slidenum">
              <a:rPr b="0" lang="nl-NL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hthoek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Rechthoek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2A6A7-1436-48E0-83B9-D2E0CE905F18}" type="slidenum">
              <a:rPr b="0" lang="nl-NL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echthoek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221" name="Rechthoek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24700-1A6D-496D-97B3-F82CC2685A11}" type="slidenum">
              <a:rPr b="0" lang="nl-NL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Rectangle 2" descr=""/>
          <p:cNvPicPr/>
          <p:nvPr/>
        </p:nvPicPr>
        <p:blipFill>
          <a:blip r:embed="rId1"/>
          <a:stretch/>
        </p:blipFill>
        <p:spPr>
          <a:xfrm>
            <a:off x="689040" y="2286000"/>
            <a:ext cx="8047080" cy="147492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solidFill>
            <a:srgbClr val="ffde66"/>
          </a:solidFill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Trebuchet MS"/>
              </a:rPr>
              <a:t>Afwijkingen aan spieren, pezen en slijmbeurzen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Trebuchet MS"/>
              </a:rPr>
              <a:t>Artrose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Rectangle 2" descr=""/>
          <p:cNvPicPr/>
          <p:nvPr/>
        </p:nvPicPr>
        <p:blipFill>
          <a:blip r:embed="rId1"/>
          <a:stretch/>
        </p:blipFill>
        <p:spPr>
          <a:xfrm>
            <a:off x="244440" y="324000"/>
            <a:ext cx="7534440" cy="139536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solidFill>
            <a:srgbClr val="ffde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Vooral bij elleboog en knie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Maar ook bij heup, schouder en de hiel (achilluspees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Een bursa is een met slijm gevuld zakje onder een pee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Bursitis van de knie"/>
          <p:cNvPicPr/>
          <p:nvPr/>
        </p:nvPicPr>
        <p:blipFill>
          <a:blip r:embed="rId1"/>
          <a:stretch/>
        </p:blipFill>
        <p:spPr>
          <a:xfrm>
            <a:off x="0" y="2895480"/>
            <a:ext cx="4267080" cy="341316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3" descr="http://www.menselijk-lichaam.com/wp-content/uploads/slijmbeursontsteking.jpg"/>
          <p:cNvPicPr/>
          <p:nvPr/>
        </p:nvPicPr>
        <p:blipFill>
          <a:blip r:embed="rId2"/>
          <a:stretch/>
        </p:blipFill>
        <p:spPr>
          <a:xfrm>
            <a:off x="4572000" y="533520"/>
            <a:ext cx="4389480" cy="32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Rectangle 2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 txBox="1"/>
          <p:nvPr/>
        </p:nvSpPr>
        <p:spPr>
          <a:xfrm>
            <a:off x="456840" y="1600200"/>
            <a:ext cx="3521160" cy="4525920"/>
          </a:xfrm>
          <a:prstGeom prst="rect">
            <a:avLst/>
          </a:prstGeom>
          <a:solidFill>
            <a:srgbClr val="ffde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Klachte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Oorzaak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177800" y="1600200"/>
            <a:ext cx="3521160" cy="4525920"/>
          </a:xfrm>
          <a:prstGeom prst="rect">
            <a:avLst/>
          </a:prstGeom>
          <a:solidFill>
            <a:srgbClr val="ffde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Pij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bewegingsbeperking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Koort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Roodheid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zwelling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teveel druk op de slijmbeurs,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overbelasting van een gewricht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een val of een infectie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Rectangle 2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solidFill>
            <a:srgbClr val="ffde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Rus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Gedoseerde bewegingen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Vermijden van de overbelasting van het gewricht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NSAID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Corticosteroïd injectie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Titel 1" descr=""/>
          <p:cNvPicPr/>
          <p:nvPr/>
        </p:nvPicPr>
        <p:blipFill>
          <a:blip r:embed="rId1"/>
          <a:stretch/>
        </p:blipFill>
        <p:spPr>
          <a:xfrm>
            <a:off x="438120" y="115920"/>
            <a:ext cx="8016840" cy="143820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 txBox="1"/>
          <p:nvPr/>
        </p:nvSpPr>
        <p:spPr>
          <a:xfrm>
            <a:off x="685800" y="1341360"/>
            <a:ext cx="77724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Cyste in de knieholt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Oorzaak: overbelasting,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                   </a:t>
            </a: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gewrichtsziekte :reuma, artros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Verschijnselen: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pijnloo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teveel vloeistof in het gewricht te voelen als een zwelling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De knie kan niet goed gebogen worde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Soms zwelling onderbeen door stagnatie bloedafvoer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2" descr=""/>
          <p:cNvPicPr/>
          <p:nvPr/>
        </p:nvPicPr>
        <p:blipFill>
          <a:blip r:embed="rId1"/>
          <a:stretch/>
        </p:blipFill>
        <p:spPr>
          <a:xfrm>
            <a:off x="2381400" y="1238400"/>
            <a:ext cx="4381200" cy="43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Titel 1" descr=""/>
          <p:cNvPicPr/>
          <p:nvPr/>
        </p:nvPicPr>
        <p:blipFill>
          <a:blip r:embed="rId1"/>
          <a:stretch/>
        </p:blipFill>
        <p:spPr>
          <a:xfrm>
            <a:off x="244440" y="298440"/>
            <a:ext cx="7454880" cy="116532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Kan vanzelf overgaan : Geduld!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Wegzuigen van voch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Inspuiten van corticosteroïden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Beiden soms zinvo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Soms operatie, cyste komt vaak terug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Titel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 txBox="1"/>
          <p:nvPr/>
        </p:nvSpPr>
        <p:spPr>
          <a:xfrm>
            <a:off x="685800" y="1980720"/>
            <a:ext cx="77724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Cyste in het kapsel van een gewricht of in een pee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Cyste is gevuld met slijmerig voch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Verdwijnt meestal vanzelf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Soms d.m.v. een punctie vocht verwijdere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Of inspuiten corticosteroïde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Afwijking komt soms weer terug na  behandeling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Titel 1" descr=""/>
          <p:cNvPicPr/>
          <p:nvPr/>
        </p:nvPicPr>
        <p:blipFill>
          <a:blip r:embed="rId1"/>
          <a:stretch/>
        </p:blipFill>
        <p:spPr>
          <a:xfrm>
            <a:off x="4286160" y="262080"/>
            <a:ext cx="4602240" cy="140148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4" descr=""/>
          <p:cNvPicPr/>
          <p:nvPr/>
        </p:nvPicPr>
        <p:blipFill>
          <a:blip r:embed="rId2"/>
          <a:stretch/>
        </p:blipFill>
        <p:spPr>
          <a:xfrm>
            <a:off x="-7920" y="692280"/>
            <a:ext cx="4381560" cy="28573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6" descr=""/>
          <p:cNvPicPr/>
          <p:nvPr/>
        </p:nvPicPr>
        <p:blipFill>
          <a:blip r:embed="rId3"/>
          <a:stretch/>
        </p:blipFill>
        <p:spPr>
          <a:xfrm>
            <a:off x="684360" y="4076640"/>
            <a:ext cx="2857320" cy="14670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7" descr=""/>
          <p:cNvPicPr/>
          <p:nvPr/>
        </p:nvPicPr>
        <p:blipFill>
          <a:blip r:embed="rId4"/>
          <a:stretch/>
        </p:blipFill>
        <p:spPr>
          <a:xfrm>
            <a:off x="4221000" y="3078000"/>
            <a:ext cx="49435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Rectangle 2" descr=""/>
          <p:cNvPicPr/>
          <p:nvPr/>
        </p:nvPicPr>
        <p:blipFill>
          <a:blip r:embed="rId1"/>
          <a:stretch/>
        </p:blipFill>
        <p:spPr>
          <a:xfrm>
            <a:off x="689040" y="476280"/>
            <a:ext cx="8047080" cy="150480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684360" y="1905120"/>
            <a:ext cx="7775280" cy="3179520"/>
          </a:xfrm>
          <a:prstGeom prst="rect">
            <a:avLst/>
          </a:prstGeom>
          <a:solidFill>
            <a:srgbClr val="ffde66"/>
          </a:solidFill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Trebuchet MS"/>
              </a:rPr>
              <a:t>“</a:t>
            </a:r>
            <a:r>
              <a:rPr b="0" lang="nl-NL" sz="2200" spc="-1" strike="noStrike">
                <a:solidFill>
                  <a:srgbClr val="ffffff"/>
                </a:solidFill>
                <a:latin typeface="Trebuchet MS"/>
              </a:rPr>
              <a:t>Gewrichtsslijtage”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Trebuchet MS"/>
              </a:rPr>
              <a:t>Het gladde kraakbeenoppervlak raakt beschadigt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Trebuchet MS"/>
              </a:rPr>
              <a:t>Vooral coxartrose en gonartrose, daarnaast in de wervelkolom en handen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rebuchet MS"/>
              </a:rPr>
              <a:t>http://www.enbrel.nl/upload/flash/artrose</a:t>
            </a:r>
            <a:r>
              <a:rPr b="0" lang="nl-NL" sz="2200" spc="-1" strike="noStrike">
                <a:solidFill>
                  <a:srgbClr val="ffffff"/>
                </a:solidFill>
                <a:latin typeface="Trebuchet MS"/>
              </a:rPr>
              <a:t>.</a:t>
            </a:r>
            <a:r>
              <a:rPr b="0" lang="nl-NL" sz="2000" spc="-1" strike="noStrike">
                <a:solidFill>
                  <a:srgbClr val="ffffff"/>
                </a:solidFill>
                <a:latin typeface="Trebuchet MS"/>
              </a:rPr>
              <a:t>swf 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rebuchet MS"/>
              </a:rPr>
              <a:t>http://www.youtube.com/watch?v=hzjje-m0s-o   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7" name="Rechthoek 1"/>
          <p:cNvSpPr/>
          <p:nvPr/>
        </p:nvSpPr>
        <p:spPr>
          <a:xfrm>
            <a:off x="2305080" y="5952960"/>
            <a:ext cx="63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ttp://www.youtube.com/watch?v=JrC4DiTysi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hthoek 2"/>
          <p:cNvSpPr/>
          <p:nvPr/>
        </p:nvSpPr>
        <p:spPr>
          <a:xfrm>
            <a:off x="1860480" y="638820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ttp://www.youtube.com/watch?v=u4371S27E4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Rectangle 2" descr=""/>
          <p:cNvPicPr/>
          <p:nvPr/>
        </p:nvPicPr>
        <p:blipFill>
          <a:blip r:embed="rId1"/>
          <a:stretch/>
        </p:blipFill>
        <p:spPr>
          <a:xfrm>
            <a:off x="365040" y="19080"/>
            <a:ext cx="8016840" cy="14382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 txBox="1"/>
          <p:nvPr/>
        </p:nvSpPr>
        <p:spPr>
          <a:xfrm>
            <a:off x="761760" y="1412640"/>
            <a:ext cx="3733560" cy="5445000"/>
          </a:xfrm>
          <a:prstGeom prst="rect">
            <a:avLst/>
          </a:prstGeom>
          <a:solidFill>
            <a:srgbClr val="ffde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Muisarm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Tenniselleboog/ -arm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Peesschedeontsteking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Baker-cyst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Slijmbeursontsteking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Fibromyalgi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647960" y="1412640"/>
            <a:ext cx="3809880" cy="5445000"/>
          </a:xfrm>
          <a:prstGeom prst="rect">
            <a:avLst/>
          </a:prstGeom>
          <a:solidFill>
            <a:srgbClr val="ffde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RSI:repetetive strain injury(oude naam) Nu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Cans(KANS): complaints of arm, neck and shoulder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Epicondylitis lateralis humeri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Tendinitis of tendovaginiti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Gangli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Bursiti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Artros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Rectangle 2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solidFill>
            <a:srgbClr val="ffde66"/>
          </a:solidFill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Stijfheid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pij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Startpij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Bewegingsbeperkingen, minder bewegen: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De conditie van de spieren neemt dan af en komt er meer druk op de gewrichten te staan. Hierdoor kunnen de slijmbeurzen weer ontstoken raken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Op den duur vorming van botuitsteeksel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3"/>
          <p:cNvSpPr/>
          <p:nvPr/>
        </p:nvSpPr>
        <p:spPr>
          <a:xfrm>
            <a:off x="1095480" y="8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Picture 2" descr="Animatieplaatje over wat artrose is"/>
          <p:cNvPicPr/>
          <p:nvPr/>
        </p:nvPicPr>
        <p:blipFill>
          <a:blip r:embed="rId1"/>
          <a:stretch/>
        </p:blipFill>
        <p:spPr>
          <a:xfrm>
            <a:off x="1095480" y="885960"/>
            <a:ext cx="6953040" cy="50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Rectangle 2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solidFill>
            <a:srgbClr val="ffde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3333"/>
                </a:solidFill>
                <a:latin typeface="Arial"/>
                <a:ea typeface="Arial"/>
              </a:rPr>
              <a:t>Slijtage die van nature ontstaat bij het ouder worde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3333"/>
                </a:solidFill>
                <a:latin typeface="Arial"/>
                <a:ea typeface="Arial"/>
              </a:rPr>
              <a:t>Overbelasting / overgewich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3333"/>
                </a:solidFill>
                <a:latin typeface="Arial"/>
                <a:ea typeface="Arial"/>
              </a:rPr>
              <a:t>herhaalde blessures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3333"/>
                </a:solidFill>
                <a:latin typeface="Arial"/>
                <a:ea typeface="Arial"/>
              </a:rPr>
              <a:t>Ziekten en acute trauma gewrichte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3333"/>
                </a:solidFill>
                <a:latin typeface="Arial"/>
                <a:ea typeface="Arial"/>
              </a:rPr>
              <a:t>Heupdysplasie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3333"/>
                </a:solidFill>
                <a:latin typeface="Arial"/>
                <a:ea typeface="Arial"/>
              </a:rPr>
              <a:t>Erfelijke aanleg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Rectangle 2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solidFill>
            <a:srgbClr val="ffde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In beweging blijven  Rust roes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Paracetamo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NSAID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Corticosteroïde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Fysiotherapie en ergotherapi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Operatie: osteotomie, arthrodese, prothese, arthroscopie om aanhangsels te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                    </a:t>
            </a: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verwijdere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Titel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Pijn in bindweefsel en spiere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‘</a:t>
            </a: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Weke delen reuma’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Chronisch pijnsyndroom: spierpijn, stijfheid, vermoeidheid, hoofdpijn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Oorzaak onbekend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Wat te doen: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Trebuchet MS"/>
              </a:rPr>
              <a:t>pijnstillers, antidepressiva of slaapmiddelen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Trebuchet MS"/>
              </a:rPr>
              <a:t>Behandeling in een pijncentrum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Trebuchet MS"/>
              </a:rPr>
              <a:t>Fysio- en oefentherapie Cesar of Mensendieck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Trebuchet MS"/>
              </a:rPr>
              <a:t>Het vermijden van stres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Trebuchet MS"/>
              </a:rPr>
              <a:t>Leefregels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Titel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 txBox="1"/>
          <p:nvPr/>
        </p:nvSpPr>
        <p:spPr>
          <a:xfrm>
            <a:off x="45684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Repetitive Strain Injur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Blessure door herhaalde beweging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Verzamelnaam: Spier en gewrichtklachten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Pijn, tintelingen, doof gevo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Preventie: ergenomie op werkplek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17780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9" name="Picture 2" descr=""/>
          <p:cNvPicPr/>
          <p:nvPr/>
        </p:nvPicPr>
        <p:blipFill>
          <a:blip r:embed="rId2"/>
          <a:stretch/>
        </p:blipFill>
        <p:spPr>
          <a:xfrm>
            <a:off x="4140360" y="2546280"/>
            <a:ext cx="4403520" cy="22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Rectangle 2" descr=""/>
          <p:cNvPicPr/>
          <p:nvPr/>
        </p:nvPicPr>
        <p:blipFill>
          <a:blip r:embed="rId1"/>
          <a:stretch/>
        </p:blipFill>
        <p:spPr>
          <a:xfrm>
            <a:off x="476280" y="585720"/>
            <a:ext cx="7985160" cy="142560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ffde66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Spierpij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Bewegingspij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Druk op de peesaanhechtingspunt geeft pijnstijging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Moe gevo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Beperking in activiteite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Picture 6" descr=""/>
          <p:cNvPicPr/>
          <p:nvPr/>
        </p:nvPicPr>
        <p:blipFill>
          <a:blip r:embed="rId2"/>
          <a:stretch/>
        </p:blipFill>
        <p:spPr>
          <a:xfrm>
            <a:off x="4648320" y="2349360"/>
            <a:ext cx="39542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Rectangle 1026" descr=""/>
          <p:cNvPicPr/>
          <p:nvPr/>
        </p:nvPicPr>
        <p:blipFill>
          <a:blip r:embed="rId1"/>
          <a:stretch/>
        </p:blipFill>
        <p:spPr>
          <a:xfrm>
            <a:off x="244440" y="298440"/>
            <a:ext cx="7637400" cy="142092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solidFill>
            <a:srgbClr val="ffde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Onderliggende aandoening behandele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Paracetamol / NSAID/corticostero</a:t>
            </a:r>
            <a:r>
              <a:rPr b="0" lang="nl-NL" sz="2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ïdinjecti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Oefentherapi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Z.n. werk aanpasse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Wel aan het werk blijven en anders contact houden met de collega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Contact bedrijfsarts/ -verpleegkundig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Cognitieve gedragstherapie: psycholoog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Rectangle 2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 txBox="1"/>
          <p:nvPr/>
        </p:nvSpPr>
        <p:spPr>
          <a:xfrm>
            <a:off x="456840" y="1600200"/>
            <a:ext cx="3521160" cy="4525920"/>
          </a:xfrm>
          <a:prstGeom prst="rect">
            <a:avLst/>
          </a:prstGeom>
          <a:solidFill>
            <a:srgbClr val="ffde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Klachte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Oorzaak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177800" y="1600200"/>
            <a:ext cx="3521160" cy="4525920"/>
          </a:xfrm>
          <a:prstGeom prst="rect">
            <a:avLst/>
          </a:prstGeom>
          <a:solidFill>
            <a:srgbClr val="ffde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Locale verdikking van de elleboog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Warmt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Pijn rond elleboog, toenemend bij beweging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Overbelasting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Problemen in cervicale wervelkolom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Rectangle 2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solidFill>
            <a:srgbClr val="ffde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Het is een self-limiting disease (8 – 13 maanden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Paracetamo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NSAID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Corticosteroïden, locaa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Tape, bandages, oefeningen en fysiotherapie geven geen snellere verbetering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Rectangle 2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solidFill>
            <a:srgbClr val="ffde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Tendiniti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Veroudering of overbelasting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Voorbeeld: syndroom van De Quervain (Peesschedeontsteking van pols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Bewegen van duim is pijnlijk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Trigger Finger: Omhulsels buigpezen vinger zwellen op. Blijft in buigstand staan. Corticosteroiden inspuite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Rectangle 2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solidFill>
            <a:srgbClr val="ffde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Rust, eventueel gips of een spalk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NSAID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Corticosteroïden, locaa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Soms een operatie,waarbij de peesschede wordt opengesnede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8T14:08:33Z</dcterms:created>
  <dc:creator>Agnieta</dc:creator>
  <dc:description/>
  <dc:language>en-US</dc:language>
  <cp:lastModifiedBy>Bouland,M.</cp:lastModifiedBy>
  <dcterms:modified xsi:type="dcterms:W3CDTF">2015-12-10T09:36:44Z</dcterms:modified>
  <cp:revision>25</cp:revision>
  <dc:subject/>
  <dc:title>Reumatische Aandoeningen</dc:title>
</cp:coreProperties>
</file>