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CF0-B2D7-4F0D-9CF2-B9E783DC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4D6-C1D3-4D3D-B4A0-F6E74249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0E2-B3BB-468F-BF89-7AF9E3B8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19A-1DFD-4710-8A13-A9059D40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CBAF-D8CD-476E-9D4D-8EB2625E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8B3B-93A5-48CF-A6EB-C92215F0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841D-0B7F-42A1-98D6-159330C5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9BD7-DD87-4013-B62C-3994DADD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69EA-5709-48DC-90A7-C62950FD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0B54-4D14-4F9F-B35B-820361E9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19BD-2DAD-4CC0-BB1B-F02BC8AB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D15-F859-4796-B54C-E5AE101E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AD6D-BA8D-442F-8C55-7D69F5F6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E604-B48E-4D0E-A2D7-9012DA3D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6815-F551-4B3F-9D08-B2265896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7698-C587-418D-8C06-DAFE1B3C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F257-198B-4B43-8A85-119B9C5E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887C5-25BE-4F7E-9B18-9FF297D2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6DE79-30A1-4D99-8782-AD38E0E9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ABE31-FC21-451C-BBA3-36044496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A752D-4B02-432D-9520-5B701D64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AD65B-4756-4BC8-89E3-AC087919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FC0-41FA-487C-AB55-69E49A12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FACCE-193B-4DBC-9DFF-CC62AF2D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3E9F6-1828-4D6D-85AC-01F19AE1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8229F-F468-4A9E-B817-B17A4025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AF4B-D557-4704-BB63-EA164905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15FBF-50B5-4E81-9106-F7BFFBDC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4CEF2-9E48-4150-9C92-C607EBF4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703E1-8830-4C8F-B14B-1040715E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E2F15-F009-40C3-B2F8-2D66B103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41CD-02A0-46EF-B4BA-5B4CF585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E39EA-FB5C-4B51-91F0-6E41BC97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E15-5AAD-47E9-9486-AC28740C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825DC-5C6D-4318-B367-FD56F839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7759D-C3A4-4286-809D-BBDC0098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DDBF4-60A1-40A6-A5A4-1909AAFC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9EBB5-AFEB-4E63-805B-51F53636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58B3F-129F-4390-8025-953A2028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71A22-5485-4D27-88FC-51AF6DCD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2C485-AAA9-4391-A8E6-D0741376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8483-DD34-42E8-9799-4718C5A3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CE2FA-456A-4C5D-923C-98E7506A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55361-C531-4E15-99F4-9B37DF31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7B2-8941-4EEB-92A5-DC94CC1D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2D6E4-668B-4DF1-803F-6EB76896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0DD80-9043-44E1-AF36-64A23727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EBA01-909B-41B5-9815-A7400371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1A3AF-77A2-4374-9D7D-5DAC2DA1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4F9F5-D21D-4081-8C50-6E8BC9E8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B0FC8-1B8D-4B4A-A228-3219B5D6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065C7-A3B9-4CFA-B2F2-D887DBE8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AE448-A9E8-4747-B3D8-6837E149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61EA5-2677-459B-8F45-C7203C8D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BD4D6-6392-4532-ACE3-D1F251FE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82A-40D9-4F95-A388-5853E70A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D7165-198C-4CA8-AE3E-A19F3897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DAE-A5C2-41A1-9F6C-253CCDD8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2BE-53EC-4A11-81A7-E4CF174C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D166-38F7-4467-96E6-71056B32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EEFA9-FFC8-4261-B7EC-02D70352F0E0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91AB8-0585-4A5A-95B1-CFC376DFD689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2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71354-2381-407B-B560-44D5CF905482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E10E6-BE54-4E5C-8834-DF9A8BE86051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2F8B9-EC82-4A61-A5D6-FB6ECB4DAA9F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8VhCl4J_lo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rohn.nl/animatie.html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7ey8wyI5eo&amp;feature=relmfu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Gill Sans MT"/>
              </a:rPr>
              <a:t>AANDOENINGEN VAN HET SPIJSVERTERINGSKANAA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Deel 2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b0f0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Gill Sans MT"/>
              </a:rPr>
              <a:t>PRIKKELBARE DARM SYNDROOM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Spastische dar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Irritable bowel syndrome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Spastische dar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b0f0"/>
                </a:solidFill>
                <a:uFillTx/>
                <a:latin typeface="Times New Roman"/>
                <a:hlinkClick r:id="rId1"/>
              </a:rPr>
              <a:t>http://www.youtube.com/watch?v=x8VhCl4J_lo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De oorzaak is onbekend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Een rol spelen: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Bewegingsstoornissen in het maagdarmkanaal;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Voedingsfactoren;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Verlaagde pijndrempel in het maagdarmkanaal;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Psychosociale factoren;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Afwijkingen in de darmflora;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Mogelijke ontstekingscellen in de darmen. 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Klachten &gt; 6maanden en 3 maanden actief aanwezi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Klachten wisselend aan- afwezi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Zeurende, krampende of stekende  pijn in de buik die soms vermindert na defecatie of na het et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Pijn soms zo hevig dat de activiteiten niet meer lukk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Afwijkend ontlasting patroo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VERVOLG SYMPTOM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Afwisselend diarree en obstipat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aak ook andere klachten Tr. Dig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Zuurbrand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Slikklacht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Winderigheid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geblazen gevo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gezette bui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Geen specifieke onderzoeken, goede anamnese en lichamelijk onderzoek is voldoend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oeding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Leefregels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ventueel medicijnen afh. van de klachten     bulkvormers, analgetica, vochtvasthouders, laxantia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ognitieve gedragstherap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b0f0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500" spc="-1" strike="noStrike">
                <a:solidFill>
                  <a:srgbClr val="262626"/>
                </a:solidFill>
                <a:latin typeface="Gill Sans MT"/>
              </a:rPr>
              <a:t>BEKLEMDE BREUK</a:t>
            </a:r>
            <a:endParaRPr b="0" lang="en-US" sz="35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Hernia incarcerat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BREUK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905120" y="3962520"/>
            <a:ext cx="4114800" cy="1998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41148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DEFINITIE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Beklemde uitstulping van ingewanden of buikvlies door een opening in de buikwand m.a.g. afsterving van het weefsel in de breukza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LITTEKENBREUK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41972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INHOUD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Ileu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Prikkelbare darm syndroom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Beklemde breu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olitis ulcerosa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orbus Croh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NAVELBREUK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371600" y="2222640"/>
            <a:ext cx="571500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GROTE BREUK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676520" y="2017800"/>
            <a:ext cx="47242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Hevige pij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Locale ontstekingsverschijnsel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THERAPIE: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hirurg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00b0f0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LITIS ULCEROSA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en chronische ontsteking van het slijmvlies van de dikke darm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samen met de Morbus Crohn hoort het tot de  Inflammatory Bowel Diseases (IBD)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287800" y="302904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iseases Inflammatory Bowel (IB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AK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nbekend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rfelijke factoren spelen een ro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ogelijk ook omgevingsfactor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</a:t>
            </a: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iarree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Bloed bij de ontlast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Buikpij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moeidheid,  slechte eetlust, gewichtsdal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Koorts 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loopt in golv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Soms alleen proctitis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http://www.accurioja.com/img/colitis.jpg"/>
          <p:cNvPicPr/>
          <p:nvPr/>
        </p:nvPicPr>
        <p:blipFill>
          <a:blip r:embed="rId1"/>
          <a:stretch/>
        </p:blipFill>
        <p:spPr>
          <a:xfrm>
            <a:off x="1714680" y="304920"/>
            <a:ext cx="5715000" cy="2941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http://www.spinabifidainfo.nl/colitisbv.jpg"/>
          <p:cNvPicPr/>
          <p:nvPr/>
        </p:nvPicPr>
        <p:blipFill>
          <a:blip r:embed="rId2"/>
          <a:stretch/>
        </p:blipFill>
        <p:spPr>
          <a:xfrm>
            <a:off x="685800" y="3597120"/>
            <a:ext cx="2997360" cy="3260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http://www.gastrointestinalatlas.com/SevereUlcerative_Colitis13.jpg"/>
          <p:cNvPicPr/>
          <p:nvPr/>
        </p:nvPicPr>
        <p:blipFill>
          <a:blip r:embed="rId3"/>
          <a:stretch/>
        </p:blipFill>
        <p:spPr>
          <a:xfrm>
            <a:off x="4343400" y="3807000"/>
            <a:ext cx="4572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Fecesonderzoe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ndoscopie met bioptafnam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X BOZ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MPLICATIES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Huid -, oog- en gewrichtsklachten en ontstekingen van de galwegen in en buiten de lever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Fistel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steoporose, door verminderde kalkopnam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ieet niet nodig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edicijnen: ontstekingsremmer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eratie: colonresectie/ colectom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b0f0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500" spc="-1" strike="noStrike">
                <a:solidFill>
                  <a:srgbClr val="262626"/>
                </a:solidFill>
                <a:latin typeface="Gill Sans MT"/>
              </a:rPr>
              <a:t>ILEUS</a:t>
            </a:r>
            <a:endParaRPr b="0" lang="en-US" sz="35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Voorkomend in zowel dunne als dikke dar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00b0f0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ZIEKTE VAN CROH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Ileitis terminali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en chronische ontstekingsziekte van het maag-darmstelsel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b0f0"/>
                </a:solidFill>
                <a:uFillTx/>
                <a:latin typeface="Gill Sans MT"/>
                <a:hlinkClick r:id="rId1"/>
              </a:rPr>
              <a:t>http://www.crohn.nl/animatie.html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26" descr="http://medischcontact.artsennet.nl/static/images/medischcontact/AMGATE_6059_138_TICH_R227196430371217.jpg"/>
          <p:cNvPicPr/>
          <p:nvPr/>
        </p:nvPicPr>
        <p:blipFill>
          <a:blip r:embed="rId1"/>
          <a:stretch/>
        </p:blipFill>
        <p:spPr>
          <a:xfrm>
            <a:off x="6019920" y="3879720"/>
            <a:ext cx="3124080" cy="2978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27" descr="http://www.ysl.nl/fileadmin/site/ysl/medischabc/afbeeldingen/MK_ziektevancrohn.gif"/>
          <p:cNvPicPr/>
          <p:nvPr/>
        </p:nvPicPr>
        <p:blipFill>
          <a:blip r:embed="rId2"/>
          <a:stretch/>
        </p:blipFill>
        <p:spPr>
          <a:xfrm>
            <a:off x="250920" y="981000"/>
            <a:ext cx="53848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AK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nbekend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rfelijke factoren spelen wel een ro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b0f0"/>
                </a:solidFill>
                <a:uFillTx/>
                <a:latin typeface="Gill Sans MT"/>
                <a:hlinkClick r:id="rId1"/>
              </a:rPr>
              <a:t>http://www.youtube.com/watch?v=i7ey8wyI5eo&amp;feature=relmfu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Buikpij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iarre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ermagering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Anemi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Ziekte verloopt in golven(exacerbaties en remissies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Koorts tijdens opvlamming van de ziekt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choscopi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ndoscopie met bioptafnam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Slikken videocapsul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MPLICATIES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Fistelvorming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erklevingen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iee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edicijnen: pijnstillers, anti-diarree middelen, vitamines, foliumzuur en ijzer gebruiken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aak ook medicijnen die werken tegen de ontstekingen.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erat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seifmedgraphics.com/ileus.jpg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stopping obstructie van de darmdoorga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Mechanische blokkade door inklemming (invaginatie), afklemming of verdraaiing (stranguratie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kleving van de darmwand aan het buikvlies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armzwell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armverlamming(paralytische ileus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VERSCHIJNSEL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Aanvallen van hevige buikpijn(kolieken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armbewegingen zichtbaar op de buik(niet bij paralytische ileus, stille buik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Gootsteengeruisen te hor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Opgezette buik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Misselijk en braken tot fecaal braken aan toe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Wegblijven van winden en ontlast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Soms overloopdiarree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Shock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T-sca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X coloninloop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RI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ndoscopi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MPLICATIES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armperforat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armnecrose (afsterving)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eratie zonodig met stoma-aanlegging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nderliggende oorzaak behandel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onservatief: maaghevel, infuus, clysma’s, later orale laxantia, pijnstillers, antiemetica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9:38:35Z</dcterms:created>
  <dc:creator>Agnieta</dc:creator>
  <dc:description/>
  <dc:language>en-US</dc:language>
  <cp:lastModifiedBy>Marlies Bouland</cp:lastModifiedBy>
  <dcterms:modified xsi:type="dcterms:W3CDTF">2018-03-13T13:25:50Z</dcterms:modified>
  <cp:revision>19</cp:revision>
  <dc:subject/>
  <dc:title>Aandoeningen van het spijsverteringskanaal</dc:title>
</cp:coreProperties>
</file>