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43CCC-F06A-4B00-9775-1C6A7FEC45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8F52AA-63EA-437F-B359-84755BE582D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llirubine niet goed verwerken: ASAT en ALAT verhoog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hron hep kan overgaan in cirrose: langer dan 6 m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B4D906-A54D-4409-B823-4A7551FEF545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65EA5-A015-430B-A787-A49CA8A077A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: besmettelijke geelzucht, vooral bij kinderen, rond middelandsezee gebied, besmetting via ontlasting. Incubatietijd een maand. Prognose is go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92440-E4C0-41B9-9654-17B2709AD3D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: kan chronisch worden en leiden tot cirrose of kank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: bijna alleen via bloed-bloed contact. Kan chron worden en tot cirrose lijd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322BA-AF37-4440-BBA4-0F4FC886272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lever verandert in bindweefsel. Diagnose: via echo, scopie of biopt. Vaak gevolg van alc.misbruik. Of complicatie van B of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rtransplantie is dan opti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C2C804-DF63-4790-8DC4-A528DC4ACC6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4839-0DAB-47CD-9D94-D5BA1068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3EB-FF16-41C7-BB37-7E05B5DD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68F-4624-4E69-A97D-64EFE2A3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BCEB-893A-4194-AA15-FFEE1085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A892-7D6F-4D56-87B9-51FD4463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511A-1A50-4B05-909D-4B06D459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243D-6E79-45B2-B043-063A3573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16DA-217C-4B5D-9A44-E6CBFF45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3FD3-11E4-4807-B7DA-57F84D89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26BC-EF12-4886-96B7-8A5382BC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C89F-5AF1-444F-B0D0-4DDE6071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57C9-F55E-4146-AB13-02C9306A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8E68-14D0-453E-B818-6CAC951A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7299-282E-4DE6-A215-16A5C900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4FA8-B9A2-4198-A1CB-AD98080E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6964-4605-4AAF-BCD9-AA126B35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F14F-35F1-4D94-BB0F-00920917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CFC65-4D43-49E7-8EF6-EFE0449E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F10DD-E0CF-46A7-93D1-FF8CC1DD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593EF-E30A-41CF-A238-5A739642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FFAA-CD97-42D1-9F99-D19F40BA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B53CC-8EB3-482D-AEE6-D3C53FBF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377-1052-4810-BBBC-B4929D79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89E5E-AE61-4371-9D78-2204A933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C9EDA-0922-496F-8A9A-4C7816C7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CCAA2-DE52-46C0-8D25-5BF26A12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7A2BC-90CE-4E38-B288-1118C20D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49636-8A30-43C0-95A1-1CC8B81F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F3633-6D27-42E6-B8DE-998AA4B8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439ED-9744-4170-8825-8609C376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3973A-1CFE-4B7D-B4D3-E2E66755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8C60A-470E-40CF-96C0-FC1B235A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5D151-1168-4947-8907-5A48487C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1A9A-5C02-4F19-9DC9-AC0FBE92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F1729-0DAA-4268-B1AD-DCA43045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630FC-F111-4864-B4C5-FC7DFACA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08A82-00AC-4205-914E-F670CACA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ECC77-8B46-4350-92E2-D878FE34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E4C59-7B04-481C-9EA4-17D72842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C4884-7AFC-43C7-974A-F656E844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B8644-5176-4A99-BAF4-12F3374C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32212-8366-46E3-9FED-264F50D0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E1F44-0826-4761-B08B-D9F984FB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0505-C9E9-458F-AF1C-BC0921D0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EA8E-7EB7-415A-A7D1-015DE662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C1E-F00C-434B-83D3-CA1D09EC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7286-94BB-474F-B54A-31589109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0840-7179-4271-AB0B-F5009859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B9F40-FBE0-4149-BD7E-6BF950049EE1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736926-D7B3-4F07-BA5A-E3B5355C9836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DC3CB-D390-4BDA-8928-AD3A3ABFF969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AD3EC-F5C5-4858-8310-4667448C43CF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Hepatitis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8ad0d6"/>
                </a:solidFill>
                <a:latin typeface="Century Gothic"/>
              </a:rPr>
              <a:t>LEVERONTSTEK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http://healthlob.com/wp-content/uploads/2011/05/hepatitis-300x181.jpg"/>
          <p:cNvPicPr/>
          <p:nvPr/>
        </p:nvPicPr>
        <p:blipFill>
          <a:blip r:embed="rId1"/>
          <a:stretch/>
        </p:blipFill>
        <p:spPr>
          <a:xfrm>
            <a:off x="609480" y="457200"/>
            <a:ext cx="4648320" cy="2803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http://www.huidziekten.nl/afbeeldingen/hepatitis-b-4.jpg"/>
          <p:cNvPicPr/>
          <p:nvPr/>
        </p:nvPicPr>
        <p:blipFill>
          <a:blip r:embed="rId2"/>
          <a:stretch/>
        </p:blipFill>
        <p:spPr>
          <a:xfrm>
            <a:off x="4343400" y="3581280"/>
            <a:ext cx="430524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Herstelfas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estal genezing binnen 6-8 weken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kunnen gedurende een  jaar nog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moeidheid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ustelooshe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Flatulent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tintoleranti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 chronische hep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980720"/>
            <a:ext cx="7772400" cy="4496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veel patiënten hebben geen symptomen of dezelfde als bij de acute vorm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vermoeidheid, een grotere behoefte aan slaap, pijnlijke spieren en gewrichte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periodieke lichte druk of pijn onder de rechterribben als gevolg van een vergrote leve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Geelzucht is een zeer laat symptoom van chronische hepatitis: het is een teken dat de ziekte ernstig is geworden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loed en urine onderzo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patitis B door HBs-AG (australi-antigeen) aan te to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Complicati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patitis A: ge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patitis B: levercirros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patitis C: levercirrose, levercarcin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ttps://www.youtube.com/watch?v=Q9L7ZQPc8EA Engels gesproke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http://www.youtube.com/watch J5c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entury Gothic"/>
              </a:rPr>
              <a:t>ttps://www.youtube.com/watch?v=Q9L7ZQ8E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handeling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n directe behandeling, hooguit symptoombestrijd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395136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Veel hepatitis gevallen worden aanvankelijk aangezien voor griep omdat de klachten erg kunnen lijken op griepverschijnselen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Levercirrose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8ad0d6"/>
                </a:solidFill>
                <a:latin typeface="Century Gothic"/>
              </a:rPr>
              <a:t>VERSCHROMPELING, VERBINDWEEFSELING VAN DE LEV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Leverklachten: symptomen levercirrose, cirrose en alcohol"/>
          <p:cNvPicPr/>
          <p:nvPr/>
        </p:nvPicPr>
        <p:blipFill>
          <a:blip r:embed="rId1"/>
          <a:stretch/>
        </p:blipFill>
        <p:spPr>
          <a:xfrm>
            <a:off x="2362320" y="1600200"/>
            <a:ext cx="46576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 </a:t>
            </a:r>
            <a:br>
              <a:rPr sz="4200"/>
            </a:b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hronische hepatitis B en C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hronisch alcoholgebrui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lever"/>
          <p:cNvPicPr/>
          <p:nvPr/>
        </p:nvPicPr>
        <p:blipFill>
          <a:blip r:embed="rId1"/>
          <a:stretch/>
        </p:blipFill>
        <p:spPr>
          <a:xfrm>
            <a:off x="826920" y="1125360"/>
            <a:ext cx="7452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Een opgezette lever en (vage) buikpij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isselijkheid en brake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Verminderde eetlust en gewichtsverlie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Algehele zwakte en vermoeidheid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Geelzucht; het geel zien van de huid en het oogwit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Jeuk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Kleine ‘spinvormige’ bloedvaatjes op de huid (spider naevi)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http://www.huidziekten.nl/afbeeldingen/hepatitis-b-2.jpg"/>
          <p:cNvPicPr/>
          <p:nvPr/>
        </p:nvPicPr>
        <p:blipFill>
          <a:blip r:embed="rId1"/>
          <a:stretch/>
        </p:blipFill>
        <p:spPr>
          <a:xfrm>
            <a:off x="704880" y="609480"/>
            <a:ext cx="3867120" cy="4419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http://upload.wikimedia.org/wikipedia/commons/thumb/4/42/Spider_nevus.jpg/230px-Spider_nevus.jpg"/>
          <p:cNvPicPr/>
          <p:nvPr/>
        </p:nvPicPr>
        <p:blipFill>
          <a:blip r:embed="rId2"/>
          <a:stretch/>
        </p:blipFill>
        <p:spPr>
          <a:xfrm>
            <a:off x="5410080" y="0"/>
            <a:ext cx="2629080" cy="4422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http://www.sciencephoto.com/image/259930/large/M2200067-Spider_naevus_on_skin-SPL.jpg"/>
          <p:cNvPicPr/>
          <p:nvPr/>
        </p:nvPicPr>
        <p:blipFill>
          <a:blip r:embed="rId3"/>
          <a:stretch/>
        </p:blipFill>
        <p:spPr>
          <a:xfrm>
            <a:off x="4876920" y="4489560"/>
            <a:ext cx="340992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loedonderzoek: leverfunc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X BOZ, MRI.leversc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chograf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everpunctie/ biops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herap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leen symptomatisc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evertransplantat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Pancreatitis 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8ad0d6"/>
                </a:solidFill>
                <a:latin typeface="Century Gothic"/>
              </a:rPr>
              <a:t>ALVLEESKLIERONTSTEKIN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8ad0d6"/>
                </a:solidFill>
                <a:latin typeface="Century Gothic"/>
              </a:rPr>
              <a:t>HTTP://PLAZILLA.COM/PAGE/4294981047/PANCREATITIS-WAT-IS-DAT-PRECIES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84368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 van acute pancre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t gedeelte wat spijsverteringssappen maakt is ontsto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ir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neesmiddel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coh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lstenen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15280" cy="11430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Verschijnselen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9640" y="1412640"/>
            <a:ext cx="8315280" cy="54450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aak een mild verloop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rnstige pijn in de bovenbui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Uitstralend naar de ru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zit rechtop en voorovergebog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isselijk en bra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80028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Ziekenhuisopname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mylase sterk verhoogd in het bloed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2" name="Picture 2" descr="Pancreatitis symptomen: buikpijn, misselijk, braken &amp; koorts"/>
          <p:cNvPicPr/>
          <p:nvPr/>
        </p:nvPicPr>
        <p:blipFill>
          <a:blip r:embed="rId1"/>
          <a:stretch/>
        </p:blipFill>
        <p:spPr>
          <a:xfrm>
            <a:off x="7093080" y="4437000"/>
            <a:ext cx="17618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handeling </a:t>
            </a:r>
            <a:br>
              <a:rPr sz="4200"/>
            </a:b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Kunstmatige voed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ware pijnstill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lstenen worden verwijder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% overlijd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 chronische pancreatitis</a:t>
            </a:r>
            <a:br>
              <a:rPr sz="4200"/>
            </a:b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coholmisbrui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gebo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bekend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981080"/>
            <a:ext cx="7772400" cy="36086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irussen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hepatitis A, B, C,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Epstein-Barrvirus (Z. Pfeiffer), cytomegalievirus(herpesvirus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cohol-  /drugsgebrui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en bijv overdosis paracetam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ofwisselingsziekten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ttps://www.youtube.com/watch?v=12q3byhdt00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 chron. pancre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isselende pijn in de buik of in de ru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fname pijn rechtop voorover gebogen zit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ttige ontlasting door tekort aan 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Uiteindelijk aantasting endocriene cellen m.a.g. diabetes mellit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handeling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bestrijding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www.rugzakreis.nl/images/medisch-hepatitis-a.gif"/>
          <p:cNvPicPr/>
          <p:nvPr/>
        </p:nvPicPr>
        <p:blipFill>
          <a:blip r:embed="rId1"/>
          <a:stretch/>
        </p:blipFill>
        <p:spPr>
          <a:xfrm>
            <a:off x="228600" y="0"/>
            <a:ext cx="5029200" cy="3521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http://www.rugzakreis.nl/images/medisch-hepatitis.gif"/>
          <p:cNvPicPr/>
          <p:nvPr/>
        </p:nvPicPr>
        <p:blipFill>
          <a:blip r:embed="rId2"/>
          <a:stretch/>
        </p:blipFill>
        <p:spPr>
          <a:xfrm>
            <a:off x="3657600" y="3313080"/>
            <a:ext cx="54864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http://www.umm.edu/graphics/images/en/18140.jpg"/>
          <p:cNvPicPr/>
          <p:nvPr/>
        </p:nvPicPr>
        <p:blipFill>
          <a:blip r:embed="rId1"/>
          <a:stretch/>
        </p:blipFill>
        <p:spPr>
          <a:xfrm>
            <a:off x="304920" y="38088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http://www.huidziekten.nl/afbeeldingen/hepatitis-b-1.jpg"/>
          <p:cNvPicPr/>
          <p:nvPr/>
        </p:nvPicPr>
        <p:blipFill>
          <a:blip r:embed="rId2"/>
          <a:stretch/>
        </p:blipFill>
        <p:spPr>
          <a:xfrm>
            <a:off x="4800600" y="2819520"/>
            <a:ext cx="43434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smettingsweg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980720"/>
            <a:ext cx="7772400" cy="281628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: besmet voedsel, water met faecalië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 en C: seksueel contact, bloed/- transfusies en  naalden delen door  drugsgebruikers, mensen in de zor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ttp://www.stophepatitis-c.nl/videos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ypen hep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cute hepatitis - duurt minder dan zes maanden, de virussen hepatitis A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hronische hepatitis - duurt langer dan zes maanden,  de virussen hepatitis B en C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  acute hep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moeidheid, algemene malaise, lichte koor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iarree, misselijkheid, slechte eetlust, veranderingen in smaa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ruk of pijn onder de rechterribben veroorzaakt door een vergrote lev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lijke spieren en gewrichten, hoofdpijn, huiduitsla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In de icterusfase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vergeling van de witte gedeelten van de ogen, de huid en de slijmvlieze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donkere urin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licht gekleurde ontlasting (stopverf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rond deze tijd verdwijnen de andere symptome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Herstel: uiteindelijk blijft alleen vermoeidheid over, die langzamerhand verdwijn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8:32:41Z</dcterms:created>
  <dc:creator>Agnieta</dc:creator>
  <dc:description/>
  <dc:language>en-US</dc:language>
  <cp:lastModifiedBy>marlies bouland</cp:lastModifiedBy>
  <cp:lastPrinted>2015-03-20T11:56:38Z</cp:lastPrinted>
  <dcterms:modified xsi:type="dcterms:W3CDTF">2018-09-22T11:48:50Z</dcterms:modified>
  <cp:revision>20</cp:revision>
  <dc:subject/>
  <dc:title>Hepatitis</dc:title>
</cp:coreProperties>
</file>