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7BB-0F9F-406F-AA34-76F9AFCDAF7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787-D01D-47F2-95D2-0BE574B6F5FC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EA9-73E7-45C1-A775-68B489F5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807-F9A8-4F65-BE59-3F31041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0E0-6976-431E-98B0-06BDA980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4F8-E80E-4068-8F59-248DA7EF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248C-0CDB-4B3C-AE9F-B7D84C30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A036-ADF9-44A2-86FC-4C6B0A8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A8E-038D-4850-B543-9E325B34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A93-D9BB-4A65-AA54-589E0F2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8ADB-B0BB-4B8C-8A2C-F115DF1C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11EC-610D-4AE2-BF12-2A0DFE4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7EF3-4189-4B83-9D7D-718FC5BB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4D9-9922-445F-8C4D-B68F382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212-DC70-4B9D-9028-A1F9B22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74E5-7E3F-4413-B4B4-6234CBD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0DB6-B34A-4C3F-BA23-C142641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08A0-7875-419B-8836-CE964B84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F33B-B0FF-4AEE-A5FC-4131389A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616-4A2E-4A3B-8209-C54ADCF1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BDC-5968-445B-9F04-8CDA6C0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908-DC2C-4650-9BDF-CCF8C98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E5C-B36A-4FEB-8ABD-239E0226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7CB-58E1-4477-A0DD-8417923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706-923D-42C3-A7EE-B13E476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252-3396-4DC4-BEFB-40E16FE3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5ED-548B-4B21-81C8-F40C15C785FD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B17-0F1A-4D03-B19D-1A8D4C0863DD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ker en dunnere ontlasting dan norm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iet zelden waterd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stal buikkram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rmen5"/>
          <p:cNvPicPr/>
          <p:nvPr/>
        </p:nvPicPr>
        <p:blipFill>
          <a:blip r:embed="rId1"/>
          <a:stretch/>
        </p:blipFill>
        <p:spPr>
          <a:xfrm>
            <a:off x="54100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tinkende en/of brij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uurt vaak langer dan 10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oral mensen die naar (sub) topen zijn gewe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ndere oorzak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cute blindedarmonsteking (appendic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rikkelbare darmsynd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Ziekte van Croh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f andere (chronische) darmziek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medicij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nlangs gebrui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S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hypertens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gox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-epilep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heofylline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routine bij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, frequente diarree langer dan 3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Jonger dan 2, ouder dan 70 langer dan 1 dag of koorts boven 39 g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 gebruik: acpil, lithium, digoxine, diuretica, anti epileptica = overleg h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minderde weerst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rkzaam in voedselbereiding, verpleging of verzor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dringend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rend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xtreme do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eiging tot flauwval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uf, ver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 (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DV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 meer dan anders (liever geen vruchtensap, lightprod. of frisdran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et naar behoef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: borst of flesvoeding gewoon voortzetten (niet verdunn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trouwbaarheid OAC is niet gewaarborgd, maatregelen n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Hygi</a:t>
            </a: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ë</a:t>
            </a: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n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Handen goed wassen na toiletbezoek of verzorgen van kinderen met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wissel 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 vaak de lu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Reinig wc (deurkrukken!), bekers, keukengerei steeds na gebrui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angnetadvi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er contact opnemen bij langer dan 3 dgn waterdunne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inderen onder de 2 jaar, volw. van 70 jr of ouder: contact opnemen bij langer dan 1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rger ziek vo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Geneesmiddelen tegen 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operam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peramide"/>
          <p:cNvPicPr/>
          <p:nvPr/>
        </p:nvPicPr>
        <p:blipFill>
          <a:blip r:embed="rId1"/>
          <a:stretch/>
        </p:blipFill>
        <p:spPr>
          <a:xfrm>
            <a:off x="838080" y="3886200"/>
            <a:ext cx="4000680" cy="213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agem"/>
          <p:cNvPicPr/>
          <p:nvPr/>
        </p:nvPicPr>
        <p:blipFill>
          <a:blip r:embed="rId2"/>
          <a:stretch/>
        </p:blipFill>
        <p:spPr>
          <a:xfrm>
            <a:off x="6400800" y="4038480"/>
            <a:ext cx="17146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cute diarree/gastro-enterit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erie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eds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aras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dere oorz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operamide heeft een remmende werking. Vermindert in de eerste 2 dagen de frequent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kort de ziekteduur ni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werking: obstip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geen effect bij kinderen jonger dan 8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ag niet gebruikt worden bij koorts/ bloed-en slijm bijme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.R.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gevaar vo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4" descr="1-ORS"/>
          <p:cNvPicPr/>
          <p:nvPr/>
        </p:nvPicPr>
        <p:blipFill>
          <a:blip r:embed="rId1"/>
          <a:stretch/>
        </p:blipFill>
        <p:spPr>
          <a:xfrm>
            <a:off x="4775040" y="2286000"/>
            <a:ext cx="3740400" cy="421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attachment"/>
          <p:cNvPicPr/>
          <p:nvPr/>
        </p:nvPicPr>
        <p:blipFill>
          <a:blip r:embed="rId2"/>
          <a:stretch/>
        </p:blipFill>
        <p:spPr>
          <a:xfrm>
            <a:off x="977760" y="3213000"/>
            <a:ext cx="3086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iraal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ok wel buikgrie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ussen worden uitgescheiden en verspreid via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smett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s kleine epidemie ( bv gezin of peuterspeelza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symptom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/brijacht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dere keren per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uikpijn/miss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nnen enkele dagen vanzelf weer 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 drinken (gewoon e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bruik medicijnen meestal niet nodi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Bacteri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 of voedsel bes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loed en of slij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ak Campylobacter , Salmone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campylobacter"/>
          <p:cNvPicPr/>
          <p:nvPr/>
        </p:nvPicPr>
        <p:blipFill>
          <a:blip r:embed="rId1"/>
          <a:stretch/>
        </p:blipFill>
        <p:spPr>
          <a:xfrm>
            <a:off x="1447920" y="2209680"/>
            <a:ext cx="2457360" cy="196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ww-ei_clip_image004"/>
          <p:cNvPicPr/>
          <p:nvPr/>
        </p:nvPicPr>
        <p:blipFill>
          <a:blip r:embed="rId2"/>
          <a:stretch/>
        </p:blipFill>
        <p:spPr>
          <a:xfrm>
            <a:off x="5715000" y="2362320"/>
            <a:ext cx="2160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Picture 4" descr="darmen5"/>
          <p:cNvPicPr/>
          <p:nvPr/>
        </p:nvPicPr>
        <p:blipFill>
          <a:blip r:embed="rId1"/>
          <a:stretch/>
        </p:blipFill>
        <p:spPr>
          <a:xfrm>
            <a:off x="287172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oedselvergifti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mige bacter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ë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 produceren toxines = giftige stof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 binnen enkele uren na innemen voeds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ok misselijkheid en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. vooral bij schaaldieren kip, rundvlees, melk, sal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parasi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platwo10"/>
          <p:cNvPicPr/>
          <p:nvPr/>
        </p:nvPicPr>
        <p:blipFill>
          <a:blip r:embed="rId1"/>
          <a:stretch/>
        </p:blipFill>
        <p:spPr>
          <a:xfrm>
            <a:off x="5181480" y="274320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hookworm"/>
          <p:cNvPicPr/>
          <p:nvPr/>
        </p:nvPicPr>
        <p:blipFill>
          <a:blip r:embed="rId2"/>
          <a:stretch/>
        </p:blipFill>
        <p:spPr>
          <a:xfrm>
            <a:off x="1523880" y="2666880"/>
            <a:ext cx="2721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03:04Z</dcterms:created>
  <dc:creator>Henk Hermsen</dc:creator>
  <dc:description/>
  <dc:language>en-US</dc:language>
  <cp:lastModifiedBy>Uw naam</cp:lastModifiedBy>
  <dcterms:modified xsi:type="dcterms:W3CDTF">2016-03-30T13:18:25Z</dcterms:modified>
  <cp:revision>9</cp:revision>
  <dc:subject/>
  <dc:title>DIARREE</dc:title>
</cp:coreProperties>
</file>