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4BB12-CBF8-4F10-A95E-83F1DB9F55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www.ziekenhuis.nl/ziektebeelden/a/allergie/item608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D83E3-C641-4F80-975F-C0FA01F2706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76A3D-B792-47F6-B2FE-6B4BCB694D2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gE staat voor immuunglobuline van klasse E. Deze antistoffen zijn betrokken bij de afweer tegen parasieten en bij allergische reac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ST: Een RAST-test (radioallergosorbent-test) is een bloedtest om er achter te komen of j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rgisch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bent voor bepaalde stoffen, zoals huisstofmijt of p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E1C-376E-44A0-B593-449D3AA5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8D4-C52D-497B-BB12-AF36FB72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BFD-0055-4591-971E-51ACA181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D13-BAE2-4BFE-B4AE-2DAB4A7F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3BC2-B890-4E85-9C7B-2204AF13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293-FE8C-47EB-A046-3F844774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FED6-E748-467D-8942-9E3FA23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84E8-5860-4E49-A90E-6FE4888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EDB5-99A2-474F-BE74-EAACFED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C8A-35BF-4A2B-9355-F24DAF5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1256-AB12-4386-B6C2-24F5891C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FDC-873C-4419-815E-1BAAAFCC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6448-4E00-4D3C-944F-D47468A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5A8-55F8-4245-B025-FCF8193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2350-46C2-417C-9675-77C676D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727-92F5-40B4-A1CD-207E417F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83F9-03F1-4F19-8568-9059CADC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869F-9DDB-4492-AEA1-3FDCCC06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EB25-463E-4FA3-8B03-F341657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A262-4252-42CB-9FB6-C2D88C5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9008-A2D6-4F7A-90A8-A3B94441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C341-0758-4C60-909C-AF6728E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D1B-75F6-435D-8B62-7972F93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F8CC-4D37-4CD2-A60F-57D3C942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374C-DEEE-4FA1-A40B-880EB80B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9429-EEC6-4DC0-B019-F1F4B16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9088-9E6B-45FA-972B-9A7EBA5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3675-0471-4578-AB25-59B71D1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C2F7-C55E-4DF5-9A1F-C7AA29FE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DDE0-279D-49A3-91A2-710EE703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4A82-D610-43AE-925F-7DC5CA2D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4BBA-E96E-49FF-8E0C-EA0B4B93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215A-4ADD-4B65-9419-587EB745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75F-1C15-4DCA-B26E-A8ABAFB2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E7C8-AD73-47A4-9AF6-18F06F1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1577-71A5-4973-8E06-332144D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7296-B132-4E87-A290-86E3740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19C3-7360-4187-9789-4B02FC1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23EC-F01E-482C-A7C5-23A86C8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6D98-3515-49E3-B58F-1846C095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FEAA-9804-40B6-85A3-7AEA5D8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CCCA-7523-4351-B5C3-9E328705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6633-CC9C-4F68-B4C8-B052E4D6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48A-2E32-49CF-897C-BABA8CB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890-B265-4CB9-82FC-83EA4E87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93-6F29-47E6-8797-9E647FD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61E-3758-4EFB-91BF-7FBFFF2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535-9AAF-4E9E-96C2-6489038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AAC61-C377-4483-B5E4-6D5AEAA84B09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727FB-EA2D-401D-A0CB-D52F2F6A3464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D1E57-7E68-4404-B946-42596D321B72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30949-44B9-45E4-AD8D-E5D7588F7649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entury Gothic"/>
              </a:rPr>
              <a:t>Aandoeningen van het Spijsverteringsstelsel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520" y="5084280"/>
            <a:ext cx="5916600" cy="554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DEE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uderdom: atrofie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rugstromen van gal uit d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fectie met helicobacter pylori bacter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 in de bovenbuik, 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l opgeblazen gevoel na weinig e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flu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, soms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lies van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hankelijk oorzaak, onthouding van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wandbeschermers: mucuprotec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astro-enter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en ontsteking van het slijmvlies van maag en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wel buikgriep genoem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een epidemiet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door voedselvergiftig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Afbeelding 3" descr=""/>
          <p:cNvPicPr/>
          <p:nvPr/>
        </p:nvPicPr>
        <p:blipFill>
          <a:blip r:embed="rId1"/>
          <a:stretch/>
        </p:blipFill>
        <p:spPr>
          <a:xfrm>
            <a:off x="5054760" y="4581360"/>
            <a:ext cx="3225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n of meer water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chte buik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inderde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</a:t>
            </a: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geen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virale infec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bacterieel (oa.salmon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entury Gothic"/>
              </a:rPr>
              <a:t>Dehydratie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(uitdroging),  vooral 0-2 jarigen en de zeer ouden van da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schijnselen van uitdroging zij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roge mond, lipp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o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fontanel(baby’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uilen zonder tra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nder urin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rikkelbaar/agressief of  suf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at vaak vanzelf o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ten is niet nod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inken heel belangrij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o nodig ORS (een water, zouten en glucose oploss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e (extra) hygiëne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ev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derzoek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eceskwe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agzweer / Ulcus Pepticum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79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licobacter pylori,  een bacterie(&gt;60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 hoge zoutzuurproductie en/of slechte kwaliteit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, hevige stres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evige pijn in de bovenbuik, bij ulcus ventriculi, vooral na het et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el oprispingen / bo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peekselvlo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ongergevoel / hongerpijn, vooral bij ulcus duode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Trage stoelga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lecht verdragen van sommige voedingsmiddelen, o.a. koffie, alcohol, pittig e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llergie - Intoleran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: jeuk, uitslag, galbulten, oede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chtwegen: astma(piepen,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rtademigheid), neus- en/of oog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nd: prikkelend gevoel in de mond, braken, misselijk, diarree, verstopp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rt- en vaatstelsel: anafylactische shoc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dere :excessief huilen (baby)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eiachterstand, gedragsklachte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Afbeelding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049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: gastrosco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9" name="Picture 3" descr="908310220313257"/>
          <p:cNvPicPr/>
          <p:nvPr/>
        </p:nvPicPr>
        <p:blipFill>
          <a:blip r:embed="rId1"/>
          <a:stretch/>
        </p:blipFill>
        <p:spPr>
          <a:xfrm>
            <a:off x="4732200" y="3382920"/>
            <a:ext cx="3721320" cy="298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658800" y="3648240"/>
            <a:ext cx="3429000" cy="272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gastroscopie"/>
          <p:cNvPicPr/>
          <p:nvPr/>
        </p:nvPicPr>
        <p:blipFill>
          <a:blip r:embed="rId3"/>
          <a:stretch/>
        </p:blipFill>
        <p:spPr>
          <a:xfrm>
            <a:off x="3132000" y="1928880"/>
            <a:ext cx="2189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aeceskweek om te kijken of de bacterie  helicobacter pylori aanwezig is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bloeding :hematemesis en melae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 de chronische prikkeling: maagkank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perforatie m.a.g. periton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ttekenvorming, mag een stenose en daardoor ontledigingsproblemen, projectiel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, afh. oorzaa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ppen m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edingsproducten die de klachten verergeren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tibiotica in combinatie met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bindende middelen(antacid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ress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nia diafragmatica 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ynonieme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iatus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liding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Middenrifbreu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Omschrijving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e opening tussen borst- en buikholte i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wijder dan normaal waardoor de maag voor een deel de borstholte inglijd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lachten door omhoog stromen van de maaginhou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geen klachten, 40%  van de mensen boven de 60 jaar heeft he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ïrriteerde ke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st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, branderig gevoel achter het borstbeen, soms 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ebeb"/>
                </a:solidFill>
                <a:latin typeface="Century Gothic"/>
              </a:rPr>
              <a:t>Complicatie: slokdarmontsteking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4" name="Picture 3" descr="foto02mini"/>
          <p:cNvPicPr/>
          <p:nvPr/>
        </p:nvPicPr>
        <p:blipFill>
          <a:blip r:embed="rId1"/>
          <a:stretch/>
        </p:blipFill>
        <p:spPr>
          <a:xfrm>
            <a:off x="231840" y="225900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624560" y="2259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: slikfoto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4788000" y="256536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: maagsap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efregels:* boveneinde bed 10 cm omhoo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 voeding aanpassen(vetarm, geen alcohol, chocola,pepermunt, scherpe kruiden, citrusvruchten)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ratie , als bovenstaande niet help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264px-Barretts_esophagus"/>
          <p:cNvPicPr/>
          <p:nvPr/>
        </p:nvPicPr>
        <p:blipFill>
          <a:blip r:embed="rId1"/>
          <a:stretch/>
        </p:blipFill>
        <p:spPr>
          <a:xfrm>
            <a:off x="6300720" y="4254480"/>
            <a:ext cx="2401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amnese en lichamelijk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IGE, R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prikt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k-priktest:eerst in product, dan in 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liminatie-Provocatie test (koemel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ubbelblind placebo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glaten van de voedingsmiddelen waarop wordt gereageer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pipen, Anapen, dit zijn met adrenaline gevulde injectiepe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cute Bui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e spreekt van een acute buik bij een plotselinge, mogelijk levensbedreigende, buikaandoening. Vaak gaat het om een ernstige acute ontsteking aan de organen in je buik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is belangrijk om snel te handelen en direct contact op te nemen met een ar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67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Ontstekingen: appendicitis,  peritonitis, cholecystitis, pancreatitis, ovariitis/adnex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l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erforatie van holle organen: maag, darm, galblaas, bloedva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efrolithiasis (niersten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xtra-uteriene gravid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vige pijn, druk- en loslaat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raken, misselijk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nkharde buik (défense musculai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ymptomen passend bij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f9d8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T-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tijd in een ziekenhu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richt op het behandelen van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Gastr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ONTSTEKING VAN HET MAAG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6594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547640" y="557280"/>
            <a:ext cx="26481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Marlies Bouland</cp:lastModifiedBy>
  <dcterms:modified xsi:type="dcterms:W3CDTF">2018-03-15T19:26:23Z</dcterms:modified>
  <cp:revision>33</cp:revision>
  <dc:subject/>
  <dc:title>Aandoeningen van het Spijsverteringsstelsel</dc:title>
</cp:coreProperties>
</file>