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2801-4859-4F2D-88F4-FCBAF412B8C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68D7-71C4-4954-AFBF-2EE26290A6C9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BB6-386F-4B8C-A286-5E6C46E1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14E-F00E-4018-8EED-5544C2D5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164-BB4E-472C-BFDF-D9B1B50D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8C0-AAE3-4AC9-98E1-E3CD3B08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D04D-F330-4BAE-9344-F54A60EA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DD26-B83E-4410-BE9F-2F60A627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B56D-4E68-4F3C-BAA7-75EBDD26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233E-20FE-4898-B2FC-04D09BE9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3D9A-9257-4629-9E3C-E4FF305B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93BF-FB55-4D8D-A697-4D42A77C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8A02-CC96-4E19-9C6F-CE0BBCBC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CB1-39B9-4EC6-938E-DE13A7BC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2266-60AB-4B3C-B0BD-00BFCC79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7B29-FE5A-4680-9613-0E63F7BC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5941-D880-4DF5-8E8B-8A8E2617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170D-5DA0-4D1B-A541-1FA9DE63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B05C-58A1-47A7-AD69-574DD9C4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31D-A891-46C3-8DD7-6F85087D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72B-4B14-447F-88F5-E9F7F938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FBB-FCDF-4810-84F6-468A0D02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393-8E2D-4858-AAC7-7B29D5EB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EC2-159B-4655-902E-3C52C20E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260-36A2-45EA-8567-4C40C409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02C-65F3-4F58-891C-FEDDF5EF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1029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1030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1032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040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041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1044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1046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1047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1048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1049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1050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1051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1052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1054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1055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1056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1057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1058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1059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1060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1061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1062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1063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1064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1065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1066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1067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1068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69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70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71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72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73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74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75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76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77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78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079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080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081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082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083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084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085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1086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1087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1088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093E-5B8A-4B36-8775-A48590157304}" type="slidenum">
              <a:rPr b="0" lang="nl-N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5FF9-F24B-403E-BB72-D96A46EEF019}" type="slidenum">
              <a:rPr b="0" lang="nl-N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DIARRE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aker en dunnere ontlasting dan norma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iet zelden waterd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stal buikkramp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5" descr="darmen5"/>
          <p:cNvPicPr/>
          <p:nvPr/>
        </p:nvPicPr>
        <p:blipFill>
          <a:blip r:embed="rId1"/>
          <a:stretch/>
        </p:blipFill>
        <p:spPr>
          <a:xfrm>
            <a:off x="5410080" y="42670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tinkende en/of brijige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uurt vaak langer dan 10 da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ooral mensen die naar (sub) topen zijn gewe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Andere oorzak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cute blindedarmonsteking (appendiciti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rikkelbare darmsyndro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Ziekte van Croh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f andere (chronische) darmziek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medicijn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nlangs gebruik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S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hypertensi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gox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-epilep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heofylline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Triage  routine bij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dunne, frequente diarree langer dan 3 da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Jonger dan 2, ouder dan 70 langer dan 1 dag of koorts boven 39 g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dicijn gebruik: acpil, lithium, digoxine, diuretica, anti epileptica = overleg h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minderde weerst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betes melli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erkzaam in voedselbereiding, verpleging of verzor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Triage  dringend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rend br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xtreme dor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eiging tot flauwval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uf, verwa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Diarree (2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DVI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 meer dan anders (liever geen vruchtensap, lightprod. of frisdrank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et naar behoef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baby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: borst of flesvoeding gewoon voortzetten (niet verdunn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etrouwbaarheid OAC is niet gewaarborgd, maatregelen n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Hygi</a:t>
            </a: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ë</a:t>
            </a: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ne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811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Handen goed wassen na toiletbezoek of verzorgen van kinderen met 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wissel bij baby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 vaak de lu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Reinig wc (deurkrukken!), bekers, keukengerei steeds na gebrui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angnetadvies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eer contact opnemen bij langer dan 3 dgn waterdunne 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Kinderen onder de 2 jaar, volw. van 70 jr of ouder: contact opnemen bij langer dan 1 d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ko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rger ziek vo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Geneesmiddelen tegen diarre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Loperamide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Loperamide"/>
          <p:cNvPicPr/>
          <p:nvPr/>
        </p:nvPicPr>
        <p:blipFill>
          <a:blip r:embed="rId1"/>
          <a:stretch/>
        </p:blipFill>
        <p:spPr>
          <a:xfrm>
            <a:off x="838080" y="3886200"/>
            <a:ext cx="4000680" cy="2136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imagem"/>
          <p:cNvPicPr/>
          <p:nvPr/>
        </p:nvPicPr>
        <p:blipFill>
          <a:blip r:embed="rId2"/>
          <a:stretch/>
        </p:blipFill>
        <p:spPr>
          <a:xfrm>
            <a:off x="6400800" y="4038480"/>
            <a:ext cx="171468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Acute diarree/gastro-enterit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ira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acterieel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oedsel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aras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dere oorz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dicijn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operamide heeft een remmende werking. Vermindert in de eerste 2 dagen de frequenti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kort de ziekteduur ni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werking: obstip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geen effect bij kinderen jonger dan 8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ag niet gebruikt worden bij koorts/ bloed-en slijm bijmeng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O.R.S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gevaar vo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uitdro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4" descr="1-ORS"/>
          <p:cNvPicPr/>
          <p:nvPr/>
        </p:nvPicPr>
        <p:blipFill>
          <a:blip r:embed="rId1"/>
          <a:stretch/>
        </p:blipFill>
        <p:spPr>
          <a:xfrm>
            <a:off x="4775040" y="2286000"/>
            <a:ext cx="3740400" cy="4218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attachment"/>
          <p:cNvPicPr/>
          <p:nvPr/>
        </p:nvPicPr>
        <p:blipFill>
          <a:blip r:embed="rId2"/>
          <a:stretch/>
        </p:blipFill>
        <p:spPr>
          <a:xfrm>
            <a:off x="977760" y="3213000"/>
            <a:ext cx="30862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iraal</a:t>
            </a:r>
            <a:br>
              <a:rPr sz="4400"/>
            </a:b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ook wel buikgrie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irussen worden uitgescheiden en verspreid via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esmettelij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oms kleine epidemie ( bv gezin of peuterspeelza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symptom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dunne/brijachtige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rdere keren per d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uikpijn/misselij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nnen enkele dagen vanzelf weer o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r drinken (gewoon et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bruik medicijnen meestal niet nodi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Bacteri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 of voedsel besm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loed en of slij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aak Campylobacter , Salmonel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4" descr="campylobacter"/>
          <p:cNvPicPr/>
          <p:nvPr/>
        </p:nvPicPr>
        <p:blipFill>
          <a:blip r:embed="rId1"/>
          <a:stretch/>
        </p:blipFill>
        <p:spPr>
          <a:xfrm>
            <a:off x="1447920" y="2209680"/>
            <a:ext cx="2457360" cy="1965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ww-ei_clip_image004"/>
          <p:cNvPicPr/>
          <p:nvPr/>
        </p:nvPicPr>
        <p:blipFill>
          <a:blip r:embed="rId2"/>
          <a:stretch/>
        </p:blipFill>
        <p:spPr>
          <a:xfrm>
            <a:off x="5715000" y="2362320"/>
            <a:ext cx="21607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3" name="Picture 4" descr="darmen5"/>
          <p:cNvPicPr/>
          <p:nvPr/>
        </p:nvPicPr>
        <p:blipFill>
          <a:blip r:embed="rId1"/>
          <a:stretch/>
        </p:blipFill>
        <p:spPr>
          <a:xfrm>
            <a:off x="2871720" y="19051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oedselvergiftig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ommige bacteri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ë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 produceren toxines = giftige stoff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rree binnen enkele uren na innemen voeds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ok misselijkheid en br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act. vooral bij schaaldieren kip, rundvlees, melk, sala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parasi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platwo10"/>
          <p:cNvPicPr/>
          <p:nvPr/>
        </p:nvPicPr>
        <p:blipFill>
          <a:blip r:embed="rId1"/>
          <a:stretch/>
        </p:blipFill>
        <p:spPr>
          <a:xfrm>
            <a:off x="5181480" y="2743200"/>
            <a:ext cx="2754360" cy="350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hookworm"/>
          <p:cNvPicPr/>
          <p:nvPr/>
        </p:nvPicPr>
        <p:blipFill>
          <a:blip r:embed="rId2"/>
          <a:stretch/>
        </p:blipFill>
        <p:spPr>
          <a:xfrm>
            <a:off x="1523880" y="2666880"/>
            <a:ext cx="27212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21:03:04Z</dcterms:created>
  <dc:creator>Henk Hermsen</dc:creator>
  <dc:description/>
  <dc:language>en-US</dc:language>
  <cp:lastModifiedBy>Uw naam</cp:lastModifiedBy>
  <dcterms:modified xsi:type="dcterms:W3CDTF">2016-03-30T13:18:25Z</dcterms:modified>
  <cp:revision>9</cp:revision>
  <dc:subject/>
  <dc:title>DIARREE</dc:title>
</cp:coreProperties>
</file>