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2EDB-6062-42E5-B9BC-6D0C907FD9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7085-6D17-4DE8-B190-3984750429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F51-3758-4CF8-A198-B1D7FC2D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758-3C04-466A-8E05-EC5ED341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CA5-2E52-43DF-889D-576E120B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490-4427-46E9-9A75-5F793D89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F55-8FC0-428E-8137-7DBDEB43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8E8-4996-40DA-8911-DE0EBF6C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B14-F4A0-4FB7-8DEC-42D938A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DC8-FAC4-4D7C-AA38-F8968438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758-ADB8-46F3-8346-571C9F3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BDC-5E38-4E50-9E43-2F98FFE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931-BB7E-42BA-A399-4754A304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43F-8F5A-40F0-8831-CB58854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258-796E-4341-86F6-FDEA338DDF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3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5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7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79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0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2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5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5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7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Marlies Bouland</cp:lastModifiedBy>
  <dcterms:modified xsi:type="dcterms:W3CDTF">2018-03-13T13:29:39Z</dcterms:modified>
  <cp:revision>18</cp:revision>
  <dc:subject/>
  <dc:title>Aandoeningen van het Spijsverteringskanaal</dc:title>
</cp:coreProperties>
</file>