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A1A36-7F6B-4B20-8E93-4BE12E2D91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s://www.ziekenhuis.nl/ziektebeelden/a/allergie/item608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BD007-D380-4AE9-98BC-1D4FFDC5445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1118C-4856-47D8-9EB9-2BC28BDD297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gE staat voor immuunglobuline van klasse E. Deze antistoffen zijn betrokken bij de afweer tegen parasieten en bij allergische reac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AST: Een RAST-test (radioallergosorbent-test) is een bloedtest om er achter te komen of j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llergisch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bent voor bepaalde stoffen, zoals huisstofmijt of poll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bbelblind: patiënt, nog arts weten wanneer het verdachte voedingsmiddel is g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3FC-C049-4824-984A-14AEDFF9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932-C119-4D23-A755-D549A858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CF0-BE6B-451A-BCBB-25071DCB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4C7-08B4-45E4-B834-F34537CA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9D18-5017-4D0F-A9B6-619BD1B0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ED1F-F318-4546-8218-A08D2B04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48BE-76CF-466A-A516-058B15EE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59FF-0EFE-4CFF-9DDC-75947A99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3F1B-D344-4029-891D-0B4506BC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7431-AFAD-48D6-ABD1-972F6798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A652-EF3B-40D0-9841-D21E493D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0D1-C4AB-4773-AD04-DC94923D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6021-0786-41C9-9316-458745B3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A9B0-0F47-4ED7-AC1C-9051E77A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48F8-E9AB-4B40-8A0C-48C0DE7C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0C1B-3F9D-40B1-A09D-3852931B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ECAA-2F3F-45BD-BA81-9B9A7EE1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075A-5300-42C4-A846-97A48FFF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130F8-5667-4A1E-8328-B6DD0332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61793-3FF5-4C37-B02A-DE2A2D35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ED96-18BF-416E-AA87-EE7496F4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FDC0D-AD36-463A-AF94-A57741E2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9A7-B75E-43ED-8D33-92488630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47EB2-2BE8-47CC-8215-1ECDD833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2126-4B05-46FF-8A54-B8D34652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AB52B-0481-4CC7-A065-19EA0162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63EDF-FAD4-45FA-827E-E4BBDAF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C63D0-FF6B-494F-98FB-B903B6BE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A02E-F84E-414A-82F3-B1A76034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B244F-662E-49B0-A39D-9448E491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95116-E4E5-4A79-A4E4-D71A44F7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7F5FC-C99B-4A3D-9622-E484F413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115B-9C23-4408-8FA1-FF95E61F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2A2-1A88-4607-8186-CC0B4A19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22E87-04B1-488B-B4E6-719BCB1B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18910-0C2E-46AB-AD85-149BD959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632C3-B8F4-420D-84E4-3880ED7F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BEF27-31EE-4A46-9492-0E587DDF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942C-B255-4C49-910B-A1E0D36F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93E82-DB7B-48D6-91CA-7743076F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4BF3C-4160-42A5-807C-ABA801B5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9269A-FA12-4893-8E67-3F329E8E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01D90-61F6-4122-A286-23B200F1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F28-65A6-42E6-A671-83347B73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2B0-B741-4CC3-A1F7-F0682E81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FF1-E46D-4F5D-AADD-1367BD4F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4BD-F590-472A-A167-2231407F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9F3-0737-47E5-977F-C8FAE231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62147-A763-4BD6-9D6C-9ECEED48C79A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3D351-8D3C-43D6-955D-661E3F393995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649C1-DDD8-46D7-B872-100250706030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EF47D-E6DE-489D-B76D-8E223F2822AC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hernia+diafragmatica&amp;hl=nl&amp;safe=active&amp;sa=X&amp;biw=1111&amp;bih=708&amp;tbm=isch&amp;prmd=imvnsb&amp;tbnid=KlBdcfDX2gVc8M:&amp;imgrefurl=http://www.barrett.nl/website/html/algemeenfoto04a.htm&amp;docid=ykKrD_rYRpvcDM&amp;w=300&amp;h=300&amp;ei=UyByTvnpMM6YOpz8xJIJ&amp;zoom=1&amp;iact=rc&amp;dur=15&amp;page=1&amp;tbnh=167&amp;tbnw=167&amp;start=0&amp;ndsp=12&amp;ved=1t:429,r:1,s:0&amp;tx=102&amp;ty=107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ebeb"/>
                </a:solidFill>
                <a:latin typeface="Century Gothic"/>
              </a:rPr>
              <a:t>Aandoeningen van het Spijsverteringsstelsel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66520" y="5084280"/>
            <a:ext cx="5916600" cy="554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ef53a5"/>
                </a:solidFill>
                <a:latin typeface="Century Gothic"/>
              </a:rPr>
              <a:t>DEEL 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SAID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uderdom: atrofie van het 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erugstromen van gal uit de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fectie met helicobacter pylori bacter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erschijnsel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 in de bovenbuik, zuurbran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l opgeblazen gevoel na weinig e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Reflux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heid, soms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lies van eetlu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diarre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stroscop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herapi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fhankelijk oorzaak, onthouding van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wandbeschermers: mucuprotectiv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zuursecretieremm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i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astro-enter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en ontsteking van het slijmvlies van maag en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ok wel buikgriep genoem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een epidemietj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ok door voedselvergiftig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1" name="Afbeelding 3" descr=""/>
          <p:cNvPicPr/>
          <p:nvPr/>
        </p:nvPicPr>
        <p:blipFill>
          <a:blip r:embed="rId1"/>
          <a:stretch/>
        </p:blipFill>
        <p:spPr>
          <a:xfrm>
            <a:off x="5054760" y="4581360"/>
            <a:ext cx="32256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, min of meer wateri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ichte buikpij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heid en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inderde eetlu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estal </a:t>
            </a:r>
            <a:r>
              <a:rPr b="1" lang="nl-NL" sz="2000" spc="-1" strike="noStrike">
                <a:solidFill>
                  <a:srgbClr val="ffffff"/>
                </a:solidFill>
                <a:latin typeface="Century Gothic"/>
              </a:rPr>
              <a:t>geen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virale infec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bacterieel (oa.salmonell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699920"/>
            <a:ext cx="7772400" cy="48243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entury Gothic"/>
              </a:rPr>
              <a:t>Dehydratie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(uitdroging),  vooral 0-2 jarigen en de zeer ouden van dag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rschijnselen van uitdroging zij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roge mond, lipp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Ingevallen og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Ingevallen fontanel(baby’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uilen zonder tra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inder uriner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rikkelbaar/agressief of  suf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at vaak vanzelf o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ten is niet nodi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rinken heel belangrij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o nodig ORS (een water, zouten en glucose oplossing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oede (extra) hygiëne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reven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derzoek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eceskwe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Maagzweer / Ulcus Pepticum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79" name="Picture 3" descr="39970-maagzweer-symptomen-klachten-behandeling-en-dieet"/>
          <p:cNvPicPr/>
          <p:nvPr/>
        </p:nvPicPr>
        <p:blipFill>
          <a:blip r:embed="rId1"/>
          <a:stretch/>
        </p:blipFill>
        <p:spPr>
          <a:xfrm>
            <a:off x="3772080" y="2629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o2401"/>
          <p:cNvPicPr/>
          <p:nvPr/>
        </p:nvPicPr>
        <p:blipFill>
          <a:blip r:embed="rId2"/>
          <a:stretch/>
        </p:blipFill>
        <p:spPr>
          <a:xfrm>
            <a:off x="6180120" y="4199040"/>
            <a:ext cx="2286000" cy="2593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h_pylori%20scott%20smith"/>
          <p:cNvPicPr/>
          <p:nvPr/>
        </p:nvPicPr>
        <p:blipFill>
          <a:blip r:embed="rId3"/>
          <a:stretch/>
        </p:blipFill>
        <p:spPr>
          <a:xfrm>
            <a:off x="304920" y="2209680"/>
            <a:ext cx="2307960" cy="2819520"/>
          </a:xfrm>
          <a:prstGeom prst="rect">
            <a:avLst/>
          </a:prstGeom>
          <a:ln w="0">
            <a:noFill/>
          </a:ln>
        </p:spPr>
      </p:pic>
      <p:sp>
        <p:nvSpPr>
          <p:cNvPr id="282" name="Rechthoek 1"/>
          <p:cNvSpPr/>
          <p:nvPr/>
        </p:nvSpPr>
        <p:spPr>
          <a:xfrm>
            <a:off x="4003560" y="5029200"/>
            <a:ext cx="27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1.Zwe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.Opening naar de 12vingerige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3.Maagwa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3" name="Picture 7" descr="maagzweer"/>
          <p:cNvPicPr/>
          <p:nvPr/>
        </p:nvPicPr>
        <p:blipFill>
          <a:blip r:embed="rId4"/>
          <a:stretch/>
        </p:blipFill>
        <p:spPr>
          <a:xfrm>
            <a:off x="6319800" y="1844640"/>
            <a:ext cx="2006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licobacter pylori,  een bacterie(&gt;60%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SAID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e hoge zoutzuurproductie en/of slechte kwaliteit van het 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, hevige stres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evige pijn in de bovenbuik, bij ulcus ventriculi, vooral na het et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Zuurbrand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el oprispingen / boer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Speekselvlo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ongergevoel / hongerpijn, vooral bij ulcus duoden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Trage stoelga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Slecht verdragen van sommige voedingsmiddelen, o.a. koffie, alcohol, pittig e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Allergie - Intoleran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uid: jeuk, uitslag, galbulten, oedee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uchtwegen: astma(piepen,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ortademigheid), neus- en/of oogklach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ond: prikkelend gevoel in de mond, braken, misselijk, diarree, verstopp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art- en vaatstelsel: anafylactische shoc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dere :excessief huilen (baby)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eiachterstand, gedragsklachten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Afbeelding 2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20494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: gastrosco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89" name="Picture 3" descr="908310220313257"/>
          <p:cNvPicPr/>
          <p:nvPr/>
        </p:nvPicPr>
        <p:blipFill>
          <a:blip r:embed="rId1"/>
          <a:stretch/>
        </p:blipFill>
        <p:spPr>
          <a:xfrm>
            <a:off x="4732200" y="3382920"/>
            <a:ext cx="3721320" cy="2984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ANd9GcRD6l_PMnAu7GpQWc-ji63_bWfyLNQ0eyAj1YxBkJjv7yxyazUUsp9QqejIXQ"/>
          <p:cNvPicPr/>
          <p:nvPr/>
        </p:nvPicPr>
        <p:blipFill>
          <a:blip r:embed="rId2"/>
          <a:stretch/>
        </p:blipFill>
        <p:spPr>
          <a:xfrm>
            <a:off x="658800" y="3648240"/>
            <a:ext cx="3429000" cy="2720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gastroscopie"/>
          <p:cNvPicPr/>
          <p:nvPr/>
        </p:nvPicPr>
        <p:blipFill>
          <a:blip r:embed="rId3"/>
          <a:stretch/>
        </p:blipFill>
        <p:spPr>
          <a:xfrm>
            <a:off x="3132000" y="1928880"/>
            <a:ext cx="21891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aeceskweek om te kijken of de bacterie  helicobacter pylori aanwezig is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4360" y="2060640"/>
            <a:ext cx="7772400" cy="43927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bloeding :hematemesis en melae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oor de chronische prikkeling: maagkank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perforatie m.a.g. peritonit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ittekenvorming, mag een stenose en daardoor ontledigingsproblemen, projectiel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, afh. oorzaa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oppen m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edingsproducten die de klachten verergeren vermij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tibiotica in combinatie met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zuurbindende middelen(antacid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ress vermij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Hernia diafragmatica 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Synoniemen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Hiatus herni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Sliding herni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Middenrifbreu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Omschrijving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De opening tussen borst- en buikholte is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wijder dan normaal waardoor de maag voor een deel de borstholte inglijd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AutoShape 4">
            <a:hlinkClick r:id="rId1"/>
          </p:cNvPr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6523200" y="2930400"/>
            <a:ext cx="188568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736560" y="2430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AutoShape 15"/>
          <p:cNvSpPr/>
          <p:nvPr/>
        </p:nvSpPr>
        <p:spPr>
          <a:xfrm>
            <a:off x="739800" y="2430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17" descr="De%20binnenzijde%20van%20een%20normale%20slokdarm%20met%20hernia"/>
          <p:cNvPicPr/>
          <p:nvPr/>
        </p:nvPicPr>
        <p:blipFill>
          <a:blip r:embed="rId2"/>
          <a:stretch/>
        </p:blipFill>
        <p:spPr>
          <a:xfrm>
            <a:off x="3352680" y="365760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http://www.merckmanual.nl/media/mmhe2/figures/2004GI123_01.gif"/>
          <p:cNvPicPr/>
          <p:nvPr/>
        </p:nvPicPr>
        <p:blipFill>
          <a:blip r:embed="rId3"/>
          <a:stretch/>
        </p:blipFill>
        <p:spPr>
          <a:xfrm>
            <a:off x="1450800" y="519120"/>
            <a:ext cx="62406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Klachten door omhoog stromen van de maaginhou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geen klachten, 40%  van de mensen boven de 60 jaar heeft he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uurbran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ïrriteerde ke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stklach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, branderig gevoel achter het borstbeen, soms uitstralend naar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ebeb"/>
                </a:solidFill>
                <a:latin typeface="Century Gothic"/>
              </a:rPr>
              <a:t>Complicatie: slokdarmontsteking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14" name="Picture 3" descr="foto02mini"/>
          <p:cNvPicPr/>
          <p:nvPr/>
        </p:nvPicPr>
        <p:blipFill>
          <a:blip r:embed="rId1"/>
          <a:stretch/>
        </p:blipFill>
        <p:spPr>
          <a:xfrm>
            <a:off x="231840" y="2259000"/>
            <a:ext cx="4228920" cy="2943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4624560" y="2259000"/>
            <a:ext cx="2457360" cy="1857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3"/>
          <a:stretch/>
        </p:blipFill>
        <p:spPr>
          <a:xfrm>
            <a:off x="4572000" y="4149720"/>
            <a:ext cx="2563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Röntgen: slikfoto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stroscopi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Picture 2" descr="De%20binnenzijde%20van%20een%20normale%20slokdarm%20met%20kort%20Barrett%20seg"/>
          <p:cNvPicPr/>
          <p:nvPr/>
        </p:nvPicPr>
        <p:blipFill>
          <a:blip r:embed="rId1"/>
          <a:stretch/>
        </p:blipFill>
        <p:spPr>
          <a:xfrm>
            <a:off x="4788000" y="256536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en: maagsapsecretieremm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efregels:* boveneinde bed 10 cm omhoo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* voeding aanpassen(vetarm, geen alcohol, chocola,pepermunt, scherpe kruiden, citrusvruchten)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*ni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peratie , als bovenstaande niet help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3" descr="264px-Barretts_esophagus"/>
          <p:cNvPicPr/>
          <p:nvPr/>
        </p:nvPicPr>
        <p:blipFill>
          <a:blip r:embed="rId1"/>
          <a:stretch/>
        </p:blipFill>
        <p:spPr>
          <a:xfrm>
            <a:off x="6300720" y="4254480"/>
            <a:ext cx="24019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amnese en lichamelijk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: IGE, RA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uidprikte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rik-priktest:eerst in product, dan in 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liminatie-Provocatie test (koemelk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ubbelblind placebo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eglaten van de voedingsmiddelen waarop wordt gereageer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pipen, Anapen, dit zijn met adrenaline gevulde injectiepe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Acute Bui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e spreekt van een acute buik bij een plotselinge, mogelijk levensbedreigende, buikaandoening. Vaak gaat het om een ernstige acute ontsteking aan de organen in je buik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t is belangrijk om snel te handelen en direct contact op te nemen met een ar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Afbeelding 2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40672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1628640"/>
            <a:ext cx="7772400" cy="51134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 Ontstekingen: appendicitis,  peritonitis, cholecystitis, pancreatitis, ovariitis/adnexit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l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erforatie van holle organen: maag, darm, galblaas, bloedva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efrolithiasis (nierstenen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xtra-uteriene gravidite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11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vige pijn, druk- en loslaatpij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raken, misselijkhe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nkharde buik (défense musculair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ymptomen passend bij de oorz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f9d8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Röntg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T-sc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choscop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herapi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tijd in een ziekenhu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richt op het behandelen van de oorz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bestrijding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3135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Gastritis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55280" y="3611520"/>
            <a:ext cx="7777080" cy="23385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ef53a5"/>
                </a:solidFill>
                <a:latin typeface="Century Gothic"/>
              </a:rPr>
              <a:t>ONTSTEKING VAN HET MAAG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4659480" y="557280"/>
            <a:ext cx="2655720" cy="21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1547640" y="557280"/>
            <a:ext cx="264816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09:17Z</dcterms:created>
  <dc:creator>Agnieta</dc:creator>
  <dc:description/>
  <dc:language>en-US</dc:language>
  <cp:lastModifiedBy>Marlies Bouland</cp:lastModifiedBy>
  <dcterms:modified xsi:type="dcterms:W3CDTF">2018-03-15T19:26:23Z</dcterms:modified>
  <cp:revision>33</cp:revision>
  <dc:subject/>
  <dc:title>Aandoeningen van het Spijsverteringsstelsel</dc:title>
</cp:coreProperties>
</file>