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0E12-6055-4927-ACAE-62C067D7F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9532-48C8-4207-8059-F2BFB08A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4093-2941-4089-A2AB-EA4F21A1D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5B17-5889-4A82-9BF2-E91C7C1CE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348A-5535-41B3-B7D9-662B3D42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D3DA-E43A-4968-BEA2-1E376E39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80DC-9EB5-4C6B-A74F-5D34F5E5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72E8-DD01-44F1-AB21-AE0A765C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4187-E419-4FA6-9949-DF4138A7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817A-07D7-4E40-A96A-DC7C7A67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2BF7-1E6B-416B-AC65-C5CB6A52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55F2-E5CA-4027-B67B-20382987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13AC-4AEB-4742-9609-73FE92AFB8E2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Obstipati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2491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efinitie: Ontlasting komt minder vaak dan normaal en is hard(minder dan 3 maal per week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evolg: Versto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5" descr="obstipatie"/>
          <p:cNvPicPr/>
          <p:nvPr/>
        </p:nvPicPr>
        <p:blipFill>
          <a:blip r:embed="rId1"/>
          <a:stretch/>
        </p:blipFill>
        <p:spPr>
          <a:xfrm>
            <a:off x="468360" y="4292640"/>
            <a:ext cx="226224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lume vergrotende middel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ullen de darmen, bevatten onverteerbare vezels, die vocht vast houden. Ontlasting wordt zachter. Vaak ter voorbereiding op een onderzoek (Klean Prep) waarbij de darm helemaal leeg moet zij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Obstipatie bij kinderen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t kind voelt de aandrang niet go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lasproble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anleg kan een oorzaak zij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oms spastische darm(lagere schoolleeftij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omplicatie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leus: Darmobstructie. Hierbij treed er een afsluiting van de darm op, hevige koliek pijn, braken, opgezette bui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vaginatie ”: Bij kinderen zal een deel van de darm uitstulpen in het naastgelegen gedeelte van de darm. Dit verzoorzaakt obstruc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Invaginati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7" descr="o1844"/>
          <p:cNvPicPr/>
          <p:nvPr/>
        </p:nvPicPr>
        <p:blipFill>
          <a:blip r:embed="rId1"/>
          <a:stretch/>
        </p:blipFill>
        <p:spPr>
          <a:xfrm>
            <a:off x="5135400" y="1333440"/>
            <a:ext cx="3438720" cy="4608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N-205-nlImgImage_2"/>
          <p:cNvPicPr/>
          <p:nvPr/>
        </p:nvPicPr>
        <p:blipFill>
          <a:blip r:embed="rId2"/>
          <a:stretch/>
        </p:blipFill>
        <p:spPr>
          <a:xfrm>
            <a:off x="536400" y="1268280"/>
            <a:ext cx="3564000" cy="46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5" descr="meconium_ileus2"/>
          <p:cNvPicPr/>
          <p:nvPr/>
        </p:nvPicPr>
        <p:blipFill>
          <a:blip r:embed="rId1"/>
          <a:stretch/>
        </p:blipFill>
        <p:spPr>
          <a:xfrm>
            <a:off x="1332000" y="1484280"/>
            <a:ext cx="684036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5" descr="MecIleus-PerforationAP"/>
          <p:cNvPicPr/>
          <p:nvPr/>
        </p:nvPicPr>
        <p:blipFill>
          <a:blip r:embed="rId1"/>
          <a:stretch/>
        </p:blipFill>
        <p:spPr>
          <a:xfrm>
            <a:off x="2495520" y="549360"/>
            <a:ext cx="520056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Triag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outin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magering en verminderde eetlu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loed en/of slijm ontla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fwisseling diarree en obstip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hronische ziek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bstipatie door medicatie: overle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bstipatie langer dan 3 weken: dan overle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Triage: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ringend: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Rectaal bloedverlies dat aanhoud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rnstig zi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Spoed: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Braken en hevige buikpij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5" descr="rectum-ptt_NL"/>
          <p:cNvPicPr/>
          <p:nvPr/>
        </p:nvPicPr>
        <p:blipFill>
          <a:blip r:embed="rId1"/>
          <a:stretch/>
        </p:blipFill>
        <p:spPr>
          <a:xfrm>
            <a:off x="1619280" y="1197000"/>
            <a:ext cx="538308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Obstipatie bij volwassen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orzak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e weinig vezels in de voeding /Te weinig drinken/ Te weinig bewe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edicijnen die verstopping veroorza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(ijzerpillen, morfi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tress/ ophouden van ontlasting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Chronische (darm)ziektes, darmkank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sychologische problemati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een oorzaak bek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Symptomen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e weinig ontlasting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uikpij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pgeblazen gevo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asvorming, loze aandrang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brek aan eetlu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uikkram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5" descr="obstipatie_150137"/>
          <p:cNvPicPr/>
          <p:nvPr/>
        </p:nvPicPr>
        <p:blipFill>
          <a:blip r:embed="rId1"/>
          <a:stretch/>
        </p:blipFill>
        <p:spPr>
          <a:xfrm>
            <a:off x="1590840" y="1100160"/>
            <a:ext cx="596232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Advie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zonde voeding met voldoende vez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zels zorgen ervoor dat de ontlasting vocht vast houdt waardoor er meer en zachtere faeces kom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beeld vezels: volkoren producten(brood)/ peulvruchten, groentes, fru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inimaal 30 gram per da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1,5 – 2 liter water per dag drin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wegen, ten minste een half uur per da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oiletbezoek nooit uitstell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handeling met medic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obstipatie"/>
          <p:cNvPicPr/>
          <p:nvPr/>
        </p:nvPicPr>
        <p:blipFill>
          <a:blip r:embed="rId1"/>
          <a:stretch/>
        </p:blipFill>
        <p:spPr>
          <a:xfrm>
            <a:off x="2563920" y="692280"/>
            <a:ext cx="531468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Drie groepen medicijnen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Contralaxantia: prikkelen de darmwand, waardoor iemand snel van “kan” poe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B: Dulcolax, microlax, klys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eel gegeven ter voorbereiding OK of darmonderzo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smotische laxantia: Houdt vocht vast, mild werke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evolg: Ontlasting wordt zach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B: Lactulose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ag langdurig gebruik worden, ‘s ochtends inne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5:13:38Z</dcterms:created>
  <dc:creator>Rina</dc:creator>
  <dc:description/>
  <dc:language>en-US</dc:language>
  <cp:lastModifiedBy>Marlies Bouland</cp:lastModifiedBy>
  <dcterms:modified xsi:type="dcterms:W3CDTF">2018-04-10T19:49:15Z</dcterms:modified>
  <cp:revision>4</cp:revision>
  <dc:subject/>
  <dc:title>Obstipatie</dc:title>
</cp:coreProperties>
</file>