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893-9184-4C5A-B284-2E33A572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156-4A15-477C-B579-0EE2F2D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C24-04A9-43F9-B62E-BC0EDAC0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42F-2EA6-4CF9-A88F-0AC1A872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B84F-EE7F-4A7D-A970-8BACD2DF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3D95-9CBB-42AB-A7AF-2C11F7B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E7F2-D667-4BF4-ABE7-55FD74BE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A248-6369-40BD-9F02-488E6057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E560-3201-457D-9CEB-5B0DFADF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E083-BAFC-4E85-96E6-D120637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EDD8-AAA0-4B12-9896-16F519A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676-2345-40A1-837A-E5DD7209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A6B8-D216-4617-B77D-5A023CF1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F964-2B82-40FD-A8B2-685931B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9FAF-58EC-4B0B-8D56-3F53963D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5232-CF8E-44CE-A590-86C6E342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FE4-FD03-406D-B352-86926DCA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4BF5-BE94-454E-8D73-272A7373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D37E-6560-47AC-BDB5-F7E0C74C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C70C-92B0-4743-B7D6-1C98A629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EBDF-F772-4586-90AF-A18ED36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8CFD-E19C-4503-AC37-9E481D30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672-F3BB-491E-9483-6D576A5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02FE-9B74-48FD-BC6D-16D6734B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663F-FB98-431A-988A-50BE091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DB3C-5B6E-41C5-99E0-8701BD4D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2655-4DCD-4FB4-917C-19F2A28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2175-F338-4F7B-8D83-8A30D221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82D7-7F19-45A7-8F82-3A026F02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62FC-6965-4B2F-9DB2-773607B1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79CC-B629-4CF1-B866-F6A85E15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7FC7-E227-4CA7-976F-70BDC378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DE09-65B0-48DD-A719-0AEB4325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38F-24D5-4F6E-8CEB-63BA249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2A35-27D5-43F7-A219-3A7C6A36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3B37-64A3-448E-838B-4673808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411B-D63F-4CBF-A160-4E1DAD7B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0BC4-A7A1-4075-8174-01F57DFC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1525-4008-4EB4-8669-D212D52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2583-C79D-4D7C-8FA2-A490BF7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75C6-E9B4-4CC6-BFEC-C22D6B34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4F0F-C47A-4F5C-9C80-0DF17D2E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76F0-7E3C-406C-9B46-76BA11E7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C543-4E0E-414B-849D-86CF80B9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939-A9EF-45F2-9BE4-7655AFC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BDE8-3A23-4AC9-9FD6-42BDA1C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A50C-4507-4335-92D3-FD7F8C2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D86D-D316-4F58-A5B4-FB5F472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9B57-FF63-4337-B479-DE5DFC21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83CF-191B-439B-8BB4-4A8A01F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335F-6296-45BB-B13A-07BE2E88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B1BE-A3C4-405D-A9AA-EB4F83F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1344-894B-4E08-95AC-0D05EDA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4239-9449-419E-A22E-4E1F9F90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2CFE-8ED9-4DF6-AFC0-D2C8B738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2CD-D227-43F0-B09A-BA6E5B00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C554-4E67-4AB0-B53A-980E62BA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F43-BCD3-493F-BEFB-97591ED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712-3E97-4506-8CA9-0748ED2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1F6-7F31-459D-BE68-257B0B62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80269-37F1-44A7-B7E7-8DDDD10970EA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6321E-9484-4CEE-AE61-BF9D7E75DE3E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04FEE-A2CD-430C-9D97-F334C6D5DBD6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9FC46-825D-453C-B3CA-262BBEACBA09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6CACB-B417-4EE2-B7E7-A513BCB4F362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AANDOENINGEN VAN HET SPIJSVERTERINGSKANAA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Deel 2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Spastisch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Irritable bowel syndrom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De oorzaak is onbekend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Een rol spelen: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Bewegingsstoornissen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oedingsfactoren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erlaagde pijndrempel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Psychosociale factoren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Afwijkingen in de darmflora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Mogelijke ontstekingscellen in de darmen. 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&gt; 6maanden en 3 maanden actief aan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wisselend aan- af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Zeurende, krampende of stekende  pijn in de buik die soms vermindert na defecatie of na het et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Pijn soms zo hevig dat de activiteiten niet meer lukk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fwijkend ontlasting patroo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VOLG SYMPTOM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fwisselend diarree en obstip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andere klachten Tr. Dig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uurbrand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lacht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Winderighei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blazen gevo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Geen specifieke onderzoeken, goede anamnese en lichamelijk onderzoek is voldoend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oed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eefregel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ventueel medicijnen afh. van de klachten     bulkvormers, analgetica, vochtvasthouders, laxanti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gnitieve gedragstherap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Hernia incarcerat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BREU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DEFINIT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uitstulping van ingewanden of buikvlies door een opening in de buikwand m.a.g. afsterving van het weefsel in de breukza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LITTEKEN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INHOUD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rbus Croh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NAVELBREU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GROTE 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evige 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ocale ontstekingsverschijns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THERAPIE: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hirurg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 van het slijmvlies van de dikke darm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amen met de Morbus Crohn hoort het tot de  Inflammatory Bowel Diseases (IBD)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287800" y="302904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gelijk ook omgevingsfactor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</a:t>
            </a: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loed bij de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moeidheid,  slechte eetlust, gewichtsda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oorts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loopt in golv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alleen proctiti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ecesonderzoe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BOZ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uid -, oog- en gewrichtsklachten en ontstekingen van de galwegen in en buiten de lever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steoporose, door verminderde kalkopnam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 niet nodi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ontstekingsremmer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: colonresectie/ colectom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Voorkomend in zowel dunne als dikk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ZIEKTE VAN CROH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itis terminali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sziekte van het maag-darmstelsel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crohn.nl/animatie.html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250920" y="981000"/>
            <a:ext cx="5384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wel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mager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nem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iekte verloopt in golven(exacerbaties en remissie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Koorts tijdens opvlamming van de ziekt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ch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en videocapsul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vorm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klevingen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pijnstillers, anti-diarree middelen, vitamines, foliumzuur en ijzer gebruiken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medicijnen die werken tegen de ontstekingen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stopping obstructie van de darmdoorga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echanische blokkade door inklemming (invaginatie), afklemming of verdraaiing (stranguratie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kleving van de darmwand aan het buikvlie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zwel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verlamming(paralytische ileus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SCHIJNSEL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anvallen van hevige buikpijn(kolieken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bewegingen zichtbaar op de buik(niet bij paralytische ileus, stille buik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Gootsteengeruisen te hor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isselijk en braken tot fecaal braken aan to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Wegblijven van winden en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overloop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hoc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T-sca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coloninloop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RI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perfo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necrose (afsterving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 zonodig met stoma-aanlegg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derliggende oorzaak behand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nservatief: maaghevel, infuus, clysma’s, later orale laxantia, pijnstillers, antiemetic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Marlies Bouland</cp:lastModifiedBy>
  <dcterms:modified xsi:type="dcterms:W3CDTF">2018-03-13T13:25:50Z</dcterms:modified>
  <cp:revision>19</cp:revision>
  <dc:subject/>
  <dc:title>Aandoeningen van het spijsverteringskanaal</dc:title>
</cp:coreProperties>
</file>