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E85-984F-4D61-8275-BD6F45DE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98B-D055-4615-B4CF-E26519C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DE4-E4B2-4E9F-9AFE-BDEE2CD7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2BC-A268-47E8-8488-C800DBE0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2AD-F473-4475-8555-4466FAD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D5F-1C6C-4030-A40A-ED6741B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5C3-3987-4A0E-A5A9-8577494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16C-80B4-43EB-A373-32AECAE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DDE-926A-43E3-A139-0884960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B33-8855-40D7-82B4-B7A9BC80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FAE-4B11-4789-AEB3-9281C20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4F2-87FA-4AB7-A133-692E593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E58A-29ED-4D62-A91F-7D8C017F34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nl/imgres?um=1&amp;hl=nl&amp;biw=1193&amp;bih=748&amp;tbm=isch&amp;tbnid=-ONJx6ftpMKzCM:&amp;imgrefurl=http://nl.123rf.com/photo_13440531_meting-van-het-bloed-zuurstof-saturatie-pulsoximetrie.html&amp;docid=RDfDb1yyuq5gRM&amp;imgurl=http://us.123rf.com/400wm/400/400/sudok1/sudok11205/sudok1120500018/13440531-meting-van-het-bloed-zuurstof-saturatie-pulsoximetrie.jpg&amp;w=1200&amp;h=801&amp;ei=ViA7UvKbBuam0wWyoYCIBQ&amp;zoom=1&amp;iact=rc&amp;dur=469&amp;page=1&amp;tbnh=118&amp;tbnw=183&amp;start=0&amp;ndsp=27&amp;ved=1t:429,r:0,s:0,i:80&amp;tx=91&amp;ty=45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su.be/content/wysiwyg/resizedmedia/758_200x193/longen.jpg&amp;imgrefurl=http://www.sasu.be/deelwebsites/Radiologie/Onderzoeksoverzicht/CT/HR_Longen&amp;usg=__1vBIshIEYDjIIR3je34hF8EpBBg=&amp;h=193&amp;w=200&amp;sz=10&amp;hl=nl&amp;start=10&amp;um=1&amp;tbnid=7z8nE0wgIt6n0M:&amp;tbnh=100&amp;tbnw=104&amp;prev=/images%3Fq%3Dct%2Bscan%2Blongen%26hl%3Dnl%26rls%3Dcom.microsoft:nl:IE-SearchBox%26rlz%3D1I7SUNA%26um%3D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lmon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rometr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1268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: RAST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specifieke allergenen (RAST huisstofmijt, RAST katten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af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stofsaturat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wordt arterieel bloed , vaak uit de polsslagader gehaald,onderzocht op de hoeveelheid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nauwkeurig gaat dit via een soort klemmetje op de v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edipreventiecentrum.nl/media/catalog/product/cache/1/image/5d596e5c29ea4555a57869cdaaccd555/s/a/saturatiemeter-oximeter-zuurstofmeter-vingertip-vingerpuls-cms-50d-cms50d-fingertip-hartslag-contec-pulse-meter-saturatie-fingerpulse-zuurstof-meting-zuurstofgehalte-hart-3.jpg"/>
          <p:cNvPicPr/>
          <p:nvPr/>
        </p:nvPicPr>
        <p:blipFill>
          <a:blip r:embed="rId1"/>
          <a:stretch/>
        </p:blipFill>
        <p:spPr>
          <a:xfrm>
            <a:off x="4952880" y="3732120"/>
            <a:ext cx="4191120" cy="3125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64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1587600"/>
            <a:ext cx="13082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5680" tIns="0" bIns="191376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36385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564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48496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>
            <a:hlinkClick r:id="rId2"/>
          </p:cNvPr>
          <p:cNvSpPr/>
          <p:nvPr/>
        </p:nvSpPr>
        <p:spPr>
          <a:xfrm>
            <a:off x="30240" y="14652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http://us.123rf.com/400wm/400/400/sudok1/sudok11205/sudok1120500018/13440531-meting-van-het-bloed-zuurstof-saturatie-pulsoximetrie.jpg"/>
          <p:cNvPicPr/>
          <p:nvPr/>
        </p:nvPicPr>
        <p:blipFill>
          <a:blip r:embed="rId3"/>
          <a:stretch/>
        </p:blipFill>
        <p:spPr>
          <a:xfrm>
            <a:off x="0" y="22860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te voren nuc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oving van te v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ring wordt ingebr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naar binnen geschoven, kan braakreflex opwekken door prikkeling achter in de mond of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kan ook hoestreflex opw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het onderzoek pas eten en/of drinken als de verdoving eru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onderzoek van de luchtpijp met een bronchosc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35116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ronchoscop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038480"/>
            <a:ext cx="297180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ndoscopy2"/>
          <p:cNvPicPr/>
          <p:nvPr/>
        </p:nvPicPr>
        <p:blipFill>
          <a:blip r:embed="rId5"/>
          <a:stretch/>
        </p:blipFill>
        <p:spPr>
          <a:xfrm>
            <a:off x="5715000" y="4114800"/>
            <a:ext cx="2543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sotopenscan  bijv. 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dioactieve middelen toeged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en zichtbaar in de PET s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kleurtje, li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al bij vermoeden longembolie (perfusies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80px-PET_scan_Parkinson%27s_Disease"/>
          <p:cNvPicPr/>
          <p:nvPr/>
        </p:nvPicPr>
        <p:blipFill>
          <a:blip r:embed="rId1"/>
          <a:stretch/>
        </p:blipFill>
        <p:spPr>
          <a:xfrm>
            <a:off x="5029200" y="148608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medischcontact.artsennet.nl/static/images/medischcontact/AMGATE_6059_138_TICH_R130411463089408.gif"/>
          <p:cNvPicPr/>
          <p:nvPr/>
        </p:nvPicPr>
        <p:blipFill>
          <a:blip r:embed="rId1"/>
          <a:stretch/>
        </p:blipFill>
        <p:spPr>
          <a:xfrm>
            <a:off x="838080" y="1371600"/>
            <a:ext cx="232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en specifieke voor- en 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isotopenscan is nauwelijks  belast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wel wat stralingsbe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ever niet bij zwangere vr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stvoeding een paar dagen na het onderzoek niet aan de baby geven (f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reiding-Uitvoering-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oraxf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ngfunctie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on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X Thor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voorkeur staande ivm betere longontploo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 g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zuwehofpoort.nl/files/1/8/3/6/1/thorax.jpg?height=165&amp;width=234"/>
          <p:cNvPicPr/>
          <p:nvPr/>
        </p:nvPicPr>
        <p:blipFill>
          <a:blip r:embed="rId1"/>
          <a:stretch/>
        </p:blipFill>
        <p:spPr>
          <a:xfrm>
            <a:off x="914400" y="932040"/>
            <a:ext cx="7315200" cy="49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s.123rf.com/400wm/400/400/rvvelde/rvvelde1107/rvvelde110700001/10058749-zwart-witte-medische-rafa-ntgenfoto-van-de-thorax.jpg"/>
          <p:cNvPicPr/>
          <p:nvPr/>
        </p:nvPicPr>
        <p:blipFill>
          <a:blip r:embed="rId1"/>
          <a:stretch/>
        </p:blipFill>
        <p:spPr>
          <a:xfrm>
            <a:off x="2286000" y="1160640"/>
            <a:ext cx="457200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-scan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ciaal röntgen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uter maakt afbeeldingen van dwarsdoorsneden door het hele lichaam (coupes, plak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el opsporing gezwell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rote lymfek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T= computertomograf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ong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95680"/>
            <a:ext cx="1828800" cy="176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t-sc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447920"/>
            <a:ext cx="289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zorg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: soms toevoeging contrast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gaat op een schuif een soort tunnelbuis in, hij/zij moet doodstil blijven liggen terwijl de foto’s worden ge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: contraststof geeft soms problemen:misselijk, jeukende huiduitslag,levensgevaarlijke allergische rea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ngfunctie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romet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 en nazorg bij deze twee onderzoeken in de huisartsenprakt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hoeveelheid lucht die de patië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ximaal kan uitade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meten met een piekstroommeter (l/min) (eenvoudi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 en krachtig in het apparaat bla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l tussen wa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medicijngebruik (reversibilit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 morgens en ‘s avonds (astma: ‘s morgens slech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lichamelijke in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03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8:52:23Z</dcterms:created>
  <dc:creator>Agnieta</dc:creator>
  <dc:description/>
  <dc:language>en-US</dc:language>
  <cp:lastModifiedBy>Uw naam</cp:lastModifiedBy>
  <dcterms:modified xsi:type="dcterms:W3CDTF">2016-06-03T06:50:49Z</dcterms:modified>
  <cp:revision>5</cp:revision>
  <dc:subject/>
  <dc:title>Pulmonologie</dc:title>
</cp:coreProperties>
</file>