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729D-D180-4A57-A70E-63AF63B96A0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ijdelijke aanduiding voor dianumm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267B-B3FE-45C9-93B7-316A979D09A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ijdelijke aanduiding voor dianumm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BDC7-5D5D-4D50-BF5E-C2784E5DC09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CD37-335F-4538-BC61-ADBF8968C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5B74-AE93-4C40-9BA2-512933BD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F934-5B53-4785-B16E-C7421F15A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C5AD-7B48-435F-B022-4A6FF5EAA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18EA-A6EC-49CF-B82C-AFCDE211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5B6A-1F1F-4CC2-926F-40C9CBF8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D11F-EE80-41DE-BB9E-E1078F0A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C2DA-7BC8-470F-8CD2-06467336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0717-DE3A-4B18-99CE-15B17165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1B1A-903C-4E80-9EE3-5ADC8167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405D-56A2-4B92-A348-7E820494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F24B-5901-4944-90EC-051E8209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4966-3DDF-468D-8AA2-7361357B4384}" type="slidenum">
              <a:rPr b="0" lang="nl-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s://www.longfonds.nl/longontsteking/oorzaken-longontsteking" TargetMode="External"/><Relationship Id="rId2" Type="http://schemas.openxmlformats.org/officeDocument/2006/relationships/hyperlink" Target="http://www.mijnlongen.nl/Hoesten/49bfd7af/1/Hoesten.aspx" TargetMode="External"/><Relationship Id="rId3" Type="http://schemas.openxmlformats.org/officeDocument/2006/relationships/hyperlink" Target="https://youtu.be/n1GNua2JvyM" TargetMode="External"/><Relationship Id="rId4" Type="http://schemas.openxmlformats.org/officeDocument/2006/relationships/hyperlink" Target="https://youtu.be/Roahgmt43dA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oesten, Bronchitis en Pneunom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44400" y="1700280"/>
            <a:ext cx="3924360" cy="2771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4859280" y="1916280"/>
            <a:ext cx="259236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Ziekten van de lagere luchtweg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Inhou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Hoes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Acute Bronch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Pneumon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3635280" y="1944720"/>
            <a:ext cx="1965600" cy="3451320"/>
          </a:xfrm>
          <a:prstGeom prst="rect">
            <a:avLst/>
          </a:prstGeom>
          <a:ln w="0">
            <a:noFill/>
          </a:ln>
        </p:spPr>
      </p:pic>
      <p:sp>
        <p:nvSpPr>
          <p:cNvPr id="86" name="Tijdelijke aanduiding voor voettekst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oes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oesten: explosief verlopende uitademing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ij gesloten strottenklep (epiglottis) en stemspleet wordt druk opgebouw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nproductieve hoest : hoest die geen slijm vrijmaakt uit de long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Productieve hoest : het ophoesten van slij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oes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 komt h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sten:  reactie lichaam op prikke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oor infectie (bacterie of virus) meer slij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sten voert slijm af (sputu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j verkoudheid  slijmvlies ontstoken;  slij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IJL-OMLAAG 4"/>
          <p:cNvSpPr/>
          <p:nvPr/>
        </p:nvSpPr>
        <p:spPr>
          <a:xfrm flipV="1">
            <a:off x="7956720" y="4507920"/>
            <a:ext cx="242640" cy="43308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oesten die niet onschuldig  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sten door Ro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ronch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neumon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oesten door Tabaksr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abaksrook:  kan COPD en longkanker veroorza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5796000" y="2814480"/>
            <a:ext cx="2857320" cy="1857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"/>
          <p:cNvPicPr/>
          <p:nvPr/>
        </p:nvPicPr>
        <p:blipFill>
          <a:blip r:embed="rId2"/>
          <a:stretch/>
        </p:blipFill>
        <p:spPr>
          <a:xfrm>
            <a:off x="3780000" y="2827440"/>
            <a:ext cx="1923840" cy="2857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3"/>
          <a:stretch/>
        </p:blipFill>
        <p:spPr>
          <a:xfrm>
            <a:off x="685800" y="2827440"/>
            <a:ext cx="2857680" cy="1600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4"/>
          <a:stretch/>
        </p:blipFill>
        <p:spPr>
          <a:xfrm>
            <a:off x="685800" y="4581360"/>
            <a:ext cx="2286000" cy="17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orzaken chronische ho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8360" y="141264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st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OP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hronische bronchit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astro-oesophageale reflux (maagzuu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ronchie-ectasien (abnormaal permanent verwijde luchtpijpjes (bronchieen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ronchiolit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ongkank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rslikken als gevolg van slecht functionerend slikmechanis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edicijnen (ACE remmers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rk- en omgevingsgerelatee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Tuberculose en andere langdurige infec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t is bronchitis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bronchitis is de wand van de bronchiën ontstoke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zijn twee soorten: 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acut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en 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chronisch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bronchit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Bij acute bronchiti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tstaat de ontsteking van de bronchiën na een verkoudheid of griep. Deze ontsteking gaat na een tijdje weer ov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Bij chronische bronchiti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ent u niet eerst grieperig of verkouden geweest. Bij chronische bronchitis merkt u dat het soms even wat beter gaat, maar dat het hoesten weer terugkomt. De ontsteking is blijvend.(oorzaak o.a. roke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 afkorting COPD betekent Chronic Obstructive Pulmonary Disease (Chronische Obstructieve Longziekte). Het is een verzamelnaam voor de ziekten chronische bronchitis en longemfyse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ij chronische bronchitis zijn de vertakkingen van uw luchtpijp blijvend ontstoken. Deze vertakkingen heten de bronchiën. Als een ziekte blijvend is, noemen we dat chronisch. (https://www.longfonds.nl/copd/alles-over-copd/chronische-bronchiti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cute Bronchit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618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Beschrijv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Ontsteking van het slijmvlies in de Bronchië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Wat gebeurd 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Overtollig slijm aangemaak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Luchtwegen worden nauw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Oorzaa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Zware ko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ir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cute Bronchiti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2400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Sympto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evig hoesten, eerst enkele dagen droog 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aarna slijm opgev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enauwd gevoel/ kortademi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oms ook piepende ademha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aak geen koo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5940360" y="3284640"/>
            <a:ext cx="2524320" cy="1809720"/>
          </a:xfrm>
          <a:prstGeom prst="rect">
            <a:avLst/>
          </a:prstGeom>
          <a:ln w="0">
            <a:noFill/>
          </a:ln>
        </p:spPr>
      </p:pic>
      <p:sp>
        <p:nvSpPr>
          <p:cNvPr id="116" name="Tijdelijke aanduiding voor voettekst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namne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uscult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XF-Thora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putumkwe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ongfunctie test (so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5076720" y="1773360"/>
            <a:ext cx="34639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natom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8064360" cy="32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herapie / verlo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cute bronchitis geneest meestal vanzelf. De ontsteking is na ongeveer twee weken verdwenen. Toch kunt u nog weken last hebben van een zeurende hoest. U kunt ook last hebben van pijn bij het hoesten en vermoeidhei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AT KUNT U ZELF DOEN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rustig aan do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oldoende drinken, zeker als u koorts heef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ls u pijn heeft kunnen pijnstillers help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Pneumoni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9528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Beschrijving: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Longontsteking: Infectie van de  longblaasjes  (alveoli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Oorzake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ir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acter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chimm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parasi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ijdelijke aanduiding voor voettekst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4859280" y="2781360"/>
            <a:ext cx="23907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WANNEER HEEFT U MEER KANS OP EEN LONGONTSTEKIN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en lage weerstand: een heftige verkoudheid of griep kan overgaan in een longontste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eeftijd: mensen jonger dan 10 en ouder dan 55 hebben meer kans op een longontste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en blijvende longziekte, zoals astma , COP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(mee)roken: rokers hebben een vier keer zo grote kans op een longontste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uchtvervuil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abe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artproblem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rvoe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nslikken van voorwerp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slikk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lamming of bewustelooshe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likstoornissen, bijvoorbeeld bij een spierziekte of na een bero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Pneumo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Sympto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ge koo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Kortademighe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Pijn op de borst bij ademha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es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Opgeven van slijm (wit, geel, groen of bloederi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6000840" y="1773360"/>
            <a:ext cx="2609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namne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uscult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XF-Thora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putumkwe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ongfunctie test (so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5724360" y="3429000"/>
            <a:ext cx="2619720" cy="1743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"/>
          <p:cNvPicPr/>
          <p:nvPr/>
        </p:nvPicPr>
        <p:blipFill>
          <a:blip r:embed="rId2"/>
          <a:stretch/>
        </p:blipFill>
        <p:spPr>
          <a:xfrm>
            <a:off x="6084720" y="1197000"/>
            <a:ext cx="20923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ehandeling Pneumo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lo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aak binnen 2 weken vanzelf o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ij rokers kan het langer du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ntibiotica vaak werkzaam en niet nodi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l antibiotica: bij een echte longontsteking en bij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kwetsbare groep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(Kwetsbare groepen: chronische aandoening, lage weerstand, baby’s en oude mensen 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Pneumo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Adviez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volgende adviezen zijn belangrijk bij een longontsteking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rink voldoende, zeker als u koorts heef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eem rust als u slap, zwak of moe b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ook niet en vraag de mensen in uw omgeving om niet te rok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wijzin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www.longfonds.nl/longontsteking/oorzaken-longontste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mijnlongen.nl/Hoesten/49bfd7af/1/Hoesten.asp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s://youtu.be/n1GNua2JvyM</a:t>
            </a:r>
            <a:r>
              <a:rPr b="0" lang="nl-NL" sz="2400" spc="-1" strike="noStrike">
                <a:solidFill>
                  <a:srgbClr val="ff0000"/>
                </a:solidFill>
                <a:latin typeface="Calibri"/>
              </a:rPr>
              <a:t> (longontstek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s://youtu.be/Roahgmt43dA</a:t>
            </a:r>
            <a:r>
              <a:rPr b="0" lang="nl-NL" sz="2400" spc="-1" strike="noStrike">
                <a:solidFill>
                  <a:srgbClr val="ff0000"/>
                </a:solidFill>
                <a:latin typeface="Calibri"/>
              </a:rPr>
              <a:t> (acute bronchiti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demhaling via de lon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oute van buiten naar binn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f497d"/>
                </a:solidFill>
                <a:latin typeface="Calibri"/>
              </a:rPr>
              <a:t>DE LONGEN:       https://www.youtube.com/watch?feature=player_embedded&amp;v=4vCnpkwcr1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e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ondhol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keelholte (pharynx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tottenhoofd (larynx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uchtpijp (trache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uchtpijptak (bronchu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uchtpijpvertakking (bronchiol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Kleine luchtpijpvertakking (bronch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indvertakking (eindbronchioo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ongblaasjes (alveol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Functie strottenhoof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keelholte : splits zich in slokdarm en luchtpijp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Tijdens het eten: huig sluit neus af &amp; strottenklepje  sluit de luchtpijp a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n het strottenhoofd bevinden zich de stembanden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AFBEEL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1: t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2: linker keelaman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3: is de hu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4: verhemel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219640" y="3068640"/>
            <a:ext cx="2305080" cy="1981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2268360" y="3068640"/>
            <a:ext cx="209556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erking van de lon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menselijke longen zien eruit als een sponzige op zijn kop hangende boom. De stam is de luchtpijp; een holle buis van ongeveer 12 centimeter lengte en 2,5 centimeter doorsned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In de borstholte splitst de luchtpijp zich in twee luchtpijptakken (hoofd bronchiën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eide hoofd bronchiën splitsen zich in steeds kleinere takken de bronchiol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"/>
          <p:cNvPicPr/>
          <p:nvPr/>
        </p:nvPicPr>
        <p:blipFill>
          <a:blip r:embed="rId1"/>
          <a:stretch/>
        </p:blipFill>
        <p:spPr>
          <a:xfrm>
            <a:off x="7236000" y="2781360"/>
            <a:ext cx="106812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Longkwabb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rechterlong 3 kwabben &amp;  linkerlong in 2 kwabb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Op iedere longkwab komt een dunne tak van de bronchiën uit. De allerkleinste vertakkingen van de bronchiën eindigen in de longblaasj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3578400" y="2897280"/>
            <a:ext cx="344160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Longblaasj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longblaasjes (alveoli) gasuitwisseling met het blo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antal: 3 miljo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oppervlakte: 70 en 100 m2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lk longblaasje is omgeven door kleine adertjes, capillairen genaamd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2843280" y="407664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In-en uitadem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8360" y="1819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De longen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eschermd door de ribben. Onderkant het middenrif (platte, uiterst krachtige spier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inademing (inspiratie) gaat het middenrif (diafragma) naar beneden waardoor de druk in de longen (borstholte) afneemt en het volume toe neemt, hierdoor stroomt de lucht de longen i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het uitademen (expiratie)  gaat het middenrif omhoog waardoor het volume van de longen afneemt en de druk in de longen toeneemt, hierdoor stroomt de lucht de longen weer ui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6516720" y="4581360"/>
            <a:ext cx="13968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bservatiegegevens ademh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Observatie van de Ademhal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aarbij let je op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Frequentie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(volwassenen: 15-20 per minuu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iepte en gelijkmatigheid   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(oppervlakkige ademhaling b.v. longemfyseem; diepe 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 ademhaling bewusteloosheid t.g.v. een  bloedsuiker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Ritme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(pauzes tussen de ademhalingen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luid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(snurken, zwelling slijmvliezen en piepende 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                          ademhaling bij een astmatische aanval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8:24:40Z</dcterms:created>
  <dc:creator>Rina</dc:creator>
  <dc:description/>
  <dc:language>en-US</dc:language>
  <cp:lastModifiedBy>Cuperus,B.K.</cp:lastModifiedBy>
  <cp:lastPrinted>2012-11-27T09:21:08Z</cp:lastPrinted>
  <dcterms:modified xsi:type="dcterms:W3CDTF">2016-01-30T09:55:07Z</dcterms:modified>
  <cp:revision>162</cp:revision>
  <dc:subject/>
  <dc:title>Tuberculose</dc:title>
</cp:coreProperties>
</file>