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B48-179B-4947-B562-5F8368C6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52B-6364-4EC2-BDEF-34D2F093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88D-0082-43C0-982B-66EF5B0C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8CA-D684-450A-B580-EFDB9CEF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4F4-D6FB-4D10-BEC1-2E80F6B3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A6B7-4A5C-4B46-ADF9-B2DE0AB0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E43-6027-4F4A-99E6-22083C16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422-EC35-4B7F-9702-78412E57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81D-0390-4CB8-869E-F7BCDD72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D13-4AD3-428C-A6D5-73A5D4A9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3B9-DE2B-4D52-A3E9-6FC2AC66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CE9-BD21-4045-B487-B4C100E4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BF01-53D7-44F2-B1E7-848A423100F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hysiciansofficeresource.com/images-account/product-images/5065-microlab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nl/imgres?um=1&amp;hl=nl&amp;biw=1193&amp;bih=748&amp;tbm=isch&amp;tbnid=-ONJx6ftpMKzCM:&amp;imgrefurl=http://nl.123rf.com/photo_13440531_meting-van-het-bloed-zuurstof-saturatie-pulsoximetrie.html&amp;docid=RDfDb1yyuq5gRM&amp;imgurl=http://us.123rf.com/400wm/400/400/sudok1/sudok11205/sudok1120500018/13440531-meting-van-het-bloed-zuurstof-saturatie-pulsoximetrie.jpg&amp;w=1200&amp;h=801&amp;ei=ViA7UvKbBuam0wWyoYCIBQ&amp;zoom=1&amp;iact=rc&amp;dur=469&amp;page=1&amp;tbnh=118&amp;tbnw=183&amp;start=0&amp;ndsp=27&amp;ved=1t:429,r:0,s:0,i:80&amp;tx=91&amp;ty=45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mng.nl/images/bronchoscoop1.jpg&amp;imgrefurl=http://www.lmng.nl/bronchoscopie.php&amp;usg=__ynb-8_1dRkRqriyU36HVliflxNY=&amp;h=263&amp;w=350&amp;sz=5&amp;hl=nl&amp;start=1&amp;um=1&amp;tbnid=Z4j4DZBzgn2MiM:&amp;tbnh=90&amp;tbnw=120&amp;prev=/images%3Fq%3Dbronchoscoop%26hl%3Dnl%26rls%3Dcom.microsoft:nl:IE-SearchBox%26rlz%3D1I7SUNA%26sa%3DN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instituutrenata.com/images/bronchoscopie.jpg&amp;imgrefurl=http://www.instituutrenata.com/content/behandelingen.php&amp;usg=__4EKdzZXuLXHYSfZfGscnqy5YNcM=&amp;h=344&amp;w=400&amp;sz=21&amp;hl=nl&amp;start=8&amp;um=1&amp;tbnid=AuWGMtLURkYRRM:&amp;tbnh=107&amp;tbnw=124&amp;prev=/images%3Fq%3Dbronchoscoop%26hl%3Dnl%26rls%3Dcom.microsoft:nl:IE-SearchBox%26rlz%3D1I7SUNA%26sa%3DN%26um%3D1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su.be/content/wysiwyg/resizedmedia/758_200x193/longen.jpg&amp;imgrefurl=http://www.sasu.be/deelwebsites/Radiologie/Onderzoeksoverzicht/CT/HR_Longen&amp;usg=__1vBIshIEYDjIIR3je34hF8EpBBg=&amp;h=193&amp;w=200&amp;sz=10&amp;hl=nl&amp;start=10&amp;um=1&amp;tbnid=7z8nE0wgIt6n0M:&amp;tbnh=100&amp;tbnw=104&amp;prev=/images%3Fq%3Dct%2Bscan%2Blongen%26hl%3Dnl%26rls%3Dcom.microsoft:nl:IE-SearchBox%26rlz%3D1I7SUNA%26um%3D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bluefingers.files.wordpress.com/2008/03/ct-scan.jpg&amp;imgrefurl=http://bluefingers.wordpress.com/2008/03/&amp;usg=__NZKKn0rfAHYDkznJanWRmISxJfg=&amp;h=605&amp;w=901&amp;sz=54&amp;hl=nl&amp;start=1&amp;um=1&amp;tbnid=fY-O8OH8T9VcVM:&amp;tbnh=98&amp;tbnw=146&amp;prev=/images%3Fq%3Dct%2Bscan%26hl%3Dnl%26rls%3Dcom.microsoft:nl:IE-SearchBox%26rlz%3D1I7SUNA%26um%3D1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t.nl/longgeneeskunde/onze_longen/astma/behandeling.doc/behandeling-1.png&amp;imgrefurl=http://www.mst.nl/longgeneeskunde/onze_longen/astma/behandeling.doc/&amp;usg=__0lTgJe4hQXkiuX3Vznhxq2EfsRY=&amp;h=190&amp;w=190&amp;sz=35&amp;hl=nl&amp;start=4&amp;um=1&amp;tbnid=lU22MlOlSrc7bM:&amp;tbnh=103&amp;tbnw=103&amp;prev=/images%3Fq%3Dpiekstroommeter%26hl%3Dnl%26rls%3Dcom.microsoft:nl:IE-SearchBox%26rlz%3D1I7SUNA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ulmon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pirometri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namelijk gebruikt om COPD te diagnosticeren en control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patiënt ademt maximaal krachtig in en uit in de spirometer -&gt; grafiek = spi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rm van de grafiek zegt iets over de mate en ernst van de obstruc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EV1=hoeveelheid lucht die in 1 sec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C=hoeveelheid lucht die maximaal in totaal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112680"/>
            <a:ext cx="25146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onderzoek: RAST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rgietest om te kijken voor welke allergenen iemand allergisch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 specifieke allergenen (RAST huisstofmijt, RAST katten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 afgen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onderzoe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uurstofsaturat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 wordt arterieel bloed , vaak uit de polsslagader gehaald,onderzocht op de hoeveelheid 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nder nauwkeurig gaat dit via een soort klemmetje op de v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medipreventiecentrum.nl/media/catalog/product/cache/1/image/5d596e5c29ea4555a57869cdaaccd555/s/a/saturatiemeter-oximeter-zuurstofmeter-vingertip-vingerpuls-cms-50d-cms50d-fingertip-hartslag-contec-pulse-meter-saturatie-fingerpulse-zuurstof-meting-zuurstofgehalte-hart-3.jpg"/>
          <p:cNvPicPr/>
          <p:nvPr/>
        </p:nvPicPr>
        <p:blipFill>
          <a:blip r:embed="rId1"/>
          <a:stretch/>
        </p:blipFill>
        <p:spPr>
          <a:xfrm>
            <a:off x="4952880" y="3732120"/>
            <a:ext cx="4191120" cy="3125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64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1587600"/>
            <a:ext cx="13082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5680" tIns="0" bIns="191376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3638520"/>
            <a:ext cx="91440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564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0" y="5484960"/>
            <a:ext cx="914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">
            <a:hlinkClick r:id="rId2"/>
          </p:cNvPr>
          <p:cNvSpPr/>
          <p:nvPr/>
        </p:nvSpPr>
        <p:spPr>
          <a:xfrm>
            <a:off x="30240" y="1465200"/>
            <a:ext cx="296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9" descr="http://us.123rf.com/400wm/400/400/sudok1/sudok11205/sudok1120500018/13440531-meting-van-het-bloed-zuurstof-saturatie-pulsoximetrie.jpg"/>
          <p:cNvPicPr/>
          <p:nvPr/>
        </p:nvPicPr>
        <p:blipFill>
          <a:blip r:embed="rId3"/>
          <a:stretch/>
        </p:blipFill>
        <p:spPr>
          <a:xfrm>
            <a:off x="0" y="228600"/>
            <a:ext cx="52466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1371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onchosc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5486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n te voren nuc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doving van te v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ring wordt ingebra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s naar binnen geschoven, kan braakreflex opwekken door prikkeling achter in de mond of k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s kan ook hoestreflex opw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 het onderzoek pas eten en/of drinken als de verdoving eru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onchosc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486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= onderzoek van de luchtpijp met een bronchosc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bronchosco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351160"/>
            <a:ext cx="2019240" cy="1514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bronchoscopi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4038480"/>
            <a:ext cx="2971800" cy="2563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ndoscopy2"/>
          <p:cNvPicPr/>
          <p:nvPr/>
        </p:nvPicPr>
        <p:blipFill>
          <a:blip r:embed="rId5"/>
          <a:stretch/>
        </p:blipFill>
        <p:spPr>
          <a:xfrm>
            <a:off x="5715000" y="4114800"/>
            <a:ext cx="25430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sotopenscan  bijv. PET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adioactieve middelen toeged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orden zichtbaar in de PET sc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kleurtje, lic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al bij vermoeden longembolie (perfusiesc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180px-PET_scan_Parkinson%27s_Disease"/>
          <p:cNvPicPr/>
          <p:nvPr/>
        </p:nvPicPr>
        <p:blipFill>
          <a:blip r:embed="rId1"/>
          <a:stretch/>
        </p:blipFill>
        <p:spPr>
          <a:xfrm>
            <a:off x="5029200" y="1486080"/>
            <a:ext cx="28195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T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http://medischcontact.artsennet.nl/static/images/medischcontact/AMGATE_6059_138_TICH_R130411463089408.gif"/>
          <p:cNvPicPr/>
          <p:nvPr/>
        </p:nvPicPr>
        <p:blipFill>
          <a:blip r:embed="rId1"/>
          <a:stretch/>
        </p:blipFill>
        <p:spPr>
          <a:xfrm>
            <a:off x="838080" y="1371600"/>
            <a:ext cx="23209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en specifieke voor- en naz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isotopenscan is nauwelijks  belaste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ft wel wat stralingsbel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ever niet bij zwangere vrouw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rstvoeding een paar dagen na het onderzoek niet aan de baby geven (f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orbereiding-Uitvoering-Naz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oraxf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 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ongfunctie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on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T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X Thor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 voorberei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voorkeur staande ivm betere longontplooi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zorg g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zuwehofpoort.nl/files/1/8/3/6/1/thorax.jpg?height=165&amp;width=234"/>
          <p:cNvPicPr/>
          <p:nvPr/>
        </p:nvPicPr>
        <p:blipFill>
          <a:blip r:embed="rId1"/>
          <a:stretch/>
        </p:blipFill>
        <p:spPr>
          <a:xfrm>
            <a:off x="914400" y="932040"/>
            <a:ext cx="7315200" cy="49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us.123rf.com/400wm/400/400/rvvelde/rvvelde1107/rvvelde110700001/10058749-zwart-witte-medische-rafa-ntgenfoto-van-de-thorax.jpg"/>
          <p:cNvPicPr/>
          <p:nvPr/>
        </p:nvPicPr>
        <p:blipFill>
          <a:blip r:embed="rId1"/>
          <a:stretch/>
        </p:blipFill>
        <p:spPr>
          <a:xfrm>
            <a:off x="2286000" y="1160640"/>
            <a:ext cx="4572000" cy="45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T-scan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eciaal röntgenonderzo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mputer maakt afbeeldingen van dwarsdoorsneden door het hele lichaam (coupes, plakj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el opsporing gezwell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rote lymfek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T= computertomograf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long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495680"/>
            <a:ext cx="1828800" cy="176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t-sc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1447920"/>
            <a:ext cx="2895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T 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zorg: g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ing: soms toevoeging contrastst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atiënt gaat op een schuif een soort tunnelbuis in, hij/zij moet doodstil blijven liggen terwijl de foto’s worden gemaa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zorg: contraststof geeft soms problemen:misselijk, jeukende huiduitslag,levensgevaarlijke allergische reac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ongfunctie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a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rometr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 voorbereiding en nazorg bij deze twee onderzoeken in de huisartsenprakt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a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hoeveelheid lucht die de patië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ximaal kan uitade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meten met een piekstroommeter (l/min) (eenvoudig instru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rt en krachtig in het apparaat bla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edelijk goede maat voor de doorgankelijkheid van de luchtwegen (momentopnam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l tussen waar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 en na medicijngebruik (reversibilite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 morgens en ‘s avonds (astma: ‘s morgens slech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 en na lichamelijke in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a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behandeling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762120"/>
            <a:ext cx="20336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8:52:23Z</dcterms:created>
  <dc:creator>Agnieta</dc:creator>
  <dc:description/>
  <dc:language>en-US</dc:language>
  <cp:lastModifiedBy>Uw naam</cp:lastModifiedBy>
  <dcterms:modified xsi:type="dcterms:W3CDTF">2016-06-03T06:50:49Z</dcterms:modified>
  <cp:revision>5</cp:revision>
  <dc:subject/>
  <dc:title>Pulmonologie</dc:title>
</cp:coreProperties>
</file>