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78D4-3F73-4CBE-906A-6B790A2846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2CF6-ABAC-4316-877E-485C1311C0E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28EC-1BB8-4F0D-85BF-95B302842F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87F-BBC7-4302-BBE8-66C764B6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B16-9EE7-4B83-8CD4-67EA2313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5E5-AF90-4C9A-8DE1-D4D5ABD9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F26-EBCD-45A7-AC4F-92255A5F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C27-2BA8-4933-A8B5-5DB2A774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678-1AA5-406B-9906-72E7F578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DA9-A462-446B-BFB4-ADECDE8F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CE3-987E-4205-828D-3C20CF19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D45-4AEF-4597-91F5-66B4FCDF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AE0-605D-4B82-BF80-D8B1562D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2E1-9D14-46DC-9B96-366C7A32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45F-D826-4318-A7BE-0F6817D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0D28-CFC2-405C-A552-E4877E8BF117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longfonds.nl/longontsteking/oorzaken-longontsteking" TargetMode="External"/><Relationship Id="rId2" Type="http://schemas.openxmlformats.org/officeDocument/2006/relationships/hyperlink" Target="http://www.mijnlongen.nl/Hoesten/49bfd7af/1/Hoesten.aspx" TargetMode="External"/><Relationship Id="rId3" Type="http://schemas.openxmlformats.org/officeDocument/2006/relationships/hyperlink" Target="https://youtu.be/n1GNua2JvyM" TargetMode="External"/><Relationship Id="rId4" Type="http://schemas.openxmlformats.org/officeDocument/2006/relationships/hyperlink" Target="https://youtu.be/Roahgmt43dA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, Bronchitis en Pneuno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4400" y="1700280"/>
            <a:ext cx="3924360" cy="27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25923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iekten van de lagere luchtweg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hou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oe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Acute Bronch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3635280" y="1944720"/>
            <a:ext cx="1965600" cy="3451320"/>
          </a:xfrm>
          <a:prstGeom prst="rect">
            <a:avLst/>
          </a:prstGeom>
          <a:ln w="0">
            <a:noFill/>
          </a:ln>
        </p:spPr>
      </p:pic>
      <p:sp>
        <p:nvSpPr>
          <p:cNvPr id="8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sten: explosief verlopende uitadem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gesloten strottenklep (epiglottis) en stemspleet wordt druk opgebouw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productieve hoest : hoest die geen slijm vrijmaakt uit de lo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ieve hoest : het ophoesten van slij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komt h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:  reactie lichaam op prikk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infectie (bacterie of virus) meer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 voert slijm af (sput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verkoudheid  slijmvlies ontstoken; 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IJL-OMLAAG 4"/>
          <p:cNvSpPr/>
          <p:nvPr/>
        </p:nvSpPr>
        <p:spPr>
          <a:xfrm flipV="1">
            <a:off x="7956720" y="4507920"/>
            <a:ext cx="242640" cy="4330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 die niet onschuldig  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 door 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 door Tabaksr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abaksrook:  kan COPD en longkanker veroorza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5796000" y="2814480"/>
            <a:ext cx="2857320" cy="1857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3780000" y="2827440"/>
            <a:ext cx="1923840" cy="285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685800" y="282744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685800" y="4581360"/>
            <a:ext cx="2286000" cy="17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orzaken chronische ho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t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O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ronische bronch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astro-oesophageale reflux (maagzu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e-ectasien (abnormaal permanent verwijde luchtpijpjes (bronchiee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ol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ngk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slikken als gevolg van slecht functionerend slikmechanis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dicijnen (ACE remmers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- en omgevingsgerelatee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uberculose en andere langdurige infec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bronchit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bronchitis is de wand van de bronchiën ontstoke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zijn twee soorten: 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en 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hronisch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bronchit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ij acute bronchiti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tstaat de ontsteking van de bronchiën na een verkoudheid of griep. Deze ontsteking gaat na een tijdje weer ov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ij chronische bronchiti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nt u niet eerst grieperig of verkouden geweest. Bij chronische bronchitis merkt u dat het soms even wat beter gaat, maar dat het hoesten weer terugkomt. De ontsteking is blijvend.(oorzaak o.a. rok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fkorting COPD betekent Chronic Obstructive Pulmonary Disease (Chronische Obstructieve Longziekte). Het is een verzamelnaam voor de ziekten chronische bronchitis en longemfyse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chronische bronchitis zijn de vertakkingen van uw luchtpijp blijvend ontstoken. Deze vertakkingen heten de bronchiën. Als een ziekte blijvend is, noemen we dat chronisch. (https://www.longfonds.nl/copd/alles-over-copd/chronische-bronchi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618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tsteking van het slijmvlies in de Bronch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Wat gebeurd 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tollig slijm aangemaa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uchtwegen worden nau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ware k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vig hoesten, eerst enkele dagen droog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arna slijm opg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nauwd gevoel/ kortadem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ook piepende ademh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ak geen ko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24320" cy="1809720"/>
          </a:xfrm>
          <a:prstGeom prst="rect">
            <a:avLst/>
          </a:prstGeom>
          <a:ln w="0">
            <a:noFill/>
          </a:ln>
        </p:spPr>
      </p:pic>
      <p:sp>
        <p:nvSpPr>
          <p:cNvPr id="11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utumk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ngfunctie test (s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4639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064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herapie / ver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cute bronchitis geneest meestal vanzelf. De ontsteking is na ongeveer twee weken verdwenen. Toch kunt u nog weken last hebben van een zeurende hoest. U kunt ook last hebben van pijn bij het hoesten en vermoeidhei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KUNT U ZELF DOE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ustig aan do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ldoende drinken, zeker als u koorts he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s u pijn heeft kunnen pijnstillers help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ongontsteking: Infectie van de  longblaasjes  (alveoli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ke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imm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rasi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859280" y="278136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WANNEER HEEFT U MEER KANS OP EEN LONGONTSTEK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ge weerstand: een heftige verkoudheid of griep kan overgaan in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eftijd: mensen jonger dan 10 en ouder dan 55 hebben meer kans op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blijvende longziekte, zoals astma , COP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mee)roken: rokers hebben een vier keer zo grote kans op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uchtvervui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rt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slikken van voorwer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sli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amming of bewusteloos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likstoornissen, bijvoorbeeld bij een spierziekte of na een bero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ge ko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ortademig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ijn op de borst bij ademh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geven van slijm (wit, geel, groen of bloederi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000840" y="177336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utumk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ngfunctie test (s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724360" y="3429000"/>
            <a:ext cx="2619720" cy="1743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0923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handeling 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ak binnen 2 weken vanzelf 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rokers kan het langer du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ntibiotica vaak werkzaam en niet nod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 antibiotica: bij een echte longontsteking en bi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wetsbare groep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Kwetsbare groepen: chronische aandoening, lage weerstand, baby’s en oude mensen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dvi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volgende adviezen zijn belangrijk bij een longontsteking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ink voldoende, zeker als u koorts he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em rust als u slap, zwak of moe b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k niet en vraag de mensen in uw omgeving om niet te ro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wijz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longfonds.nl/longontsteking/oorzaken-longontste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ijnlongen.nl/Hoesten/49bfd7af/1/Hoesten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outu.be/n1GNua2JvyM</a:t>
            </a: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 (longontste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youtu.be/Roahgmt43dA</a:t>
            </a: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 (acute bronchit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demhaling via de lo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ute van buiten naar bi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f497d"/>
                </a:solidFill>
                <a:latin typeface="Calibri"/>
              </a:rPr>
              <a:t>DE LONGEN:       https://www.youtube.com/watch?feature=player_embedded&amp;v=4vCnpkwcr1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e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ondhol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eelholte (pharyn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ottenhoofd (laryn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 (trache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tak (bronch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vertakking (bronchio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eine luchtpijpvertakking (bronch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ndvertakking (eindbronchioo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ngblaasjes (alveo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unctie strottenhoof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keelholte : splits zich in slokdarm en luchtpij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ijdens het eten: huig sluit neus af &amp; strottenklepje  sluit de luchtpijp a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het strottenhoofd bevinden zich de stemband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AFBE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1: t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2: linker keelaman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3: is de hu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4: verhemel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21964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20955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rking van de lo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menselijke longen zien eruit als een sponzige op zijn kop hangende boom. De stam is de luchtpijp; een holle buis van ongeveer 12 centimeter lengte en 2,5 centimeter doorsne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 de borstholte splitst de luchtpijp zich in twee luchtpijptakken (hoofd bronchië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ide hoofd bronchiën splitsen zich in steeds kleinere takken de bronchiol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7236000" y="2781360"/>
            <a:ext cx="106812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ngkwabb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rechterlong 3 kwabben &amp;  linkerlong in 2 kwabb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 iedere longkwab komt een dunne tak van de bronchiën uit. De allerkleinste vertakkingen van de bronchiën eindigen in de longblaasj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578400" y="2897280"/>
            <a:ext cx="34416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ngblaas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longblaasjes (alveoli) gasuitwisseling met het blo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: 3 miljo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pervlakte: 70 en 100 m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lk longblaasje is omgeven door kleine adertjes, capillairen genaamd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-en uitade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81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e longe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schermd door de ribben. Onderkant het middenrif (platte, uiterst krachtige spie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inademing (inspiratie) gaat het middenrif (diafragma) naar beneden waardoor de druk in de longen (borstholte) afneemt en het volume toe neemt, hierdoor stroomt de lucht de longen i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het uitademen (expiratie)  gaat het middenrif omhoog waardoor het volume van de longen afneemt en de druk in de longen toeneemt, hierdoor stroomt de lucht de longen weer u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516720" y="4581360"/>
            <a:ext cx="1396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gegevens adem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bservatie van de Ademhal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arbij let je 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requenti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volwassenen: 15-20 per minuu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epte en gelijkmatigheid  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oppervlakkige ademhaling b.v. longemfyseem; diepe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 ademhaling bewusteloosheid t.g.v. een  bloedsuiker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itm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pauzes tussen de ademhalinge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uid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snurken, zwelling slijmvliezen en piepende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                          ademhaling bij een astmatische aanv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24:40Z</dcterms:created>
  <dc:creator>Rina</dc:creator>
  <dc:description/>
  <dc:language>en-US</dc:language>
  <cp:lastModifiedBy>Cuperus,B.K.</cp:lastModifiedBy>
  <cp:lastPrinted>2012-11-27T09:21:08Z</cp:lastPrinted>
  <dcterms:modified xsi:type="dcterms:W3CDTF">2016-01-30T09:55:07Z</dcterms:modified>
  <cp:revision>162</cp:revision>
  <dc:subject/>
  <dc:title>Tuberculose</dc:title>
</cp:coreProperties>
</file>