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FB5-7D9C-478C-96A6-93721075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442-6624-4C8F-876B-15F1F06A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A06-E187-41A7-9E3A-D8DD79EA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A87-8FA0-419E-B363-F5B333B9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872B-AFEE-4493-BAE2-3F5DE322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A9A7-E926-49FA-8325-AAD6EEAD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4BC0-191D-4EBD-BCB9-0034F7CE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90DA-AA20-49CD-B3AE-E10F8934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079A-5677-4607-AF28-62C6937B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6A0-001F-43B3-B82E-831CF237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F0BC-C7C9-41E4-92C2-7B5742A4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3F3-5728-43FF-B9DD-F30D3FFA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D172-A574-4069-9000-A8E2D00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89D8-5DF2-489C-8267-C850964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5CDD-6E84-4EE6-AA34-6B8EFFA4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E051-5EBE-4F3F-9D81-1789740D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3994-7947-4788-8BB8-C91B6F05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395-32CE-4232-ADBF-AFC129C8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E5E-EDF8-4525-AE7D-7BACD0F3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EAF-E575-49CF-B7A4-ECE09CEA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CFC-C1DD-4639-A551-F62E1899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30C-5E36-40EE-90A4-598A276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351-F1CC-469A-A76A-78836590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B7A-54F4-406F-9EAF-195C239B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5AEC-EB88-4345-AB1C-1AC4308DB1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4CFF-8737-4981-A86F-828AF6AD53D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inhaleren+met+aerochamber&amp;hl=nl&amp;safe=active&amp;rlz=1T4GGIH_nlNL233NL233&amp;biw=1239&amp;bih=656&amp;tbm=isch&amp;tbnid=jLFIasZgcD9zhM:&amp;imgrefurl=http://www.ehow.com/how_7517447_use-aerochamber-mdi.html&amp;docid=2aXHCM8at9NnZM&amp;imgurl=http://img.ehowcdn.com/article-page-main/ehow/images/a07/5d/87/use-aerochamber-mdi-800x800.jpg&amp;w=225&amp;h=220&amp;ei=rPeyTqevLoiN-wbT-oDyAw&amp;zoom=1&amp;iact=hc&amp;vpx=797&amp;vpy=370&amp;dur=2109&amp;hovh=176&amp;hovw=180&amp;tx=64&amp;ty=127&amp;sig=115895126871182023458&amp;page=2&amp;tbnh=115&amp;tbnw=118&amp;start=18&amp;ndsp=20&amp;ved=1t:429,r:11,s:18" TargetMode="External"/><Relationship Id="rId2" Type="http://schemas.openxmlformats.org/officeDocument/2006/relationships/hyperlink" Target="http://www.google.nl/imgres?q=inhaleren+met+aerochamber&amp;hl=nl&amp;safe=active&amp;rlz=1T4GGIH_nlNL233NL233&amp;biw=1239&amp;bih=656&amp;tbm=isch&amp;tbnid=jLFIasZgcD9zhM:&amp;imgrefurl=http://www.ehow.com/how_7517447_use-aerochamber-mdi.html&amp;docid=2aXHCM8at9NnZM&amp;imgurl=http://img.ehowcdn.com/article-page-main/ehow/images/a07/5d/87/use-aerochamber-mdi-800x800.jpg&amp;w=225&amp;h=220&amp;ei=rPeyTqevLoiN-wbT-oDyAw&amp;zoom=1&amp;iact=hc&amp;vpx=797&amp;vpy=370&amp;dur=2109&amp;hovh=176&amp;hovw=180&amp;tx=64&amp;ty=127&amp;sig=115895126871182023458&amp;page=2&amp;tbnh=115&amp;tbnw=118&amp;start=18&amp;ndsp=20&amp;ved=1t:429,r:11,s:18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nl/imgres?q=inhaleren+met+aerochamber&amp;hl=nl&amp;safe=active&amp;rlz=1T4GGIH_nlNL233NL233&amp;biw=1239&amp;bih=656&amp;tbm=isch&amp;tbnid=58_eDp8prTIK2M:&amp;imgrefurl=http://www.erasmusmc.nl/cystic-fibrosis/patientenzorg/behandeling1/inhale/&amp;docid=pFQ2YP1l_EySHM&amp;imgurl=http://www.erasmusmc.nl/alkg-cs/34690131/51016/659264/665805/669779/aerochamber.jpg&amp;w=260&amp;h=206&amp;ei=rPeyTqevLoiN-wbT-oDyAw&amp;zoom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nl/imgres?q=inhaleren+met+aerochamber&amp;hl=nl&amp;safe=active&amp;rlz=1T4GGIH_nlNL233NL233&amp;biw=1239&amp;bih=656&amp;tbm=isch&amp;tbnid=6tSgJlSkfG5jOM:&amp;imgrefurl=http://www.longforum.nl/index.php%3Ftopic%3D10780.0&amp;docid=lOBu4CPOt7lvdM&amp;imgurl=http://kah.org.uk/gfx/volumatic.jpg&amp;w=549&amp;h=230&amp;ei=rPeyTqevLoiN-wbT-oDyAw&amp;zoom=1&amp;iact=rc&amp;dur=125&amp;sig=115895126871182023458&amp;page=2&amp;tbnh=79&amp;tbnw=188&amp;start=18&amp;ndsp=20&amp;ved=1t:429,r:18,s:18&amp;tx=93&amp;ty=66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tras.nl/upload/ondersteuning1.jpg&amp;imgrefurl=http://www.vitras.nl/thuiszorg_inhoud.asp%3Fm%3D9%26s%3D3%26c%3D9&amp;usg=__94Fs-tDgCxswLLYZaHzUlovvVME=&amp;h=280&amp;w=280&amp;sz=28&amp;hl=nl&amp;start=30&amp;um=1&amp;tbnid=pjSC36UMwqRCQM:&amp;tbnh=114&amp;tbnw=114&amp;prev=/images%3Fq%3Dcopd%2Bverpleegkundige%26ndsp%3D20%26hl%3Dnl%26rls%3Dcom.microsoft:nl:IE-SearchBox%26rlz%3D1I7SUNA%26sa%3DN%26start%3D20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-medica.org/ecm/corsi/distanziatori/immagini/dist5.jpg&amp;imgrefurl=http://www.apotheekleusden.nl/page/85/Volumatic%2520met%2520dosisa%25C3%25ABrosol&amp;usg=__byoKVzfNL4WvINl-YtIykMPNcH8=&amp;h=140&amp;w=346&amp;sz=8&amp;hl=nl&amp;start=2&amp;um=1&amp;tbnid=rMtQNhd125QxHM:&amp;tbnh=49&amp;tbnw=120&amp;prev=/images%3Fq%3Ddosisaerosol%26hl%3Dnl%26rls%3Dcom.microsoft:nl:IE-SearchBox%26rlz%3D1I7SUNA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users.telenet.be/apodejonghe/Advies/Puffers/Dosisaerosol/DA2.jpg&amp;imgrefurl=http://users.telenet.be/apodejonghe/Advies/Puffers/Dosisaerosol/dosisaerosol.html&amp;usg=__yXWCsjYb4Rzv6gSjHkYtjiCI-kA=&amp;h=68&amp;w=95&amp;sz=2&amp;hl=nl&amp;start=35&amp;um=1&amp;tbnid=ypLbroDpzkdekM:&amp;tbnh=57&amp;tbnw=80&amp;prev=/images%3Fq%3Ddosisaerosol%26ndsp%3D20%26hl%3Dnl%26rls%3Dcom.microsoft:nl:IE-SearchBox%26rlz%3D1I7SUNA%26sa%3DN%26start%3D20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lmng.nl/images/diskussen.jpg&amp;imgrefurl=http://www.lmng.nl/inhalatie_instructie.php&amp;usg=__G-a-o19qqUeuNTlNYuOSb8GKCqk=&amp;h=248&amp;w=300&amp;sz=13&amp;hl=nl&amp;start=8&amp;um=1&amp;tbnid=lZ78NakV5V0k4M:&amp;tbnh=96&amp;tbnw=116&amp;prev=/images%3Fq%3Dpoederinhalator%26hl%3Dnl%26rls%3Dcom.microsoft:nl:IE-SearchBox%26rlz%3D1I7SUNA%26um%3D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www.asthmameds.ca/images/turbuhaler.jpg&amp;imgrefurl=http://www.asthmameds.ca/turbuhaler.php&amp;usg=__ljptvcDODmNq6RLqJ59fdHFM6P4=&amp;h=236&amp;w=170&amp;sz=12&amp;hl=nl&amp;start=10&amp;um=1&amp;tbnid=2f2Ku62I8V8OkM:&amp;tbnh=109&amp;tbnw=79&amp;prev=/images%3Fq%3Dturbuhaler%26hl%3Dnl%26rls%3Dcom.microsoft:nl:IE-SearchBox%26rlz%3D1I7SUNA%26um%3D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allergy.peds.arizona.edu/southwest/devices/spacers/images/aeroch7.jpg&amp;imgrefurl=http://allergy.peds.arizona.edu/southwest/devices/spacers/aerochamber.htm&amp;usg=__KUYh9zpyxCrvtvt_9aVdN41CIBY=&amp;h=225&amp;w=300&amp;sz=6&amp;hl=nl&amp;start=9&amp;um=1&amp;tbnid=24sqiCtJ8Jcr3M:&amp;tbnh=87&amp;tbnw=116&amp;prev=/images%3Fq%3Daerochamber%26hl%3Dnl%26rls%3Dcom.microsoft:nl:IE-SearchBox%26rlz%3D1I7SUNA%26um%3D1" TargetMode="External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hyperlink" Target="http://images.google.com/imgres?imgurl=http://www.erasmusmc.nl/alkg-cs/34690131/51016/659264/665805/669779/nebuhaler.jpg&amp;imgrefurl=http://www.erasmusmc.nl/alkg-cs/34690131/51016/659264/665805/inhalatiether1%3Flang%3Dnl&amp;usg=__P55IKpiyd6Ng1e0d2_0H3o6ahRg=&amp;h=204&amp;w=260&amp;sz=15&amp;hl=nl&amp;start=1&amp;um=1&amp;tbnid=Iuagkux-Uks9QM:&amp;tbnh=88&amp;tbnw=112&amp;prev=/images%3Fq%3Dnebuhaler%26ndsp%3D20%26hl%3Dnl%26rls%3Dcom.microsoft:nl:IE-SearchBox%26rlz%3D1I7SUNA%26um%3D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telenet.be/apodejonghe/Advies/Puffers/Dosisaerosol/DA2.jpg&amp;imgrefurl=http://users.telenet.be/apodejonghe/Advies/Puffers/Dosisaerosol/dosisaerosol.html&amp;usg=__yXWCsjYb4Rzv6gSjHkYtjiCI-kA=&amp;h=68&amp;w=95&amp;sz=2&amp;hl=nl&amp;start=35&amp;um=1&amp;tbnid=ypLbroDpzkdekM:&amp;tbnh=57&amp;tbnw=80&amp;prev=/images%3Fq%3Ddosisaerosol%26ndsp%3D20%26hl%3Dnl%26rls%3Dcom.microsoft:nl:IE-SearchBox%26rlz%3D1I7SUNA%26sa%3DN%26start%3D20%26um%3D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-medica.org/ecm/corsi/distanziatori/immagini/dist5.jpg&amp;imgrefurl=http://www.apotheekleusden.nl/page/85/Volumatic%2520met%2520dosisa%25C3%25ABrosol&amp;usg=__byoKVzfNL4WvINl-YtIykMPNcH8=&amp;h=140&amp;w=346&amp;sz=8&amp;hl=nl&amp;start=2&amp;um=1&amp;tbnid=rMtQNhd125QxHM:&amp;tbnh=49&amp;tbnw=120&amp;prev=/images%3Fq%3Ddosisaerosol%26hl%3Dnl%26rls%3Dcom.microsoft:nl:IE-SearchBox%26rlz%3D1I7SUNA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Astma en COP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Onderzo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fo geven over de volgende onderwerp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ST-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ak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piromet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nchoscop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sotopen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T-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AST t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rgietest om te kijken voor welke allergenen iemand allergisch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de RAST-test wordt de hoeveelheid IgE (Immuunglobuline E: antistoffen) tegen een bepaald allergeen bepaa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specifieke allergenen (RAST huisstofmijt, RAST katten etc) wordt bloed afgen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ea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= hoeveelheid lucht die de patiënt maximaal kan uitade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 meten met een piekstroommeter (l/min) (eenvoudig instru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ort en krachtig in het apparaat bl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goede maat voor de doorgankelijkheid van de luchtwegen (momentopname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schil tussen waar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en na medicijngebruik (reversibilite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 morgens en ‘s avonds (astma: ‘s morgens slech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en na lichamelijke insp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Spirometr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namelijk gebruikt om COPD te diagnosticeren 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04640"/>
            <a:ext cx="151128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ronchoscop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onderzoek van de luchtpijp met een bronchosc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T-sc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speciaal röntgenonderzoek, computer maakt afbeeldingen van dwarsdoorsneden door het hele lichaam (plakj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T= computertomograf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720"/>
            <a:ext cx="1751040" cy="1175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longen"/>
          <p:cNvPicPr/>
          <p:nvPr/>
        </p:nvPicPr>
        <p:blipFill>
          <a:blip r:embed="rId3"/>
          <a:stretch/>
        </p:blipFill>
        <p:spPr>
          <a:xfrm>
            <a:off x="3635280" y="3500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sotopensc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v PET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dioactieve middelen worden toeged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zichtbaar in de PET sc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kleurtje, lic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98100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95724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95724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046160" y="2336760"/>
            <a:ext cx="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http://t0.gstatic.com/images?q=tbn:ANd9GcTx0c9iu0-d86XUT2pVaKjW3kcTVvo_gRuvtUfUwjzc-2FQo-_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962520"/>
            <a:ext cx="2057400" cy="2011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0"/>
          <p:cNvSpPr/>
          <p:nvPr/>
        </p:nvSpPr>
        <p:spPr>
          <a:xfrm>
            <a:off x="662040" y="23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62040" y="23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6908760" y="3684600"/>
            <a:ext cx="14860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750960" y="2619360"/>
            <a:ext cx="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http://t2.gstatic.com/images?q=tbn:ANd9GcRkwO3-nUmiwaLFe_CseCgoNFbJmFrDbQBuvUu7Yg1JVKJnZGro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371600"/>
            <a:ext cx="2377800" cy="1874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6"/>
          <p:cNvSpPr/>
          <p:nvPr/>
        </p:nvSpPr>
        <p:spPr>
          <a:xfrm>
            <a:off x="3408480" y="28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8" descr="http://t0.gstatic.com/images?q=tbn:ANd9GcQ-bl6jcw4Zh4Wn9i51_GfsOAFkfTvKi7R5s_GmWLzHHLwJrjgqgzxVviU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1676520"/>
            <a:ext cx="3292560" cy="1612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http://www.okokchina.com/Files%5Cupimg2%5CMember_260957.jpg"/>
          <p:cNvPicPr/>
          <p:nvPr/>
        </p:nvPicPr>
        <p:blipFill>
          <a:blip r:embed="rId8"/>
          <a:stretch/>
        </p:blipFill>
        <p:spPr>
          <a:xfrm>
            <a:off x="609480" y="3581280"/>
            <a:ext cx="39625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inhaleren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OODZAK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ondersteuning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2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delen van inhal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komen op de plek waar ze hun werk moeten doen (long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werken snel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komen niet in organen waar ze niet ho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nder medicijn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nder bijwerkin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langrijk voor de 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kunnen uitleggen én voordoen hoe de patiënt moet inha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gorde van inhaleren: starten met kortwerkende sympaticomime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nd spoelen na preventief werkende midd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oorten inhalator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stuivers (dosisaeros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el: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len: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oei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ngeschikt voor kind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stuivers met luchtkamer (dosisaerosol met voorzetkam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 alle leef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einig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el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root apparaat, dus moei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oederinhalator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ngeschikt voor kinderen&lt;6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dist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005360"/>
            <a:ext cx="1143000" cy="46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D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1844640"/>
            <a:ext cx="1050840" cy="749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diskuss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5950080"/>
            <a:ext cx="935280" cy="772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turbuhal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85080" y="5084640"/>
            <a:ext cx="574560" cy="79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aeroch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028000" y="3860640"/>
            <a:ext cx="934920" cy="702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Afbeelding"/>
          <p:cNvPicPr/>
          <p:nvPr/>
        </p:nvPicPr>
        <p:blipFill>
          <a:blip r:embed="rId11"/>
          <a:stretch/>
        </p:blipFill>
        <p:spPr>
          <a:xfrm>
            <a:off x="6804000" y="5084640"/>
            <a:ext cx="934920" cy="7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nebuhal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77080" y="378936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verstui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ud de verstuiver go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em het beschermkapje 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verstuiver met de opening naar ben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uit. Plaats het mondstuk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langzaam in, druk tegelijk op de verstuiver en blijf inad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adem 5-10 tellen v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1 keer per week het mondstuk schoonmaken (spuitbusje even verwijderen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DA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700280"/>
            <a:ext cx="1655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voorzetkam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ud de verstuiver go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de verstuiver op de inhalatieka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eng het voorgeschreven aantal wolkjes / pufjes in de inhalatiekamer (niet meer dan 3 tegelijk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het mondstuk van de inhalatiekamer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ustig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en uit door de inhalatiekamer, zodat u de klep hoort ti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5 keer in en uit (kinderen en volwassen bij kortademigheid 10 ke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minstens 1 keer per week afwassen in een warm sopje, daarna naspoelen met schoon water en laten drogen; 1 keer per jaar een nieuwe voorzetkamer van de 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dist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1800" y="1268280"/>
            <a:ext cx="2024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poederinhalato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ak de inhalator gebruiksklaar (verschilt per inhal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inhalator horizontaal en adem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het mondstuk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krachtig en diep door de mond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em de inhalator uit de m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adem 5 tellen vast en adem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1 keer per week met een vochtige doek het mondstuk schoonm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Afbeelding"/>
          <p:cNvPicPr/>
          <p:nvPr/>
        </p:nvPicPr>
        <p:blipFill>
          <a:blip r:embed="rId1"/>
          <a:stretch/>
        </p:blipFill>
        <p:spPr>
          <a:xfrm>
            <a:off x="7308720" y="1557360"/>
            <a:ext cx="935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Bouland,M.</dc:creator>
  <dc:description/>
  <dc:language>en-US</dc:language>
  <cp:lastModifiedBy>Uw naam</cp:lastModifiedBy>
  <dcterms:modified xsi:type="dcterms:W3CDTF">2016-05-29T06:53:27Z</dcterms:modified>
  <cp:revision>49</cp:revision>
  <dc:subject/>
  <dc:title>Slide 1</dc:title>
</cp:coreProperties>
</file>