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3EC-A34B-4EE2-A2CA-04EB4273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E46-A085-47E4-8109-09027826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C2A-23B5-4A0E-A0E5-F0ECB52E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B60-9CC5-4AA2-A03A-0E436CE3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C952-2C6C-4BFA-99FB-3F6AB070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89D8-313B-46B7-86B7-D03949EF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A51A-EB90-415E-86BD-918A2E78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2102-D2AB-40B6-B55B-A5E3A531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471D-032F-4F83-BC34-2D17D6DE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951D-C5A9-4B61-8A6A-B6AA14DB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6011-76A9-4C93-953D-6746766E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BFB-0D50-4B90-B4D1-04E2201E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8832-6DD7-48C5-93BC-0C2A7747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8DFF-9C05-464D-8536-3DC104BA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45D2-0D73-41C7-BEB9-5F00CE29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BFE1-4F5F-492F-AA70-56CD682F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D20F-662E-4681-977B-1B9501F8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ED7-FF6F-4250-9994-D3955B82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158-51A5-45B7-B6D5-4313427F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AE2-0F2A-480C-B433-3DC28040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BFC-E5F6-4E75-A7FC-6CB9B23B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A59-905B-4A5B-BDDB-58176353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2DF-3D9B-4CBE-8D9E-DB207A01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74A-F6EB-40AB-A90A-A578357C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65E6-6CD5-459D-B10B-44B010956A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4BE6-B702-4EB6-A2DB-9D331D66820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t.nl/longgeneeskunde/onze_longen/astma/behandeling.doc/behandeling-1.png&amp;imgrefurl=http://www.mst.nl/longgeneeskunde/onze_longen/astma/behandeling.doc/&amp;usg=__0lTgJe4hQXkiuX3Vznhxq2EfsRY=&amp;h=190&amp;w=190&amp;sz=35&amp;hl=nl&amp;start=4&amp;um=1&amp;tbnid=lU22MlOlSrc7bM:&amp;tbnh=103&amp;tbnw=103&amp;prev=/images%3Fq%3Dpiekstroommeter%26hl%3Dnl%26rls%3Dcom.microsoft:nl:IE-SearchBox%26rlz%3D1I7SUNA%26sa%3DN%26um%3D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hysiciansofficeresource.com/images-account/product-images/5065-microlab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mng.nl/images/bronchoscoop1.jpg&amp;imgrefurl=http://www.lmng.nl/bronchoscopie.php&amp;usg=__ynb-8_1dRkRqriyU36HVliflxNY=&amp;h=263&amp;w=350&amp;sz=5&amp;hl=nl&amp;start=1&amp;um=1&amp;tbnid=Z4j4DZBzgn2MiM:&amp;tbnh=90&amp;tbnw=120&amp;prev=/images%3Fq%3Dbronchoscoop%26hl%3Dnl%26rls%3Dcom.microsoft:nl:IE-SearchBox%26rlz%3D1I7SUNA%26sa%3DN%26um%3D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dapzoe.nl/images/user/endoscopy2.jpg&amp;imgrefurl=http://www.dapzoe.nl/index.php%3Fgo%3Dtekst%26n%3D18&amp;usg=__V0yf6lS2yueffD-9sy9xhNQw630=&amp;h=191&amp;w=200&amp;sz=10&amp;hl=nl&amp;start=18&amp;um=1&amp;tbnid=QCQhhWHmQlhDHM:&amp;tbnh=99&amp;tbnw=104&amp;prev=/images%3Fq%3Dbronchoscoop%26hl%3Dnl%26rls%3Dcom.microsoft:nl:IE-SearchBox%26rlz%3D1I7SUNA%26sa%3DN%26um%3D1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instituutrenata.com/images/bronchoscopie.jpg&amp;imgrefurl=http://www.instituutrenata.com/content/behandelingen.php&amp;usg=__4EKdzZXuLXHYSfZfGscnqy5YNcM=&amp;h=344&amp;w=400&amp;sz=21&amp;hl=nl&amp;start=8&amp;um=1&amp;tbnid=AuWGMtLURkYRRM:&amp;tbnh=107&amp;tbnw=124&amp;prev=/images%3Fq%3Dbronchoscoop%26hl%3Dnl%26rls%3Dcom.microsoft:nl:IE-SearchBox%26rlz%3D1I7SUNA%26sa%3DN%26um%3D1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uefingers.files.wordpress.com/2008/03/ct-scan.jpg&amp;imgrefurl=http://bluefingers.wordpress.com/2008/03/&amp;usg=__NZKKn0rfAHYDkznJanWRmISxJfg=&amp;h=605&amp;w=901&amp;sz=54&amp;hl=nl&amp;start=1&amp;um=1&amp;tbnid=fY-O8OH8T9VcVM:&amp;tbnh=98&amp;tbnw=146&amp;prev=/images%3Fq%3Dct%2Bscan%26hl%3Dnl%26rls%3Dcom.microsoft:nl:IE-SearchBox%26rlz%3D1I7SUNA%26um%3D1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inhaleren+met+aerochamber&amp;hl=nl&amp;safe=active&amp;rlz=1T4GGIH_nlNL233NL233&amp;biw=1239&amp;bih=656&amp;tbm=isch&amp;tbnid=jLFIasZgcD9zhM:&amp;imgrefurl=http://www.ehow.com/how_7517447_use-aerochamber-mdi.html&amp;docid=2aXHCM8at9NnZM&amp;imgurl=http://img.ehowcdn.com/article-page-main/ehow/images/a07/5d/87/use-aerochamber-mdi-800x800.jpg&amp;w=225&amp;h=220&amp;ei=rPeyTqevLoiN-wbT-oDyAw&amp;zoom=1&amp;iact=hc&amp;vpx=797&amp;vpy=370&amp;dur=2109&amp;hovh=176&amp;hovw=180&amp;tx=64&amp;ty=127&amp;sig=115895126871182023458&amp;page=2&amp;tbnh=115&amp;tbnw=118&amp;start=18&amp;ndsp=20&amp;ved=1t:429,r:11,s:18" TargetMode="External"/><Relationship Id="rId2" Type="http://schemas.openxmlformats.org/officeDocument/2006/relationships/hyperlink" Target="http://www.google.nl/imgres?q=inhaleren+met+aerochamber&amp;hl=nl&amp;safe=active&amp;rlz=1T4GGIH_nlNL233NL233&amp;biw=1239&amp;bih=656&amp;tbm=isch&amp;tbnid=jLFIasZgcD9zhM:&amp;imgrefurl=http://www.ehow.com/how_7517447_use-aerochamber-mdi.html&amp;docid=2aXHCM8at9NnZM&amp;imgurl=http://img.ehowcdn.com/article-page-main/ehow/images/a07/5d/87/use-aerochamber-mdi-800x800.jpg&amp;w=225&amp;h=220&amp;ei=rPeyTqevLoiN-wbT-oDyAw&amp;zoom=1&amp;iact=hc&amp;vpx=797&amp;vpy=370&amp;dur=2109&amp;hovh=176&amp;hovw=180&amp;tx=64&amp;ty=127&amp;sig=115895126871182023458&amp;page=2&amp;tbnh=115&amp;tbnw=118&amp;start=18&amp;ndsp=20&amp;ved=1t:429,r:11,s:18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nl/imgres?q=inhaleren+met+aerochamber&amp;hl=nl&amp;safe=active&amp;rlz=1T4GGIH_nlNL233NL233&amp;biw=1239&amp;bih=656&amp;tbm=isch&amp;tbnid=58_eDp8prTIK2M:&amp;imgrefurl=http://www.erasmusmc.nl/cystic-fibrosis/patientenzorg/behandeling1/inhale/&amp;docid=pFQ2YP1l_EySHM&amp;imgurl=http://www.erasmusmc.nl/alkg-cs/34690131/51016/659264/665805/669779/aerochamber.jpg&amp;w=260&amp;h=206&amp;ei=rPeyTqevLoiN-wbT-oDyAw&amp;zoom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nl/imgres?q=inhaleren+met+aerochamber&amp;hl=nl&amp;safe=active&amp;rlz=1T4GGIH_nlNL233NL233&amp;biw=1239&amp;bih=656&amp;tbm=isch&amp;tbnid=6tSgJlSkfG5jOM:&amp;imgrefurl=http://www.longforum.nl/index.php%3Ftopic%3D10780.0&amp;docid=lOBu4CPOt7lvdM&amp;imgurl=http://kah.org.uk/gfx/volumatic.jpg&amp;w=549&amp;h=230&amp;ei=rPeyTqevLoiN-wbT-oDyAw&amp;zoom=1&amp;iact=rc&amp;dur=125&amp;sig=115895126871182023458&amp;page=2&amp;tbnh=79&amp;tbnw=188&amp;start=18&amp;ndsp=20&amp;ved=1t:429,r:18,s:18&amp;tx=93&amp;ty=66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itras.nl/upload/ondersteuning1.jpg&amp;imgrefurl=http://www.vitras.nl/thuiszorg_inhoud.asp%3Fm%3D9%26s%3D3%26c%3D9&amp;usg=__94Fs-tDgCxswLLYZaHzUlovvVME=&amp;h=280&amp;w=280&amp;sz=28&amp;hl=nl&amp;start=30&amp;um=1&amp;tbnid=pjSC36UMwqRCQM:&amp;tbnh=114&amp;tbnw=114&amp;prev=/images%3Fq%3Dcopd%2Bverpleegkundige%26ndsp%3D20%26hl%3Dnl%26rls%3Dcom.microsoft:nl:IE-SearchBox%26rlz%3D1I7SUNA%26sa%3DN%26start%3D20%26um%3D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-medica.org/ecm/corsi/distanziatori/immagini/dist5.jpg&amp;imgrefurl=http://www.apotheekleusden.nl/page/85/Volumatic%2520met%2520dosisa%25C3%25ABrosol&amp;usg=__byoKVzfNL4WvINl-YtIykMPNcH8=&amp;h=140&amp;w=346&amp;sz=8&amp;hl=nl&amp;start=2&amp;um=1&amp;tbnid=rMtQNhd125QxHM:&amp;tbnh=49&amp;tbnw=120&amp;prev=/images%3Fq%3Ddosisaerosol%26hl%3Dnl%26rls%3Dcom.microsoft:nl:IE-SearchBox%26rlz%3D1I7SUNA%26um%3D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users.telenet.be/apodejonghe/Advies/Puffers/Dosisaerosol/DA2.jpg&amp;imgrefurl=http://users.telenet.be/apodejonghe/Advies/Puffers/Dosisaerosol/dosisaerosol.html&amp;usg=__yXWCsjYb4Rzv6gSjHkYtjiCI-kA=&amp;h=68&amp;w=95&amp;sz=2&amp;hl=nl&amp;start=35&amp;um=1&amp;tbnid=ypLbroDpzkdekM:&amp;tbnh=57&amp;tbnw=80&amp;prev=/images%3Fq%3Ddosisaerosol%26ndsp%3D20%26hl%3Dnl%26rls%3Dcom.microsoft:nl:IE-SearchBox%26rlz%3D1I7SUNA%26sa%3DN%26start%3D20%26um%3D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lmng.nl/images/diskussen.jpg&amp;imgrefurl=http://www.lmng.nl/inhalatie_instructie.php&amp;usg=__G-a-o19qqUeuNTlNYuOSb8GKCqk=&amp;h=248&amp;w=300&amp;sz=13&amp;hl=nl&amp;start=8&amp;um=1&amp;tbnid=lZ78NakV5V0k4M:&amp;tbnh=96&amp;tbnw=116&amp;prev=/images%3Fq%3Dpoederinhalator%26hl%3Dnl%26rls%3Dcom.microsoft:nl:IE-SearchBox%26rlz%3D1I7SUNA%26um%3D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www.asthmameds.ca/images/turbuhaler.jpg&amp;imgrefurl=http://www.asthmameds.ca/turbuhaler.php&amp;usg=__ljptvcDODmNq6RLqJ59fdHFM6P4=&amp;h=236&amp;w=170&amp;sz=12&amp;hl=nl&amp;start=10&amp;um=1&amp;tbnid=2f2Ku62I8V8OkM:&amp;tbnh=109&amp;tbnw=79&amp;prev=/images%3Fq%3Dturbuhaler%26hl%3Dnl%26rls%3Dcom.microsoft:nl:IE-SearchBox%26rlz%3D1I7SUNA%26um%3D1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allergy.peds.arizona.edu/southwest/devices/spacers/images/aeroch7.jpg&amp;imgrefurl=http://allergy.peds.arizona.edu/southwest/devices/spacers/aerochamber.htm&amp;usg=__KUYh9zpyxCrvtvt_9aVdN41CIBY=&amp;h=225&amp;w=300&amp;sz=6&amp;hl=nl&amp;start=9&amp;um=1&amp;tbnid=24sqiCtJ8Jcr3M:&amp;tbnh=87&amp;tbnw=116&amp;prev=/images%3Fq%3Daerochamber%26hl%3Dnl%26rls%3Dcom.microsoft:nl:IE-SearchBox%26rlz%3D1I7SUNA%26um%3D1" TargetMode="External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hyperlink" Target="http://images.google.com/imgres?imgurl=http://www.erasmusmc.nl/alkg-cs/34690131/51016/659264/665805/669779/nebuhaler.jpg&amp;imgrefurl=http://www.erasmusmc.nl/alkg-cs/34690131/51016/659264/665805/inhalatiether1%3Flang%3Dnl&amp;usg=__P55IKpiyd6Ng1e0d2_0H3o6ahRg=&amp;h=204&amp;w=260&amp;sz=15&amp;hl=nl&amp;start=1&amp;um=1&amp;tbnid=Iuagkux-Uks9QM:&amp;tbnh=88&amp;tbnw=112&amp;prev=/images%3Fq%3Dnebuhaler%26ndsp%3D20%26hl%3Dnl%26rls%3Dcom.microsoft:nl:IE-SearchBox%26rlz%3D1I7SUNA%26um%3D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telenet.be/apodejonghe/Advies/Puffers/Dosisaerosol/DA2.jpg&amp;imgrefurl=http://users.telenet.be/apodejonghe/Advies/Puffers/Dosisaerosol/dosisaerosol.html&amp;usg=__yXWCsjYb4Rzv6gSjHkYtjiCI-kA=&amp;h=68&amp;w=95&amp;sz=2&amp;hl=nl&amp;start=35&amp;um=1&amp;tbnid=ypLbroDpzkdekM:&amp;tbnh=57&amp;tbnw=80&amp;prev=/images%3Fq%3Ddosisaerosol%26ndsp%3D20%26hl%3Dnl%26rls%3Dcom.microsoft:nl:IE-SearchBox%26rlz%3D1I7SUNA%26sa%3DN%26start%3D20%26um%3D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-medica.org/ecm/corsi/distanziatori/immagini/dist5.jpg&amp;imgrefurl=http://www.apotheekleusden.nl/page/85/Volumatic%2520met%2520dosisa%25C3%25ABrosol&amp;usg=__byoKVzfNL4WvINl-YtIykMPNcH8=&amp;h=140&amp;w=346&amp;sz=8&amp;hl=nl&amp;start=2&amp;um=1&amp;tbnid=rMtQNhd125QxHM:&amp;tbnh=49&amp;tbnw=120&amp;prev=/images%3Fq%3Ddosisaerosol%26hl%3Dnl%26rls%3Dcom.microsoft:nl:IE-SearchBox%26rlz%3D1I7SUNA%26um%3D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Astma en COP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Onderzo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fo geven over de volgende onderwerp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AST-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ak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piromet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nchoscop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sotopens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T-s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AST t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rgietest om te kijken voor welke allergenen iemand allergisch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 de RAST-test wordt de hoeveelheid IgE (Immuunglobuline E: antistoffen) tegen een bepaald allergeen bepaa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specifieke allergenen (RAST huisstofmijt, RAST katten etc) wordt bloed afgen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eakfl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= hoeveelheid lucht die de patiënt maximaal kan uitade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 meten met een piekstroommeter (l/min) (eenvoudig instru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ort en krachtig in het apparaat bla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edelijk goede maat voor de doorgankelijkheid van de luchtwegen (momentopname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rschil tussen waar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en na medicijngebruik (reversibilite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 morgens en ‘s avonds (astma: ‘s morgens slech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en na lichamelijke insp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behandeling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8900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Spirometr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namelijk gebruikt om COPD te diagnosticeren 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patiënt ademt maximaal krachtig in en uit in de spirometer -&gt; grafiek = spi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rm van de grafiek zegt iets over de mate en ernst van de obstruc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EV1=hoeveelheid lucht die in 1 sec kan worden uitgeblazen na maximale inade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C=hoeveelheid lucht die maximaal in totaal kan worden uitgeblazen na maximale inade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04640"/>
            <a:ext cx="151128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ronchoscop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onderzoek van de luchtpijp met een bronchosc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ronchosco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637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endoscop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4365720"/>
            <a:ext cx="1728720" cy="1646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bronchoscop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79640" y="4292640"/>
            <a:ext cx="21607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T-sc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speciaal röntgenonderzoek, computer maakt afbeeldingen van dwarsdoorsneden door het hele lichaam (plakj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T= computertomograf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ct-sc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50720"/>
            <a:ext cx="1751040" cy="1175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longen"/>
          <p:cNvPicPr/>
          <p:nvPr/>
        </p:nvPicPr>
        <p:blipFill>
          <a:blip r:embed="rId3"/>
          <a:stretch/>
        </p:blipFill>
        <p:spPr>
          <a:xfrm>
            <a:off x="3635280" y="35002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sotopensc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v PET s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adioactieve middelen worden toegedi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rden zichtbaar in de PET sc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kleurtje, lic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180px-PET_scan_Parkinson%27s_Disease"/>
          <p:cNvPicPr/>
          <p:nvPr/>
        </p:nvPicPr>
        <p:blipFill>
          <a:blip r:embed="rId1"/>
          <a:stretch/>
        </p:blipFill>
        <p:spPr>
          <a:xfrm>
            <a:off x="6732720" y="981000"/>
            <a:ext cx="17143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957240" y="208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957240" y="208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046160" y="2336760"/>
            <a:ext cx="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8" descr="http://t0.gstatic.com/images?q=tbn:ANd9GcTx0c9iu0-d86XUT2pVaKjW3kcTVvo_gRuvtUfUwjzc-2FQo-_q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3962520"/>
            <a:ext cx="2057400" cy="20113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0"/>
          <p:cNvSpPr/>
          <p:nvPr/>
        </p:nvSpPr>
        <p:spPr>
          <a:xfrm>
            <a:off x="662040" y="236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662040" y="236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6908760" y="3684600"/>
            <a:ext cx="14860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750960" y="2619360"/>
            <a:ext cx="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http://t2.gstatic.com/images?q=tbn:ANd9GcRkwO3-nUmiwaLFe_CseCgoNFbJmFrDbQBuvUu7Yg1JVKJnZGrov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371600"/>
            <a:ext cx="2377800" cy="1874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6"/>
          <p:cNvSpPr/>
          <p:nvPr/>
        </p:nvSpPr>
        <p:spPr>
          <a:xfrm>
            <a:off x="3408480" y="2851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8" descr="http://t0.gstatic.com/images?q=tbn:ANd9GcQ-bl6jcw4Zh4Wn9i51_GfsOAFkfTvKi7R5s_GmWLzHHLwJrjgqgzxVviU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1676520"/>
            <a:ext cx="3292560" cy="1612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9" descr="http://www.okokchina.com/Files%5Cupimg2%5CMember_260957.jpg"/>
          <p:cNvPicPr/>
          <p:nvPr/>
        </p:nvPicPr>
        <p:blipFill>
          <a:blip r:embed="rId8"/>
          <a:stretch/>
        </p:blipFill>
        <p:spPr>
          <a:xfrm>
            <a:off x="609480" y="3581280"/>
            <a:ext cx="396252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 inhaleren 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NOODZAK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ondersteuning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213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delen van inhal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komen op de plek waar ze hun werk moeten doen (long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werken snell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komen niet in organen waar ze niet ho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inder medicijn nod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inder bijwerking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langrijk voor de 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 kunnen uitleggen én voordoen hoe de patiënt moet inhal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lgorde van inhaleren: starten met kortwerkende sympaticomime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nd spoelen na preventief werkende midde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oorten inhalator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stuivers (dosisaeros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deel: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mee te n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len: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oeilijk te 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ngeschikt voor kind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kracht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stuivers met luchtkamer (dosisaerosol met voorzetkam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delen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 alle leef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weinig kracht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te 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el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root apparaat, dus moeilijk mee te n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oederinhalator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delen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mee te n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te 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len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ngeschikt voor kinderen&lt;6j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kracht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dist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005360"/>
            <a:ext cx="1143000" cy="466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D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1844640"/>
            <a:ext cx="1050840" cy="749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diskusse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08720" y="5950080"/>
            <a:ext cx="935280" cy="772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turbuhal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85080" y="5084640"/>
            <a:ext cx="574560" cy="792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aeroch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028000" y="3860640"/>
            <a:ext cx="934920" cy="702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7" descr="Afbeelding"/>
          <p:cNvPicPr/>
          <p:nvPr/>
        </p:nvPicPr>
        <p:blipFill>
          <a:blip r:embed="rId11"/>
          <a:stretch/>
        </p:blipFill>
        <p:spPr>
          <a:xfrm>
            <a:off x="6804000" y="5084640"/>
            <a:ext cx="934920" cy="771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9" descr="nebuhaler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77080" y="3789360"/>
            <a:ext cx="1066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Inhaleren met een verstui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ud de verstuiver go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em het beschermkapje 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verstuiver met de opening naar ben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uit. Plaats het mondstuk tussen de tanden en sluit de lippen om het mondst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langzaam in, druk tegelijk op de verstuiver en blijf inad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adem 5-10 tellen v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T OP: 1 keer per week het mondstuk schoonmaken (spuitbusje even verwijderen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DA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700280"/>
            <a:ext cx="16556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Inhaleren met een voorzetkam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ud de verstuiver go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de verstuiver op de inhalatieka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eng het voorgeschreven aantal wolkjes / pufjes in de inhalatiekamer (niet meer dan 3 tegelijk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het mondstuk van de inhalatiekamer tussen de tanden en sluit de lippen om het mondst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ustig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en uit door de inhalatiekamer, zodat u de klep hoort ti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5 keer in en uit (kinderen en volwassen bij kortademigheid 10 ke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T OP: minstens 1 keer per week afwassen in een warm sopje, daarna naspoelen met schoon water en laten drogen; 1 keer per jaar een nieuwe voorzetkamer van de 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dist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11800" y="1268280"/>
            <a:ext cx="202428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Inhaleren met een poederinhalato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aak de inhalator gebruiksklaar (verschilt per inhal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inhalator horizontaal en adem 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het mondstuk tussen de tanden en sluit de lippen om het mondst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krachtig en diep door de mond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em de inhalator uit de m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adem 5 tellen vast en adem 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T OP: 1 keer per week met een vochtige doek het mondstuk schoonma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Afbeelding"/>
          <p:cNvPicPr/>
          <p:nvPr/>
        </p:nvPicPr>
        <p:blipFill>
          <a:blip r:embed="rId1"/>
          <a:stretch/>
        </p:blipFill>
        <p:spPr>
          <a:xfrm>
            <a:off x="7308720" y="1557360"/>
            <a:ext cx="935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6:22:11Z</dcterms:created>
  <dc:creator>Bouland,M.</dc:creator>
  <dc:description/>
  <dc:language>en-US</dc:language>
  <cp:lastModifiedBy>Uw naam</cp:lastModifiedBy>
  <dcterms:modified xsi:type="dcterms:W3CDTF">2016-05-29T06:53:27Z</dcterms:modified>
  <cp:revision>49</cp:revision>
  <dc:subject/>
  <dc:title>Slide 1</dc:title>
</cp:coreProperties>
</file>