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804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4400" y="744120"/>
            <a:ext cx="4965840" cy="3724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F9456-D4AB-48A5-A12A-61DA1709ED5D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ijdelijke aanduiding voor dianummer 3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7321A-FC7E-4321-B000-C531FD9B20A4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Tijdelijke aanduiding voor dianummer 3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962AC-BC91-48E8-B1D1-4EDD1C5002A5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2524-A019-4511-88F3-B2FC61A61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1547-F1ED-4A50-BC36-A99B800F9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37EA-4123-4467-B5DE-D4F1A8321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44FD-E3F8-496C-9A31-6A0D8BE7E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633A-C302-487A-81C2-78CAD1F9A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B122-14FB-4936-8040-DFBD67EDE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742E-9129-41B1-8095-EFE620CBE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DE81-801D-48C0-B352-DF9FF64CF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88EE-4187-40A5-90EB-B1A4B23BD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A337-88D0-4D4C-8D3D-C4A0B1C50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6D5A-C72F-4896-9B18-52F159F35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1E7B-F640-41EB-8D7D-63A1286C2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MK hoesten bronchits longontsteking  bijgesteld  29-1-2016  Bouke Cupe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29885-D9CF-490B-BE13-226D0C378FA6}" type="slidenum">
              <a:rPr b="0" lang="nl-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s://www.longfonds.nl/longontsteking/oorzaken-longontsteking" TargetMode="External"/><Relationship Id="rId2" Type="http://schemas.openxmlformats.org/officeDocument/2006/relationships/hyperlink" Target="http://www.mijnlongen.nl/Hoesten/49bfd7af/1/Hoesten.aspx" TargetMode="External"/><Relationship Id="rId3" Type="http://schemas.openxmlformats.org/officeDocument/2006/relationships/hyperlink" Target="https://youtu.be/n1GNua2JvyM" TargetMode="External"/><Relationship Id="rId4" Type="http://schemas.openxmlformats.org/officeDocument/2006/relationships/hyperlink" Target="https://youtu.be/Roahgmt43dA" TargetMode="Externa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Hoesten, Bronchitis en Pneunom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ijdelijke aanduiding voor voettekst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MK hoesten bronchits longontsteking  bijgesteld  29-1-2016  Bouke Cupe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644400" y="1700280"/>
            <a:ext cx="3924360" cy="2771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"/>
          <p:cNvPicPr/>
          <p:nvPr/>
        </p:nvPicPr>
        <p:blipFill>
          <a:blip r:embed="rId2"/>
          <a:stretch/>
        </p:blipFill>
        <p:spPr>
          <a:xfrm>
            <a:off x="4859280" y="1916280"/>
            <a:ext cx="2592360" cy="40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Ziekten van de lagere luchtwege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395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Inhou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Calibri"/>
              </a:rPr>
              <a:t>Hoest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Calibri"/>
              </a:rPr>
              <a:t>Acute Bronchit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Calibri"/>
              </a:rPr>
              <a:t>Pneumon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6" descr=""/>
          <p:cNvPicPr/>
          <p:nvPr/>
        </p:nvPicPr>
        <p:blipFill>
          <a:blip r:embed="rId1"/>
          <a:stretch/>
        </p:blipFill>
        <p:spPr>
          <a:xfrm>
            <a:off x="3635280" y="1944720"/>
            <a:ext cx="1965600" cy="3451320"/>
          </a:xfrm>
          <a:prstGeom prst="rect">
            <a:avLst/>
          </a:prstGeom>
          <a:ln w="0">
            <a:noFill/>
          </a:ln>
        </p:spPr>
      </p:pic>
      <p:sp>
        <p:nvSpPr>
          <p:cNvPr id="86" name="Tijdelijke aanduiding voor voettekst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MK hoesten bronchits longontsteking  bijgesteld  29-1-2016  Bouke Cupe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Hoest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Hoesten: explosief verlopende uitademing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Bij gesloten strottenklep (epiglottis) en stemspleet wordt druk opgebouw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Onproductieve hoest : hoest die geen slijm vrijmaakt uit de long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Productieve hoest : het ophoesten van slij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ijdelijke aanduiding voor voettekst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MK hoesten bronchits longontsteking  bijgesteld  29-1-2016  Bouke Cupe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Hoest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oe komt he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oesten:  reactie lichaam op prikke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oor infectie (bacterie of virus) meer slij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oesten voert slijm af (sputu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ij verkoudheid  slijmvlies ontstoken;  slij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ijdelijke aanduiding voor voettekst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MK hoesten bronchits longontsteking  bijgesteld  29-1-2016  Bouke Cupe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IJL-OMLAAG 4"/>
          <p:cNvSpPr/>
          <p:nvPr/>
        </p:nvSpPr>
        <p:spPr>
          <a:xfrm flipV="1">
            <a:off x="7956720" y="4507920"/>
            <a:ext cx="242640" cy="433080"/>
          </a:xfrm>
          <a:prstGeom prst="downArrow">
            <a:avLst>
              <a:gd name="adj1" fmla="val 50000"/>
              <a:gd name="adj2" fmla="val 5001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Hoesten die niet onschuldig  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oesten door Rok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ronchit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Pneumon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ijdelijke aanduiding voor voettekst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MK hoesten bronchits longontsteking  bijgesteld  29-1-2016  Bouke Cupe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Hoesten door Tabaksroo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Tabaksrook:  kan COPD en longkanker veroorzak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ijdelijke aanduiding voor voettekst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MK hoesten bronchits longontsteking  bijgesteld  29-1-2016  Bouke Cupe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3" descr=""/>
          <p:cNvPicPr/>
          <p:nvPr/>
        </p:nvPicPr>
        <p:blipFill>
          <a:blip r:embed="rId1"/>
          <a:stretch/>
        </p:blipFill>
        <p:spPr>
          <a:xfrm>
            <a:off x="5796000" y="2814480"/>
            <a:ext cx="2857320" cy="18576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"/>
          <p:cNvPicPr/>
          <p:nvPr/>
        </p:nvPicPr>
        <p:blipFill>
          <a:blip r:embed="rId2"/>
          <a:stretch/>
        </p:blipFill>
        <p:spPr>
          <a:xfrm>
            <a:off x="3780000" y="2827440"/>
            <a:ext cx="1923840" cy="28573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3"/>
          <a:stretch/>
        </p:blipFill>
        <p:spPr>
          <a:xfrm>
            <a:off x="685800" y="2827440"/>
            <a:ext cx="2857680" cy="16002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4"/>
          <a:stretch/>
        </p:blipFill>
        <p:spPr>
          <a:xfrm>
            <a:off x="685800" y="4581360"/>
            <a:ext cx="2286000" cy="17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Oorzaken chronische ho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68360" y="141264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stm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COP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Chronische bronchit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Gastro-oesophageale reflux (maagzuur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Bronchie-ectasien (abnormaal permanent verwijde luchtpijpjes (bronchieen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Bronchiolit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Longkank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Verslikken als gevolg van slecht functionerend slikmechanis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Medicijnen (ACE remmers 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Werk- en omgevingsgerelateer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Tuberculose en andere langdurige infec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ijdelijke aanduiding voor voettekst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MK hoesten bronchits longontsteking  bijgesteld  29-1-2016  Bouke Cupe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Wat is bronchitis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Bij bronchitis is de wand van de bronchiën ontstoken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Er zijn twee soorten: 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acute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 en 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chronische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 bronchiti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Bij acute bronchitis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ontstaat de ontsteking van de bronchiën na een verkoudheid of griep. Deze ontsteking gaat na een tijdje weer ove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Bij chronische bronchitis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bent u niet eerst grieperig of verkouden geweest. Bij chronische bronchitis merkt u dat het soms even wat beter gaat, maar dat het hoesten weer terugkomt. De ontsteking is blijvend.(oorzaak o.a. roke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De afkorting COPD betekent Chronic Obstructive Pulmonary Disease (Chronische Obstructieve Longziekte). Het is een verzamelnaam voor de ziekten chronische bronchitis en longemfysee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Bij chronische bronchitis zijn de vertakkingen van uw luchtpijp blijvend ontstoken. Deze vertakkingen heten de bronchiën. Als een ziekte blijvend is, noemen we dat chronisch. (https://www.longfonds.nl/copd/alles-over-copd/chronische-bronchiti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ijdelijke aanduiding voor voettekst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MK hoesten bronchits longontsteking  bijgesteld  29-1-2016  Bouke Cupe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Acute Bronchit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618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Beschrijving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Ontsteking van het slijmvlies in de Bronchië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Wat gebeurd er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Overtollig slijm aangemaak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Luchtwegen worden nauw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Oorzaak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Zware kou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Vir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ijdelijke aanduiding voor voettekst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MK hoesten bronchits longontsteking  bijgesteld  29-1-2016  Bouke Cupe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Acute Bronchiti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24000" y="141264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Symptom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Hevig hoesten, eerst enkele dagen droog 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daarna slijm opgev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Benauwd gevoel/ kortademi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Soms ook piepende ademha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Vaak geen koor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5940360" y="3284640"/>
            <a:ext cx="2524320" cy="1809720"/>
          </a:xfrm>
          <a:prstGeom prst="rect">
            <a:avLst/>
          </a:prstGeom>
          <a:ln w="0">
            <a:noFill/>
          </a:ln>
        </p:spPr>
      </p:pic>
      <p:sp>
        <p:nvSpPr>
          <p:cNvPr id="116" name="Tijdelijke aanduiding voor voettekst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MK hoesten bronchits longontsteking  bijgesteld  29-1-2016  Bouke Cupe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Onderzoe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9528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namnes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uscultat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XF-Thora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putumkwee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Longfunctie test (so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ijdelijke aanduiding voor voettekst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MK hoesten bronchits longontsteking  bijgesteld  29-1-2016  Bouke Cupe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5076720" y="1773360"/>
            <a:ext cx="346392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Anatom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54" name="Tijdelijke aanduiding voor voettekst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MK hoesten bronchits longontsteking  bijgesteld  29-1-2016  Bouke Cupe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2"/>
          <a:stretch/>
        </p:blipFill>
        <p:spPr>
          <a:xfrm>
            <a:off x="468360" y="1484280"/>
            <a:ext cx="8064360" cy="32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Therapie / verlo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Acute bronchitis geneest meestal vanzelf. De ontsteking is na ongeveer twee weken verdwenen. Toch kunt u nog weken last hebben van een zeurende hoest. U kunt ook last hebben van pijn bij het hoesten en vermoeidheid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WAT KUNT U ZELF DOEN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rustig aan doe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Voldoende drinken, zeker als u koorts heef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Als u pijn heeft kunnen pijnstillers helpe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ijdelijke aanduiding voor voettekst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MK hoesten bronchits longontsteking  bijgesteld  29-1-2016  Bouke Cupe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74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Pneumoni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95280" y="126792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Beschrijving: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Longontsteking: Infectie van de  longblaasjes  (alveoli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Oorzaken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vir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bacteri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Schimm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parasi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ijdelijke aanduiding voor voettekst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MK hoesten bronchits longontsteking  bijgesteld  29-1-2016  Bouke Cupe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5" descr=""/>
          <p:cNvPicPr/>
          <p:nvPr/>
        </p:nvPicPr>
        <p:blipFill>
          <a:blip r:embed="rId1"/>
          <a:stretch/>
        </p:blipFill>
        <p:spPr>
          <a:xfrm>
            <a:off x="4859280" y="2781360"/>
            <a:ext cx="239076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WANNEER HEEFT U MEER KANS OP EEN LONGONTSTEKING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een lage weerstand: een heftige verkoudheid of griep kan overgaan in een longontstek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leeftijd: mensen jonger dan 10 en ouder dan 55 hebben meer kans op een longontstek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een blijvende longziekte, zoals astma , COPD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(mee)roken: rokers hebben een vier keer zo grote kans op een longontstek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luchtvervuil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iabet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hartproblem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ondervoed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inslikken van voorwerp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verslikk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verlamming of bewustelooshei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slikstoornissen, bijvoorbeeld bij een spierziekte of na een bero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ijdelijke aanduiding voor voettekst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MK hoesten bronchits longontsteking  bijgesteld  29-1-2016  Bouke Cupe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Pneumon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Symptom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Hoge koor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Kortademighei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Pijn op de borst bij ademha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Hoes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Opgeven van slijm (wit, geel, groen of bloederig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ijdelijke aanduiding voor voettekst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MK hoesten bronchits longontsteking  bijgesteld  29-1-2016  Bouke Cupe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6000840" y="1773360"/>
            <a:ext cx="26096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Onderzoe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namnes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uscultat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XF-Thora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putumkwee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Longfunctie test (so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ijdelijke aanduiding voor voettekst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MK hoesten bronchits longontsteking  bijgesteld  29-1-2016  Bouke Cupe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2" descr=""/>
          <p:cNvPicPr/>
          <p:nvPr/>
        </p:nvPicPr>
        <p:blipFill>
          <a:blip r:embed="rId1"/>
          <a:stretch/>
        </p:blipFill>
        <p:spPr>
          <a:xfrm>
            <a:off x="5724360" y="3429000"/>
            <a:ext cx="2619720" cy="17431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" descr=""/>
          <p:cNvPicPr/>
          <p:nvPr/>
        </p:nvPicPr>
        <p:blipFill>
          <a:blip r:embed="rId2"/>
          <a:stretch/>
        </p:blipFill>
        <p:spPr>
          <a:xfrm>
            <a:off x="6084720" y="1197000"/>
            <a:ext cx="209232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Behandeling Pneumon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erloo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Vaak binnen 2 weken vanzelf ov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Bij rokers kan het langer du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Antibiotica vaak werkzaam en niet nodi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Wel antibiotica: bij een echte longontsteking en bij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kwetsbare groep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(Kwetsbare groepen: chronische aandoening, lage weerstand, baby’s en oude mensen 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ijdelijke aanduiding voor voettekst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MK hoesten bronchits longontsteking  bijgesteld  29-1-2016  Bouke Cupe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Pneumon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Adviez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De volgende adviezen zijn belangrijk bij een longontsteking: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Drink voldoende, zeker als u koorts heef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Neem rust als u slap, zwak of moe b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Rook niet en vraag de mensen in uw omgeving om niet te rok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Tijdelijke aanduiding voor voettekst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MK hoesten bronchits longontsteking  bijgesteld  29-1-2016  Bouke Cupe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Verwijzing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s://www.longfonds.nl/longontsteking/oorzaken-longontstek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mijnlongen.nl/Hoesten/49bfd7af/1/Hoesten.asp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s://youtu.be/n1GNua2JvyM</a:t>
            </a:r>
            <a:r>
              <a:rPr b="0" lang="nl-NL" sz="2400" spc="-1" strike="noStrike">
                <a:solidFill>
                  <a:srgbClr val="ff0000"/>
                </a:solidFill>
                <a:latin typeface="Calibri"/>
              </a:rPr>
              <a:t> (longontsteking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s://youtu.be/Roahgmt43dA</a:t>
            </a:r>
            <a:r>
              <a:rPr b="0" lang="nl-NL" sz="2400" spc="-1" strike="noStrike">
                <a:solidFill>
                  <a:srgbClr val="ff0000"/>
                </a:solidFill>
                <a:latin typeface="Calibri"/>
              </a:rPr>
              <a:t> (acute bronchiti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ijdelijke aanduiding voor voettekst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MK hoesten bronchits longontsteking  bijgesteld  29-1-2016  Bouke Cupe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Ademhaling via de long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599840"/>
            <a:ext cx="822960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Route van buiten naar binn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1f497d"/>
                </a:solidFill>
                <a:latin typeface="Calibri"/>
              </a:rPr>
              <a:t>DE LONGEN:       https://www.youtube.com/watch?feature=player_embedded&amp;v=4vCnpkwcr1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neu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mondhol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keelholte (pharynx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Stottenhoofd (larynx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Luchtpijp (trache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Luchtpijptak (bronchu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Luchtpijpvertakking (bronchioli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Kleine luchtpijpvertakking (bronchi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Eindvertakking (eindbronchiool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Longblaasjes (alveoli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ijdelijke aanduiding voor voettekst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MK hoesten bronchits longontsteking  bijgesteld  29-1-2016  Bouke Cupe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Functie strottenhoof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keelholte : splits zich in slokdarm en luchtpijp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Tijdens het eten: huig sluit neus af &amp; strottenklepje  sluit de luchtpijp a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In het strottenhoofd bevinden zich de stembanden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1f497d"/>
                </a:solidFill>
                <a:latin typeface="Calibri"/>
              </a:rPr>
              <a:t>AFBEELD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1f497d"/>
                </a:solidFill>
                <a:latin typeface="Calibri"/>
              </a:rPr>
              <a:t>1: to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1f497d"/>
                </a:solidFill>
                <a:latin typeface="Calibri"/>
              </a:rPr>
              <a:t>2: linker keelamand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1f497d"/>
                </a:solidFill>
                <a:latin typeface="Calibri"/>
              </a:rPr>
              <a:t>3: is de hu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1f497d"/>
                </a:solidFill>
                <a:latin typeface="Calibri"/>
              </a:rPr>
              <a:t>4: verhemel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ijdelijke aanduiding voor voettekst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MK hoesten bronchits longontsteking  bijgesteld  29-1-2016  Bouke Cupe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5219640" y="3068640"/>
            <a:ext cx="2305080" cy="19810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"/>
          <p:cNvPicPr/>
          <p:nvPr/>
        </p:nvPicPr>
        <p:blipFill>
          <a:blip r:embed="rId2"/>
          <a:stretch/>
        </p:blipFill>
        <p:spPr>
          <a:xfrm>
            <a:off x="2268360" y="3068640"/>
            <a:ext cx="2095560" cy="20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Werking van de long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De menselijke longen zien eruit als een sponzige op zijn kop hangende boom. De stam is de luchtpijp; een holle buis van ongeveer 12 centimeter lengte en 2,5 centimeter doorsned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In de borstholte splitst de luchtpijp zich in twee luchtpijptakken (hoofd bronchiën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Beide hoofd bronchiën splitsen zich in steeds kleinere takken de bronchioli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ijdelijke aanduiding voor voettekst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MK hoesten bronchits longontsteking  bijgesteld  29-1-2016  Bouke Cupe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7" descr=""/>
          <p:cNvPicPr/>
          <p:nvPr/>
        </p:nvPicPr>
        <p:blipFill>
          <a:blip r:embed="rId1"/>
          <a:stretch/>
        </p:blipFill>
        <p:spPr>
          <a:xfrm>
            <a:off x="7236000" y="2781360"/>
            <a:ext cx="106812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Longkwabb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De rechterlong 3 kwabben &amp;  linkerlong in 2 kwabben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Op iedere longkwab komt een dunne tak van de bronchiën uit. De allerkleinste vertakkingen van de bronchiën eindigen in de longblaasj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ijdelijke aanduiding voor voettekst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MK hoesten bronchits longontsteking  bijgesteld  29-1-2016  Bouke Cupe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3" descr=""/>
          <p:cNvPicPr/>
          <p:nvPr/>
        </p:nvPicPr>
        <p:blipFill>
          <a:blip r:embed="rId1"/>
          <a:stretch/>
        </p:blipFill>
        <p:spPr>
          <a:xfrm>
            <a:off x="3578400" y="2897280"/>
            <a:ext cx="3441600" cy="28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Longblaasj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De longblaasjes (alveoli) gasuitwisseling met het blo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aantal: 3 miljo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oppervlakte: 70 en 100 m2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Elk longblaasje is omgeven door kleine adertjes, capillairen genaamd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ijdelijke aanduiding voor voettekst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MK hoesten bronchits longontsteking  bijgesteld  29-1-2016  Bouke Cupe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"/>
          <p:cNvPicPr/>
          <p:nvPr/>
        </p:nvPicPr>
        <p:blipFill>
          <a:blip r:embed="rId1"/>
          <a:stretch/>
        </p:blipFill>
        <p:spPr>
          <a:xfrm>
            <a:off x="2843280" y="4076640"/>
            <a:ext cx="194472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In-en uitadem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68360" y="1819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Calibri"/>
              </a:rPr>
              <a:t>De longen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Beschermd door de ribben. Onderkant het middenrif (platte, uiterst krachtige spier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Bij inademing (inspiratie) gaat het middenrif (diafragma) naar beneden waardoor de druk in de longen (borstholte) afneemt en het volume toe neemt, hierdoor stroomt de lucht de longen in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Bij het uitademen (expiratie)  gaat het middenrif omhoog waardoor het volume van de longen afneemt en de druk in de longen toeneemt, hierdoor stroomt de lucht de longen weer uit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ijdelijke aanduiding voor voettekst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MK hoesten bronchits longontsteking  bijgesteld  29-1-2016  Bouke Cupe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"/>
          <p:cNvPicPr/>
          <p:nvPr/>
        </p:nvPicPr>
        <p:blipFill>
          <a:blip r:embed="rId1"/>
          <a:stretch/>
        </p:blipFill>
        <p:spPr>
          <a:xfrm>
            <a:off x="6516720" y="4581360"/>
            <a:ext cx="139680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Observatiegegevens ademh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Observatie van de Ademhalin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Daarbij let je op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Frequentie 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nl-NL" sz="1400" spc="-1" strike="noStrike">
                <a:solidFill>
                  <a:srgbClr val="000000"/>
                </a:solidFill>
                <a:latin typeface="Calibri"/>
              </a:rPr>
              <a:t>(volwassenen: 15-20 per minuut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Diepte en gelijkmatigheid   </a:t>
            </a:r>
            <a:r>
              <a:rPr b="0" lang="nl-NL" sz="1400" spc="-1" strike="noStrike">
                <a:solidFill>
                  <a:srgbClr val="000000"/>
                </a:solidFill>
                <a:latin typeface="Calibri"/>
              </a:rPr>
              <a:t>(oppervlakkige ademhaling b.v. longemfyseem; diepe </a:t>
            </a:r>
            <a:r>
              <a:rPr b="0" lang="nl-NL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400" spc="-1" strike="noStrike">
                <a:solidFill>
                  <a:srgbClr val="000000"/>
                </a:solidFill>
                <a:latin typeface="Calibri"/>
              </a:rPr>
              <a:t> ademhaling bewusteloosheid t.g.v. een  bloedsuiker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Ritme 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1400" spc="-1" strike="noStrike">
                <a:solidFill>
                  <a:srgbClr val="000000"/>
                </a:solidFill>
                <a:latin typeface="Calibri"/>
              </a:rPr>
              <a:t>(pauzes tussen de ademhalingen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Geluid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1400" spc="-1" strike="noStrike">
                <a:solidFill>
                  <a:srgbClr val="000000"/>
                </a:solidFill>
                <a:latin typeface="Calibri"/>
              </a:rPr>
              <a:t>(snurken, zwelling slijmvliezen en piepende </a:t>
            </a:r>
            <a:r>
              <a:rPr b="0" lang="nl-NL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400" spc="-1" strike="noStrike">
                <a:solidFill>
                  <a:srgbClr val="000000"/>
                </a:solidFill>
                <a:latin typeface="Calibri"/>
              </a:rPr>
              <a:t>                          ademhaling bij een astmatische aanval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ijdelijke aanduiding voor voettekst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MK hoesten bronchits longontsteking  bijgesteld  29-1-2016  Bouke Cupe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6T18:24:40Z</dcterms:created>
  <dc:creator>Rina</dc:creator>
  <dc:description/>
  <dc:language>en-US</dc:language>
  <cp:lastModifiedBy>Cuperus,B.K.</cp:lastModifiedBy>
  <cp:lastPrinted>2012-11-27T09:21:08Z</cp:lastPrinted>
  <dcterms:modified xsi:type="dcterms:W3CDTF">2016-01-30T09:55:07Z</dcterms:modified>
  <cp:revision>162</cp:revision>
  <dc:subject/>
  <dc:title>Tuberculose</dc:title>
</cp:coreProperties>
</file>