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9D6DD-553B-4827-B12B-1FCE634F9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4114C-EE19-450E-B025-983FDEC28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84033-8388-4638-B44D-9714C42ED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97589-20F3-46A1-B4B3-85531E741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A20945-6727-4443-AA2A-471A1EEEB3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EFB1D-2C60-480F-9DB9-1A6422295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5C837-53F6-4E4F-B0B6-ADB861F9C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C1666-83A1-4FC7-B50E-12A7B7BD7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33BDA4-CE05-4D54-B738-E2AF03F6E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5F09E-612E-49A0-8A04-4114E9F08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4341A-8952-44D5-A21F-3C173A3A0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6270A-B9E1-4F9F-A5DD-2279046AA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CE13B-A3CF-4502-9F12-781D8EA4D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A5594-9B01-4262-8551-6120F9731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12529-C036-4AE7-B4F1-2878B514E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B74FF2-E16A-4191-BA1F-566355A369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BDC420-BE19-4F37-9995-679CD2E6BE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BD97A-636A-4DDF-B4C7-2ACE3BAFF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412F4-ECB9-4C88-864C-E832E0F7C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3BB01-480F-42D5-AABE-45E64A1D4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064DB-D2CE-4620-B247-B4AC8AE10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71E24-73EF-418C-AB10-99502782A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6E2D1-B712-4C0C-9D90-B62F749C0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C51DE-84B9-49B4-BC8C-0216F5E16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82DD-D2A9-4088-9B36-6F14319FB586}"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D3AAB-E1D0-4FF3-A757-08FBEEADE445}"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Plotseling onwel na  wespensteek</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pic>
        <p:nvPicPr>
          <p:cNvPr id="93" name="Picture 5" descr="cover%20shock%20winter%20201011"/>
          <p:cNvPicPr/>
          <p:nvPr/>
        </p:nvPicPr>
        <p:blipFill>
          <a:blip r:embed="rId1"/>
          <a:stretch/>
        </p:blipFill>
        <p:spPr>
          <a:xfrm>
            <a:off x="6227640" y="2897280"/>
            <a:ext cx="2778120" cy="396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Altijd direct contact huisarts bij:</a:t>
            </a: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patient in  mond, tong of keel gestoken bent;</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patient gestoken wordt terwijl deze overgevoelig is voor insectensteken of er eerder flink ziek van is geweest;</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de patient direct nadat die gestoken is last krijgt van benauwdheid;</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de patient direct na de steek uitslag of zwellingen krijgt op een andere plaats dan waar die gestoken is, bijvoorbeeld de oogleden of lippe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Lokale verschijnselen bij wespensteek</a:t>
            </a:r>
            <a:endParaRPr b="0" lang="en-US" sz="32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p de steekplaats: Roodheid, zwelling, pijn en jeuk</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kale reactie op de 2</a:t>
            </a:r>
            <a:r>
              <a:rPr b="0" lang="nl-NL" sz="2800" spc="-1" strike="noStrike" baseline="30000">
                <a:solidFill>
                  <a:srgbClr val="000000"/>
                </a:solidFill>
                <a:latin typeface="Arial"/>
              </a:rPr>
              <a:t>e</a:t>
            </a:r>
            <a:r>
              <a:rPr b="0" lang="nl-NL" sz="2800" spc="-1" strike="noStrike">
                <a:solidFill>
                  <a:srgbClr val="000000"/>
                </a:solidFill>
                <a:latin typeface="Arial"/>
              </a:rPr>
              <a:t> dag neemt in heftigheid toe</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uid kan gaan ontsteke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derontsteking en lymfeklier zwelling is mogelijk</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s bacteriële ontsteking: Erysipelas. Huid is rood en pijnlijk. Gaat vaak gepaard met koo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Triage</a:t>
            </a:r>
            <a:endParaRPr b="0" lang="en-US" sz="4200" spc="-1" strike="noStrike">
              <a:solidFill>
                <a:srgbClr val="ffffff"/>
              </a:solidFill>
              <a:latin typeface="Arial"/>
            </a:endParaRPr>
          </a:p>
        </p:txBody>
      </p:sp>
      <p:sp>
        <p:nvSpPr>
          <p:cNvPr id="12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k insect heeft gestoke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ar en wanneer is de patient gestoken: risico: mond, keel, tong</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t zijn  de klachten?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nk aa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nauwdheid, slikproblemen, jeuk, uitslag hele lichaam,</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leek, klam, neiging tot flauwvalle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oo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Triage: spoed</a:t>
            </a:r>
            <a:endParaRPr b="0" lang="en-US" sz="4200" spc="-1" strike="noStrike">
              <a:solidFill>
                <a:srgbClr val="ffffff"/>
              </a:solidFill>
              <a:latin typeface="Arial"/>
            </a:endParaRPr>
          </a:p>
        </p:txBody>
      </p:sp>
      <p:sp>
        <p:nvSpPr>
          <p:cNvPr id="12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nafylactische reactie: bleek, klam, et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erder hevige allergische reactie op steek  van bij of wesp</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ikklacht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welling, jeuk of uitslag op een nadere plaats dan de steek(oogleden, mond, lipp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sectensteek in mond, tong of ke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Triage</a:t>
            </a:r>
            <a:endParaRPr b="0" lang="en-US" sz="42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ringend: bij koorts i.o.m. huisar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outine: Hevige roodheid, pijn en zwelling op de steekpl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Advies:</a:t>
            </a:r>
            <a:endParaRPr b="0" lang="en-US" sz="42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oude natte doek(of met azijn) verlicht zwelling, jeuk en pijn. Niet krabben of wrijven</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or de jeuk: mentholpoeder, crème of tablette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9" name="Picture 7" descr="IMG_2594"/>
          <p:cNvPicPr/>
          <p:nvPr/>
        </p:nvPicPr>
        <p:blipFill>
          <a:blip r:embed="rId1"/>
          <a:stretch/>
        </p:blipFill>
        <p:spPr>
          <a:xfrm>
            <a:off x="3132000" y="3645000"/>
            <a:ext cx="3810240" cy="253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3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insectensteek aan hand, sieraden verwijder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bijensteek: kijk of angel is achtergebleven! Deze moet er u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4" descr="_401989_112_180"/>
          <p:cNvPicPr/>
          <p:nvPr/>
        </p:nvPicPr>
        <p:blipFill>
          <a:blip r:embed="rId1"/>
          <a:stretch/>
        </p:blipFill>
        <p:spPr>
          <a:xfrm>
            <a:off x="6156360" y="3933720"/>
            <a:ext cx="1066680" cy="1714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Advies voor preventie</a:t>
            </a:r>
            <a:endParaRPr b="0" lang="en-US" sz="4200" spc="-1" strike="noStrike">
              <a:solidFill>
                <a:srgbClr val="ffffff"/>
              </a:solidFill>
              <a:latin typeface="Arial"/>
            </a:endParaRPr>
          </a:p>
        </p:txBody>
      </p:sp>
      <p:sp>
        <p:nvSpPr>
          <p:cNvPr id="134" name="PlaceHolder 2"/>
          <p:cNvSpPr>
            <a:spLocks noGrp="1"/>
          </p:cNvSpPr>
          <p:nvPr>
            <p:ph/>
          </p:nvPr>
        </p:nvSpPr>
        <p:spPr>
          <a:xfrm>
            <a:off x="610920" y="1628280"/>
            <a:ext cx="792468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la niet naar wespen die naderen.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bruik in een gebied met veel wespen geen zoetigheid of alcoholische dranken. Doe geen parfum op.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ak nadat kinderen zoetigheden hebben gegeten (ijsjes bijvoorbeeld) handen en gezicht goed schoon en vervang kleding waar zoetigheid op gemorst is.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rink niet zonder rietje uit flesjes of blikjes.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et geen met limonade gevulde wespenvallen vlak bij de plek waar men i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Conclusies </a:t>
            </a:r>
            <a:endParaRPr b="0" lang="en-US" sz="4200" spc="-1" strike="noStrike">
              <a:solidFill>
                <a:srgbClr val="ffffff"/>
              </a:solidFill>
              <a:latin typeface="Arial"/>
            </a:endParaRPr>
          </a:p>
        </p:txBody>
      </p:sp>
      <p:sp>
        <p:nvSpPr>
          <p:cNvPr id="13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Jeuk, zwelling en pijn gaan vanzelf ov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sluitend bij allergie voor bijen of wespensteken kan de patient flink ziek word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39" name="Picture 7" descr="istockphoto_2334825_puzzled_kids_cartoon"/>
          <p:cNvPicPr/>
          <p:nvPr/>
        </p:nvPicPr>
        <p:blipFill>
          <a:blip r:embed="rId1"/>
          <a:stretch/>
        </p:blipFill>
        <p:spPr>
          <a:xfrm>
            <a:off x="2627280" y="1844640"/>
            <a:ext cx="3619440" cy="305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pic>
        <p:nvPicPr>
          <p:cNvPr id="95" name="Picture 4" descr="Gezondhe_839290b"/>
          <p:cNvPicPr/>
          <p:nvPr/>
        </p:nvPicPr>
        <p:blipFill>
          <a:blip r:embed="rId1"/>
          <a:stretch/>
        </p:blipFill>
        <p:spPr>
          <a:xfrm>
            <a:off x="2340000" y="1989000"/>
            <a:ext cx="4824360" cy="335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9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98" name="Picture 5" descr="huid"/>
          <p:cNvPicPr/>
          <p:nvPr/>
        </p:nvPicPr>
        <p:blipFill>
          <a:blip r:embed="rId1"/>
          <a:stretch/>
        </p:blipFill>
        <p:spPr>
          <a:xfrm>
            <a:off x="1116000" y="1557360"/>
            <a:ext cx="633564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sectensteken kunnen over het algemeen geen kwaad. Niet de prik zelf maar het gif veroorzaakt jeuk, pijn en zwell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Jeuk, zwelling en pijn gaan vanzelf weer over. Soms is iemand allergisch voor een bijen- of wespenstee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laatselijke toxische effecten</a:t>
            </a:r>
            <a:r>
              <a:rPr b="0" lang="nl-NL" sz="2000" spc="-1" strike="noStrike">
                <a:solidFill>
                  <a:srgbClr val="000000"/>
                </a:solidFill>
                <a:latin typeface="Arial"/>
              </a:rPr>
              <a:t>:</a:t>
            </a:r>
            <a:br>
              <a:rPr sz="2000"/>
            </a:br>
            <a:r>
              <a:rPr b="0" lang="nl-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door de steek ontstaat een scherpe, brandende pijn. Vrijwel direct ontstaat roodheid en zwelling van de huid die in de minuten na de steek verder toeneemt. Na enkele uren neemt de zwelling weer af en de afwijking verdwijnt volledig.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Uitgebreide toxische effecten</a:t>
            </a:r>
            <a:r>
              <a:rPr b="0" lang="nl-NL" sz="2000" spc="-1" strike="noStrike">
                <a:solidFill>
                  <a:srgbClr val="000000"/>
                </a:solidFill>
                <a:latin typeface="Arial"/>
              </a:rPr>
              <a:t>:</a:t>
            </a:r>
            <a:br>
              <a:rPr sz="2000"/>
            </a:br>
            <a:r>
              <a:rPr b="0" lang="nl-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Wanneer iemand door veel wespen tegelijk gestoken wordt, of overgevoelig blijkt te zijn, ontstaat door de (grote) hoeveelheid gif een lage bloeddruk, ernstige hoofdpijn of zelfs shock. Als er sprake is van zeer veel wespensteken kan de wespenaanval fataal aflop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
        <p:nvSpPr>
          <p:cNvPr id="105"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15" descr="2qj8tmv"/>
          <p:cNvPicPr/>
          <p:nvPr/>
        </p:nvPicPr>
        <p:blipFill>
          <a:blip r:embed="rId1"/>
          <a:stretch/>
        </p:blipFill>
        <p:spPr>
          <a:xfrm>
            <a:off x="1332000" y="1638360"/>
            <a:ext cx="6408720" cy="424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nl-NL" sz="3800" spc="-1" strike="noStrike">
                <a:solidFill>
                  <a:srgbClr val="ffffff"/>
                </a:solidFill>
                <a:latin typeface="Arial"/>
              </a:rPr>
              <a:t> </a:t>
            </a:r>
            <a:r>
              <a:rPr b="0" lang="nl-NL" sz="4200" spc="-1" strike="noStrike">
                <a:solidFill>
                  <a:srgbClr val="ffffff"/>
                </a:solidFill>
                <a:latin typeface="Arial"/>
              </a:rPr>
              <a:t>Oorzaak en verschijnselen</a:t>
            </a: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roepen van algemene allergische reactie : Anafylaxi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finitie Anafylaxie = Acute levensbedreigende, allergische reactie op een insectensteek. In korte tijd ontstaan algemene (shock)verschijnselen zo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Jeukende rode huid, galbult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zetten oogleden en lipp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isselijk, braken,diarre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ortademigheid, benauwdheid</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artkloppingen, bloeddrukdal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1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16" name="Picture 5" descr="st3"/>
          <p:cNvPicPr/>
          <p:nvPr/>
        </p:nvPicPr>
        <p:blipFill>
          <a:blip r:embed="rId1"/>
          <a:stretch/>
        </p:blipFill>
        <p:spPr>
          <a:xfrm>
            <a:off x="1258920" y="1231920"/>
            <a:ext cx="5834160" cy="437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09:53:33Z</dcterms:created>
  <dc:creator>-</dc:creator>
  <dc:description/>
  <dc:language>en-US</dc:language>
  <cp:lastModifiedBy>Cuperus,B.K.</cp:lastModifiedBy>
  <dcterms:modified xsi:type="dcterms:W3CDTF">2013-12-05T19:44:30Z</dcterms:modified>
  <cp:revision>11</cp:revision>
  <dc:subject/>
  <dc:title>Plotseling onwel na injectie of wespensteek</dc:title>
</cp:coreProperties>
</file>