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1EF-ADF6-49D8-9599-575FE74D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961-8C79-4AAA-8EFC-D0DF9E08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E9C-982F-472D-AB9D-7478486E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12F-FF8B-4D94-9CDB-945C5E62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67C4-7FF9-4D58-A03E-CBD27424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B23A-6C6D-485D-A4EE-50729E45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073E-0327-4CB9-8F2C-6C93C191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C6E9-B58E-4B6F-874A-EEA0EEB3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09A9-7622-4FA2-8BB4-F98CF8D0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A767-740B-4B0A-90DF-E40A51BA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63F1-C2E8-4E61-BDAC-C43E576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6C4-0460-4D63-844B-9775BD0B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693D-005C-447D-B8E9-F6F9AB5C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FAC7-652D-415F-8B07-812A3123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2411-ABC9-483F-8ACC-5AA304FF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AB8C-1B4D-41D7-A738-ACA6504F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C5D3-5994-408F-8C75-53E80482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404-A7E9-4D8D-9730-B20A405E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D3C-2507-43DC-939E-858A78DB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959-20BA-442A-903D-B4A10B36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79D-7506-45C9-AB61-EEE603BF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883-9012-4911-99F0-EE2B85DE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B30-0E5D-4714-AFB7-F5D03E3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E14-1E73-44A1-9A56-5A96C3DF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2328-2AA2-40C4-9C6D-85C811A70AC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A45A-7B08-40B9-84E1-6F5B199CF91D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Hondenbeet en Tetan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l_fi" descr="hond135"/>
          <p:cNvPicPr/>
          <p:nvPr/>
        </p:nvPicPr>
        <p:blipFill>
          <a:blip r:embed="rId1"/>
          <a:stretch/>
        </p:blipFill>
        <p:spPr>
          <a:xfrm>
            <a:off x="5753160" y="3213000"/>
            <a:ext cx="2359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riagecriter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or wat/wanneer bent u gebe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rake van een open w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loedverlies, in welke m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et de wond eru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tetanusinjecti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minderde weerstand (DM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360" y="549000"/>
            <a:ext cx="686592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utine: Ontstekingsverschijnselen zoals roodheid, zwelling, pus, ko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ingend: Bijtwond, behalve oppervlakkige  kleine verwond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oed: Beet van een giftig dier zoals een slang, spin, haged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20px-PHIL_tetanus"/>
          <p:cNvPicPr/>
          <p:nvPr/>
        </p:nvPicPr>
        <p:blipFill>
          <a:blip r:embed="rId1"/>
          <a:stretch/>
        </p:blipFill>
        <p:spPr>
          <a:xfrm>
            <a:off x="1908000" y="43592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: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rabië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is een ernstige aandoening als gevolg van een infectie met het 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rabiësviru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meestal door een beet van een door rabiës besmet dier (honden, vossen, vleermuizen). Hondsdolheid is uiterst gevaarlijk voor mensen en leidt onbehandeld tot de d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Nog vrag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vraagteken%2520poppetje"/>
          <p:cNvPicPr/>
          <p:nvPr/>
        </p:nvPicPr>
        <p:blipFill>
          <a:blip r:embed="rId1"/>
          <a:stretch/>
        </p:blipFill>
        <p:spPr>
          <a:xfrm>
            <a:off x="755640" y="1125360"/>
            <a:ext cx="1857240" cy="39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:</a:t>
            </a:r>
            <a:br>
              <a:rPr sz="4200"/>
            </a:b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24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en ontstaan door: 90 % door een hondenbeet en 6% door een k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middeld 13-20 personen op 10.000 mensen opname in een ziekenhuis noodzakelij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0 personen op 10.000 door huisarts gez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¾ is jonger dan 14 jaa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37767-hondenbeet-kan-levensgevaarlijk-zijn"/>
          <p:cNvPicPr/>
          <p:nvPr/>
        </p:nvPicPr>
        <p:blipFill>
          <a:blip r:embed="rId1"/>
          <a:stretch/>
        </p:blipFill>
        <p:spPr>
          <a:xfrm>
            <a:off x="6516720" y="40464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00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door een bekend dier: uit de buurt of eigen huisd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hebt risicohonden bijten altij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k kindvriendelijke honden kunnen bijt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 is indicatie voor 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ondenbeet"/>
          <p:cNvPicPr/>
          <p:nvPr/>
        </p:nvPicPr>
        <p:blipFill>
          <a:blip r:embed="rId1"/>
          <a:stretch/>
        </p:blipFill>
        <p:spPr>
          <a:xfrm>
            <a:off x="5508720" y="765000"/>
            <a:ext cx="2923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bservatie wond: hoe ernstig? Zegt altijd iets over de maatregelen die worden genomen(diepte/aard/bloe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iniging: Stromend water/ fysiologisch zout. Bij infecterende wonden:Povidon jo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geïnfecteerde wonden: duurt genezing lan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bijtwond wordt in het algemeen niet gehecht vanwege infectiegevaar in later stadium. Alleen wonden in gezicht worden losjes gehecht/afd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oms preventief antibiotica bij infectiegevaar of verminderde we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mplica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ondenbeet_292x237"/>
          <p:cNvPicPr/>
          <p:nvPr/>
        </p:nvPicPr>
        <p:blipFill>
          <a:blip r:embed="rId1"/>
          <a:stretch/>
        </p:blipFill>
        <p:spPr>
          <a:xfrm>
            <a:off x="5651640" y="3141720"/>
            <a:ext cx="2781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    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1640" y="2565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:”kaakklem” genoem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ordt veroorzaakt door de Bacter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lostridium Tetani. Anaerobe bacterie, waarvan de sporen in aarde, straat vuil, mest lang kunnen overleven. Deze sporen kunnen door een verwonding zich in het lichaam voortpla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79tetanus"/>
          <p:cNvPicPr/>
          <p:nvPr/>
        </p:nvPicPr>
        <p:blipFill>
          <a:blip r:embed="rId1"/>
          <a:stretch/>
        </p:blipFill>
        <p:spPr>
          <a:xfrm>
            <a:off x="7093080" y="189000"/>
            <a:ext cx="1838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920" y="3403440"/>
            <a:ext cx="7130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lg: productie van tetanustoxine, een krachtige gifstof die pijnlijke en hevige spierkrampen veroorzaakt in het hele licha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eindelijk ook de ademhalingsspieren met hartstil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tetanus"/>
          <p:cNvPicPr/>
          <p:nvPr/>
        </p:nvPicPr>
        <p:blipFill>
          <a:blip r:embed="rId1"/>
          <a:stretch/>
        </p:blipFill>
        <p:spPr>
          <a:xfrm>
            <a:off x="2843280" y="260280"/>
            <a:ext cx="3930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profylaxe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bijtwonden: bij laatste vaccinatie &lt;10 jaar, niets. Geeft vrijwel 100% bescherming bij welke verwonding dan ook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vaccinatie &gt;10 jaar: 1 tetanus tox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nsen zijn van nature niet beschermd tegen tetanus: vormen nooit zelf antistoff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10:57Z</dcterms:created>
  <dc:creator>Rina</dc:creator>
  <dc:description/>
  <dc:language>en-US</dc:language>
  <cp:lastModifiedBy>Bouke Cuperus</cp:lastModifiedBy>
  <dcterms:modified xsi:type="dcterms:W3CDTF">2016-12-16T13:25:15Z</dcterms:modified>
  <cp:revision>3</cp:revision>
  <dc:subject/>
  <dc:title>Hondenbeet en Tetanus</dc:title>
</cp:coreProperties>
</file>