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D07-70C5-4D41-A20F-FCF2C48D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906-047E-4831-845C-6B8D5D25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C06C0-57C3-416A-81E5-3F9F3CAA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8B69F-1A0D-4B28-86ED-4626878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8DD9C-6671-4069-A395-8224FEB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EAF1A-E694-481A-BCB8-CF335A96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2C30E-798B-430B-ACA8-67EA38D3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32851-3C5B-4730-8F09-96E3C93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65D9B-5645-40AB-ACC6-7688FEE2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9A28D-DC71-4D08-B443-5738B9AA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9AF8B-E6C9-48EE-8A80-5804F04E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82F66-48B9-48F1-A164-84E1E915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DF6-92D7-4F78-B924-30BAB105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C6D6C-7440-496E-BBAF-CCDA0346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ABEA5-4C9E-4584-BC51-ED9FA28D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51EDC-F1AF-41A2-A55F-26E0616A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05709-385F-4102-BA9A-275DC15E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50C70-BADA-4914-AFB3-6ED3D84B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68EFC-CD07-4FA6-9899-C39A7EC3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7113B-BEC4-43E5-A172-5F67CC8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BEF97-EACA-4BC6-BFB0-245E918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36D91-A2E9-4139-8F3A-BBDD5339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5C400-7176-47E0-AA24-CDD3D926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181-7AC9-4F68-AB0E-A6061C74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35C78-DD26-45AA-8B2B-B642055B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2B96-0097-46A2-B230-0B692F31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788CF-F9D5-463A-A807-162E690E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2FB8C-BEE5-4158-AEAF-04FC8994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C4AF3-EB21-4749-AAC5-80886EE3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867FA-9E8D-4667-BA3E-7B12506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96188-FAD3-40ED-9C7A-ECA4723F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5D466-4DFC-4792-8C66-8D9E6C8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C6F9D-EEA1-41F4-8E90-F1425614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0DB45-4A17-4CA2-B46A-5DE2CFB5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95F4-C24F-4DEF-B8FE-C935652D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92312-536A-4541-95A9-38974B54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B92E6-A5D8-4117-AE9E-B67883D3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CE9BC-433A-4E08-AA21-B6C3099C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131F8-5FB3-4E22-B9C1-55C45465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97E1E-4CE6-4D6C-9A1E-00AE4FB3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69D79-13C8-4EE2-8307-31E08E08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DDFB1-DFE2-4F64-9AB0-77D1C1A6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97F9E-13DB-470C-A936-BD0BAC4E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86B0A-3F25-4BB3-AABD-7B3B158D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42E41-A99E-4790-A7EE-0DB6BE20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5740-4AD3-4BFA-82DD-F6558E2E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0D6FA-6D86-42FD-8814-C77A1F53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7D479-9FF9-478A-8C1B-AF91337C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32EAE-26B4-4D2E-82BD-CB6EEA47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A1C7D-2829-4BFB-80F6-81A027EB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BB943-C556-49FD-BD98-A57A10AD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660A-8875-43C9-85DA-9E8A740F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6F08-CB08-49C8-A77B-0D53C8B5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A95F-7598-4EE9-84D2-061ECFAE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96F1-A1C1-40C8-8303-7F0E0640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CEB6-EF68-4452-8CD2-48E869F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7B8-A706-4F17-BA4E-D1768B00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14A0-EAB5-4756-8F00-F377693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C60F-0E0B-4E7A-88BE-D05E5A0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C133-B380-4904-BF5D-5A33E442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9BB9-B336-435A-989F-6482FAD7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86EF-C2E3-41A1-815B-62CD12C0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BD15-B700-48CA-934B-0E5AA4D1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1187-D182-47D5-85F8-86634421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8D45-C7A2-4598-8256-CAF78B6A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FD34-66EB-432E-8DC2-61375AF2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1EFB-2EB0-4257-9B73-EC1EEA50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CF5-2666-43E7-BE18-AA6D20F9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D93B-7684-4709-90DA-3F7A8A62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31EF-983F-4AA5-8B24-6529139C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39D0-DCBE-4156-B137-EAF24A3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364E-C623-41B1-8914-57A6D43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492D-351A-4432-9426-C4B36ECC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81A1-C0EB-4052-B01C-E0CEBB4A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D555-01B5-4C48-9E53-213DA53A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DA49-E40C-4029-AC66-06B7BCF3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9D0D-79EC-414B-9D30-4FC41A1B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35CC-8880-4CF7-8926-9190B1AB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D19-9B95-4FBC-98CC-E5809328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DE62-0DDC-4214-A5D5-E02B5DA0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309B-8852-4CCC-83A9-759EA4E3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F26E-3879-4541-B5AD-C5A6714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A3F6-53B1-4571-B1D4-F51706A1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81353-6C86-4842-B2AA-EBECFF5E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CAC7-A5BC-44FB-9112-8C9C2EC9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97B0-05E7-4EB4-A2C3-4012583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FBA7-9D8C-4F68-9AF8-D857B161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05B56-AEB6-424F-891F-16FE40F3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B71BB-565D-4D98-9373-61A47EFF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DC8-996C-4130-8DC0-D7E184C8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21E5-401E-4061-B8DC-8E072254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EF476-7936-4D68-93FA-72E7584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64DA-76F8-4D4F-80EF-2E0ED087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551F-079B-4676-8ED1-58AF3F42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0AF7-3EDE-4086-9F0B-F02DC1EF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B542-EE85-4689-84D4-B4D915A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DB67F-E02C-4A94-AD55-0915F8DD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103AB-EA56-4996-8536-AB330FC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0FFC8-3930-42D7-8E33-B85C04F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449CB-7D92-4348-84DF-7B35E860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D7C-2595-4D99-A88E-673C4BC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DB3C7-6DC1-4D63-876D-8871623C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9236-4626-41EF-B432-A72C88D9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230F7-5173-4B05-B163-3FE39B1C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20289-2350-4B40-8D17-D49D931D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91F7-D63F-404D-A47F-23444973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D5A3B-896F-47C8-A6F1-DE2446C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E1B07-1500-449A-AF23-C1B7BD28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E0755-21B9-4DBE-A051-D497050D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5ECD9-F9E0-4169-9740-7AB562D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9FC8-E720-407C-863D-63B5E29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31B-1598-4928-BB7F-2F65B04A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A1CA-66EF-4D8D-905A-EE743086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496DA-FC2A-44BE-A05C-42EF92CF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6122-A895-42B5-A06B-5FCAE92D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523AF-BAED-4161-800D-9218B466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E5A01-27FB-403F-A5E3-0AE686DE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826D-1757-40F4-9712-E0D303A5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08D68-7BDE-43CA-BBAE-4743F29C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AF75F-976B-4D83-910D-DD125AA9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30B18-2004-43FA-A4F5-92606520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794A1-F0C6-4FB8-AB5F-112069F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886-79E4-488F-9493-4BA1B21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9FBE5-FBD1-4C12-A15B-7341F3C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950BD-3CD3-41B0-B212-95FF7F08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671AB-ED62-42E2-9C4F-36960A9F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A804-2EC9-4F0E-8312-C491F6DA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CAA8-B38F-470B-946F-A771125A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AB91D-46C9-4E3A-A047-0C11ED50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2B6A8-CC5D-45DE-AEF5-71F4F2D8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85A2F-E32D-424F-9981-6092FF3A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5EC2-AEE0-4053-BE06-83BF5BEE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B9962-4FF8-462D-B2D4-42439B39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E2E-AA56-47B8-BD49-7579FAAA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9638C-36C2-4648-B0D7-D0590FE0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9B346-97B8-4E43-AD04-6C098CB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60C2F-4BC0-42FA-A69D-C338857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D153-BF16-4501-8D18-489D41F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DA395-6552-40B7-BC62-574B9E35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C7E49-FFA9-40A7-8813-B2994C7C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E0BB9-3B67-4C96-B2E9-09FF4960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B187E-3FDE-45BE-864C-E8248013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53774-10AB-4BFB-AF3B-BD629BBD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5978D-721C-4BF4-AE6C-054DC710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0EB6-65EC-45B8-BF59-0BFD51AA577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D4E0-97A2-4F77-82DF-52F327DB6DE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F30C-3617-48CB-B94F-6640595EC05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7166-D6BD-444D-836C-249E0932790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CF4E-0374-471D-9745-1C7D18D9A43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71DF-0434-49D9-ABA2-7DC01466610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E4C4-53B2-4F81-961E-D58A5B5328B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34EF-FC0E-40F7-9557-2BBA23A9E00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59AF-C5F7-45D1-BA47-A8AE5CF5CBB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4F04-0E02-4CD0-905F-CC76F66BE12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5327-90DC-483E-B318-735D51442BC5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CA78-3CAC-4834-8464-2B4360A67F0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olplaten.com/hoesten-t11780.jpg&amp;imgrefurl=http://www.schoolplaten.com/nl-kleurplaat-kleurplaten-foto-hoesten-i11780.html&amp;usg=__cAv-bd-1F8a2IR2us5UjTQ1T1Gg=&amp;h=531&amp;w=750&amp;sz=65&amp;hl=nl&amp;start=7&amp;um=1&amp;tbnid=3l8T0xJfJLH6YM:&amp;tbnh=100&amp;tbnw=141&amp;prev=/images%3Fq%3Dhoesten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neesmiddelen Luchtweg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11120" y="1413000"/>
            <a:ext cx="2773440" cy="20048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4778280" y="1598760"/>
            <a:ext cx="3402000" cy="1633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3"/>
          <a:stretch/>
        </p:blipFill>
        <p:spPr>
          <a:xfrm>
            <a:off x="2195640" y="3706920"/>
            <a:ext cx="1955520" cy="2379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4"/>
          <a:stretch/>
        </p:blipFill>
        <p:spPr>
          <a:xfrm>
            <a:off x="5540400" y="3384720"/>
            <a:ext cx="266364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eorgia"/>
              </a:rPr>
              <a:t>4. Antihistaminica  (cromoglicinezuur, cetirizin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Geen echte hoestmiddel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Voornamelijk in hoestsiropen vanwege hun kalmerend effect (kinderen slapen beter doo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Middelen: promethazi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LET OP!: mogelijk betrokken bij wiegendood, dus niet aan kinderen &lt;2jaa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riage 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50560" y="14130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Onschuldige hoest gaat binnen 2-3 weken vanzelf ov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Alarmsignale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Bloed op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Erg ziek ki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anderd hoestpatroon bij chronische 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NHG telefoonwijze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Spo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Dringe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rag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1 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Welke 2 soorten hoest kun je onderscheiden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2: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Noem 2 middelen die bij prikkelhoest kunnen  worden voorgeschreven, noem hu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bijwerkingen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3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elke negatieve gegevens zijn er bekend over promethazine  (antihistaminicum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4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Noem 3 middelen die geschikt zijn voor productieve hoest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5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orden hoestmiddelen door de verzekering vergoed 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6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: Waarom moet je na een inhalatie van corticosteroïden de mond spoele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7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:Wat doe je dan met dat wate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8.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Vraag 8: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RAST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lergietest om te kijken voor welke allergenen iemand allergisch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de RAST-test wordt de hoeveelheid IgE tegen een bepaald allergeen bepaa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specifieke allergenen (RAST huisstofmijt, RAST katten etc) wordt bloed afgeno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Peakfl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hoeveelheid lucht die de patiënt maximaal kan uitademe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te meten met een piekstroommeter (l/min) (eenvoudig instrum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 en krachtig in het apparaat blaz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delijk goede maat voor de doorgankelijkheid van de luchtwegen (momentopname!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schil tussen waard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medicijngebruik (reversibiliteit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‘</a:t>
            </a: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s morgens en ‘s avonds (astma: ‘s morgens slechter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lichamelijke inspann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pirometr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189000"/>
            <a:ext cx="15112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ronchoscop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onderzoek van de luchtpijp met een bronch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T-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speciaal röntgenonderzoek, computer maakt afbeeldingen van dwarsdoorsneden door het hele lichaam (coupes, plakj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T= computertomograf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781360"/>
            <a:ext cx="1751040" cy="11746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longen"/>
          <p:cNvPicPr/>
          <p:nvPr/>
        </p:nvPicPr>
        <p:blipFill>
          <a:blip r:embed="rId3"/>
          <a:stretch/>
        </p:blipFill>
        <p:spPr>
          <a:xfrm>
            <a:off x="6886440" y="47656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Isotopen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v PET s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dioactieve middelen worden toegedie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den zichtbaar in de PET sc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(kleurtje, lich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378936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klarende woordenlij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24000" y="1267920"/>
            <a:ext cx="882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stma: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hronische luchtwegaandoening, piepen, hoesten, kortademigheid, aanvalsgewij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topische constitut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allergische aanle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Eosinofil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toename aantal eosinofielen in het blo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RAST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specifieke allergietest, gemeten in het bloed, bepaling specifiek Ig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tbv identificatie van allerge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Dyspno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kortademigheid, benauwdhei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Vesiculair ademgeruis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het geluid dat bij het ademhalen word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geproduceerd door gezonde longen (afkomstig uit de fijne longblaasjes)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en met een stethoscoop hoorbaar 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000" y="3790440"/>
            <a:ext cx="82803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Wat is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Hoesten is een reactie op een prikkel in d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keelholte of in de luchtweg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Functie van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verwijderen van stoffen uit de keelholte of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luchtwegen die er niet thuishor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5" descr="hoesten-t117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484280"/>
            <a:ext cx="3047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ntwoord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560" y="1412640"/>
            <a:ext cx="88930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Productieve en niet-productieve ho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Codeïne, noscapine, dextromethorf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bijwerking: obstipati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Mogelijk betrokken bij wiegendood, dus niet aan kinderen jonger dan 2 jaar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4. Ammoniumchloride, broomhexine (Bisolvon), acetylcysteïne (Fluimuci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5. Hoestmiddelen worden niet door de zorgverzekeraar vergoed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6. Irritatie van keel en stembanden (hoesten, heesheid, schimmelinfecti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7. Uitspu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8. Kortdurende behandeling met een hoge dosis geneesmid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http://t3.gstatic.com/images?q=tbn:ANd9GcTQA1rZxb7bOY5BQRVin8QRffs1sfX264p9B636GLC5Z7nqIjb2XjCf08URHg"/>
          <p:cNvPicPr/>
          <p:nvPr/>
        </p:nvPicPr>
        <p:blipFill>
          <a:blip r:embed="rId1"/>
          <a:stretch/>
        </p:blipFill>
        <p:spPr>
          <a:xfrm>
            <a:off x="2362320" y="1355760"/>
            <a:ext cx="3709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 slij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t-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rikkelhoest, ontstaat door andere prikke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bijv als bijwerking bij de ACE-remm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(hartfalen, hoge bloeddruk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cute hoest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onchiolitis, aandoening bij zuigel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piglottit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ringitis subglottica (pseudokroep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 hoesten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Langer dan 3 weken hoesten: Oorza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llergische rhiniti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Postnasal drip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Vergrote neusamand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oken of meero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OP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Bronchuscarcinoo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eflux= terugstromend maagzuu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Hartaandoening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 wordt getwijfeld aan de werkzaamhei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aarschijnlijk is er een groot placebo-effect en wordt het mede daarom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niet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vergoed door de ziektekostenverzekera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79280" y="836640"/>
            <a:ext cx="896472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stprikkeldempende stoff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ooral bij droge, niet-productieve hoes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nderdrukken hoestprikk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deel: kan obstipatie veroorzak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iddelen: codeïne, noscapine, dextromethorf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2828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1. Expectora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Vergemakkelijken het ophoesten van slijm 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ammoniumchloride, succus liquiritiae in Mixtura resolvens FNA, drop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Mucolyt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Invloed op de taaiheid van het slijm in de luchtweg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broomhexine (Bisolvon), acetylcysteïne (Fluimucil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Emollie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Ter verzachting van de geprikkelde slijmvliez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stropen (tijmstroop, althaeastroop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Uw naam</dc:creator>
  <dc:description/>
  <dc:language>en-US</dc:language>
  <cp:lastModifiedBy>Uw naam</cp:lastModifiedBy>
  <cp:lastPrinted>2016-01-10T15:56:28Z</cp:lastPrinted>
  <dcterms:modified xsi:type="dcterms:W3CDTF">2018-01-02T15:35:59Z</dcterms:modified>
  <cp:revision>57</cp:revision>
  <dc:subject/>
  <dc:title>Slide 1</dc:title>
</cp:coreProperties>
</file>