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904-E6D6-4913-80C4-15B67553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2079-6811-43C7-9239-364C4BC6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A8E-B1A2-477C-9FE0-0D0C762C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621-B6FC-4857-8BA3-9B7E8D3E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13A1-AE9A-4182-9A30-63CE74A9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8B8B-CAF5-4FAE-ADCB-8E91B597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174B-89B7-43BC-B600-BFC0B3DF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9312-765B-4D11-928A-452D80D3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60F0-936C-4A0A-BEFE-24DB3746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EF34-EF20-4967-BF38-5FDE2A91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B3C6-F127-4AFE-AB83-4D5397B3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9351-A1DC-4BDB-81F4-54BDF868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6B8D-6B03-4CF6-87E1-EC405140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A145-33EB-4954-B5E7-97B901A8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66DD-67F1-407A-A772-0AB01A54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9548-9991-4E35-886D-35239566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CD2A-6193-4EC7-9C29-92534AD2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248-3671-4C85-9D3A-E4A02AC6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482-BD43-44CE-A94B-FCE1B9AA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B0B3-5220-4B16-9000-4EB51FE8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DC7-502E-4CDF-9000-B90431FF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BD93-DDA8-442F-A52E-B12A8776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EE0-FF51-4C7D-B213-C2182446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140A-700C-4343-9C04-C39B0542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E4B9-2FEB-4ED5-9D3C-66D4AA15D005}" type="slidenum">
              <a:rPr b="0" lang="nl-N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A9BC-AA3B-42E5-B638-77ECA3092347}" type="slidenum">
              <a:rPr b="0" lang="nl-N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ffffff"/>
                </a:solidFill>
                <a:latin typeface="Arial"/>
              </a:rPr>
              <a:t>Anafylaxi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over%20shock%20winter%20201011"/>
          <p:cNvPicPr/>
          <p:nvPr/>
        </p:nvPicPr>
        <p:blipFill>
          <a:blip r:embed="rId1"/>
          <a:stretch/>
        </p:blipFill>
        <p:spPr>
          <a:xfrm>
            <a:off x="6227640" y="2897280"/>
            <a:ext cx="2778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urticaria_thumb"/>
          <p:cNvPicPr/>
          <p:nvPr/>
        </p:nvPicPr>
        <p:blipFill>
          <a:blip r:embed="rId1"/>
          <a:stretch/>
        </p:blipFill>
        <p:spPr>
          <a:xfrm>
            <a:off x="1547640" y="1363680"/>
            <a:ext cx="58327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Therapie: ziekenhu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ie met adrena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pipen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toedienen van zuurstof en indien nodig ook intub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aanhoudend angio-oedeem soms ook zuurstof toediening of een tracheotom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rijding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ANd9GcSgmIBFG3buMw_ao_AnMkQyGROrO4n9iZv9hwycePM18_fwmE0FFA"/>
          <p:cNvPicPr/>
          <p:nvPr/>
        </p:nvPicPr>
        <p:blipFill>
          <a:blip r:embed="rId1"/>
          <a:stretch/>
        </p:blipFill>
        <p:spPr>
          <a:xfrm>
            <a:off x="5364000" y="7650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epipen2"/>
          <p:cNvPicPr/>
          <p:nvPr/>
        </p:nvPicPr>
        <p:blipFill>
          <a:blip r:embed="rId1"/>
          <a:stretch/>
        </p:blipFill>
        <p:spPr>
          <a:xfrm>
            <a:off x="4859280" y="2349360"/>
            <a:ext cx="3240000" cy="258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epipen"/>
          <p:cNvPicPr/>
          <p:nvPr/>
        </p:nvPicPr>
        <p:blipFill>
          <a:blip r:embed="rId2"/>
          <a:stretch/>
        </p:blipFill>
        <p:spPr>
          <a:xfrm>
            <a:off x="971640" y="2349360"/>
            <a:ext cx="30477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Epipen bij allergie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ts schrijft een EpiPen® voor bij mensen die eerder een acute of ernstige allergische reactie hebben geh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moet  direct ingespoten worden zodra de eerste verschijnselen optreden. 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Hoe werkt de Epipen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piP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werkzame stof in EpiPen is Adrenali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vernauwt de bloedvaten en verhoogt de   bloeddru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verwijdt de luchtwegen, waardoor de benauwdheid verminde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jectie begint na drie tot vijf minuten te werken.</a:t>
            </a:r>
            <a:br>
              <a:rPr sz="28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Tot slot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drenaline voorkomt de anafylactische reactie niet, maar is een eerste redmiddel om de ernstigste verschijnselen op te heffen. De anafylactische reactie moet altijd door een arts verder worden behande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istockphoto_2334825_puzzled_kids_cartoon"/>
          <p:cNvPicPr/>
          <p:nvPr/>
        </p:nvPicPr>
        <p:blipFill>
          <a:blip r:embed="rId1"/>
          <a:stretch/>
        </p:blipFill>
        <p:spPr>
          <a:xfrm>
            <a:off x="2627280" y="1844640"/>
            <a:ext cx="3619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afylax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Acute levensbedreigende, allergis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actie op een lichaamsvreemde 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fylaxie kan optreden na inname van het allergeen, maar ook na inademing ervan, na huidcontact of een injectie met de betreffende sto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fylaxie kan soms in enkele minuten tot de dood leiden als deze niet meteen wordt behand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Voorkomende allergenen zijn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dsel (zoals melk, noten, pinda's etc. medicijnen (zoals penicilline, aspirine en NSAID's zoals ibuprofen en diclofenac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xaller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ectensteken van bijvoorbeeld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bij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wesp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Anafylactische sh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fylactische shock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neer het lichaam door verwijding van de bloedvaten ten gevolge van het vrijgeven van een grote hoeveelheid histamine in shock geraak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Shock-verschijnsel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smoeilijkheden (door de vernauwde luchtwe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ypotensie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chycar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auwvallen/ klam aanvoelen/bl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usteloosheid/sh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Overige verschijnselen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lbul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kleu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io-oedeem (opgezwollen gelaat, hals en kee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nende o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Angio-oede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ANd9GcTa39jwzSDoZ-aVnAlntN2_uzqDwZ6lLdAgQN1gDudKTpUtGaIh"/>
          <p:cNvPicPr/>
          <p:nvPr/>
        </p:nvPicPr>
        <p:blipFill>
          <a:blip r:embed="rId1"/>
          <a:stretch/>
        </p:blipFill>
        <p:spPr>
          <a:xfrm>
            <a:off x="539640" y="1341360"/>
            <a:ext cx="4050000" cy="3033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ANd9GcT_rih1wIHupN06jLHAdydW3nsYf1JE_bpCFvuZ1kNJd74PvtRa"/>
          <p:cNvPicPr/>
          <p:nvPr/>
        </p:nvPicPr>
        <p:blipFill>
          <a:blip r:embed="rId2"/>
          <a:stretch/>
        </p:blipFill>
        <p:spPr>
          <a:xfrm>
            <a:off x="4859280" y="3429000"/>
            <a:ext cx="36846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Galbulten(netelroos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netelroos"/>
          <p:cNvPicPr/>
          <p:nvPr/>
        </p:nvPicPr>
        <p:blipFill>
          <a:blip r:embed="rId1"/>
          <a:stretch/>
        </p:blipFill>
        <p:spPr>
          <a:xfrm>
            <a:off x="2340000" y="1052640"/>
            <a:ext cx="3779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9:53:33Z</dcterms:created>
  <dc:creator>-</dc:creator>
  <dc:description/>
  <dc:language>en-US</dc:language>
  <cp:lastModifiedBy>Cuperus,B.K.</cp:lastModifiedBy>
  <dcterms:modified xsi:type="dcterms:W3CDTF">2013-12-05T19:47:06Z</dcterms:modified>
  <cp:revision>16</cp:revision>
  <dc:subject/>
  <dc:title>Plotseling onwel na injectie of wespensteek</dc:title>
</cp:coreProperties>
</file>