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u="sng">
              <a:solidFill>
                <a:srgbClr val="000000"/>
              </a:solidFill>
              <a:uFillTx/>
              <a:latin typeface="Verdana"/>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75D8F-A7F8-4E12-8F87-555F29CD2DE1}" type="slidenum">
              <a:rPr b="0" lang="nl-NL"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256DA-9DA0-4C71-94B1-ED5C3CCD389D}"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6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17F93-CB46-4FC5-BF93-86729D9E154B}"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6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9F77F-17FB-4B74-BED8-C55117CE4040}"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namn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veel wratten en op welke plaats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 de wratten al aanwezig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ke hinder de wrat veroorzaakt; pijn, en ongemak, of cosmetische kl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mmuunstoornis gebruik immunosuppress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heeft de patiënt gegaan met welk resul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f de patiënt de wrat wil laten behan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8A2AC-D552-490B-A43E-580D85A176E7}"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6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B1ECF-F0CE-4618-890E-7C1010516310}"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6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FA309-D662-4AD7-BD8A-C21F2FEE5101}"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6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558C0-D0C5-474E-87D4-31B77D774297}"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6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144FD-58ED-4666-90DB-D7FCA15F6E6D}"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6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99071-F982-4A1D-90CA-EE781A91EBA5}"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A6A158-A045-4448-80EE-4CABF3EDE6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9456B-D52E-44B9-980E-1432187CC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4041F8DC-C13D-40BD-B9B8-D187558F65A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4CD5628-8716-49DE-9856-E8850155453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3BBDF076-8AF7-4AB7-95B6-5122D1BA15C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18C3A45-D3D0-452E-AF70-D29EE763966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FD7B509-BB7F-4D9B-A38C-F705FF4DC19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FB56DC3-3F59-43F9-B2CB-F05593DBBB2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FB2BC1C-A6DF-46F6-BF83-A63B95776F2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4F359693-D612-4B96-B508-73084223438F}"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F6438E71-110F-4EFD-893A-8C293CE62B55}"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EFC071AF-2AD6-41A7-B24D-D295171D229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432E72-1E38-4351-8D71-4F558D80BB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22C37D9-E0D8-465F-9674-306042F44CA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20014992-7F50-465E-9470-EE10922BE31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B712AC3-355B-45D5-9C23-818DDE1D04F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AF38C49-AD42-4E17-B241-D005F7FFA37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6CF7C5D-5418-4065-8EB1-9FA95801E0B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2B648CB-BFA1-4E98-94A1-7792610CEC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CDC9E02-0F6A-4C05-A5A1-192B63BF31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9265B9B-6FFB-4F0E-91D0-D471843998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36DCAC4F-6EBD-4E90-B45F-CB95A8D3F66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76187EBC-5EDD-4874-866A-A11828EA8FB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B58BF8-1C82-486B-87CE-E467ADAF53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2A54CCC9-822D-42B0-A016-7F73FD53FB4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73F1652-5F9B-4841-8C76-EBBFA51E564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08AEB90-2616-474A-9DE3-BB061378594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B09FC33-8A9C-4B1C-91E6-FB93DB9140D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4C58F16-4CF8-41E4-A3DF-5382F79F6AD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545C511-8E9D-4FC7-9A99-8A7AFD7FB32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B344997-B14D-4BFD-AA42-3175688CE8F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5D534AA-145E-4B3F-BE9F-EB55F427E50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F6AA4F0-2874-4A20-9BF7-1E7A2E362CB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9C7F5BD-143A-4D13-A843-E17BBCD5D4F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A3FDC0-3B88-49EF-B869-E29B8167D3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63C40C9-811C-4C40-A89A-685D8ECA720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577F269-0546-4D18-9D8F-D2D3A527811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F4DD321-C84F-4BC3-8169-0C796316821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FE1736DE-3984-456A-B272-2D82F503942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F828BBD8-0BBC-4734-B0F6-13F944D467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ADAB50C-EB77-438C-9226-2B4A750E31A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8042526-6A51-4B70-8F98-3C4B13F5901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6BEA43E-EE60-4AE6-A30E-38C1DB8623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8969BD0C-A04C-4B2D-8C01-922B63A43EF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32E75BF-F32A-4BED-86D8-4CE40E513C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E1A430-884A-4AD4-9FEB-765990816B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1B69BAC-603B-46E4-A3B1-2A3002A118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4CD5D0A-5C53-4D64-8ADA-3EFB15F3E6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0CC5AA4-9C15-4885-B7B7-9FA2DE79880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43D29072-F8DF-428C-904E-F9F1B28EF29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BDC68206-06ED-490A-8768-D42A3F113F9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0592DD-5047-4CC6-BF42-8D9C6E7814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657DA4-EE98-493C-96D4-F1751691B2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8F01E8-5DCD-481D-BD0C-D058C35457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905199-E3E9-4BB6-9D73-45353C4847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9E57C-7CB7-4D6A-A567-149407699E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E79E1-6E2D-42D0-B51C-71B84373B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C1D3BE-6411-4350-988A-7B57B0A6D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D9A7D-F045-4F09-AB6C-39F539E93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404D61-0B6A-4BB0-B5F9-E4B274E09C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5DDC67-2945-47CB-BC1A-5EDF9B7CCD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43CBF4-2FE3-4C74-9BC7-75627CDEA6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E264F0-C19D-4A7E-B977-370E72E2AD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17D2F1-2E28-4589-B2CC-D213189CFB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D90232-0EE2-4A90-9D01-CEA6B76EEB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F16B8D-CAAF-4488-B51D-DB0ED1CAC7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BAF6FC-120A-4DE5-87A1-1ADC41E016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D442C-E381-4BA4-88BC-72DCF9252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53F32E-261B-4D3D-B133-31949E11BD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07C02D-3BBF-4914-94B8-135FFEAB6F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DF315A-EB95-4C7A-9382-C7311AA094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8BF096-DF89-4C5E-A077-C16E96FD29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E893A6-CBD8-49C8-B0C9-2CBB7AE8C7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6CFF6C-9D6F-4FDE-BBEB-D78E0AD794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329C87-7F1B-4533-B1B7-AB57778EEE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E4D8876E-E566-47E3-BEA0-0CFCB67AD51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7E294807-5708-4519-9ED8-27E78835362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7F87415-1721-46FB-908E-128D04D1C11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88BEC-D1A8-4479-B1E7-3E4D5F77D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85B91B7-182B-4E7A-9DD0-D02D7822116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644019D-63EB-4D81-A21E-CBB6EBE89A7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D3AAC60-688B-43FA-A8D7-B7A5D67A907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7255215-A137-4703-B202-E37ABAC82D9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A8422DD-9EE4-4764-8152-62640741CFB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44B4DC5-58A6-43A9-A9ED-ECBE3D5B12F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AA655F05-D58A-41FE-A1C3-6211DA571AE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8D881BE5-1F59-4B85-B531-0A7968E24D7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2A0A08C9-A6C0-48CB-9499-9A57E698D77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43EFFDE-A747-4983-AF8E-D71E88C4220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5E64D-0D74-459D-8424-3B3E7F0FF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5BA47C-BFF0-4ADA-9936-65715F105C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00FE19-ADC5-4174-A51B-91152CCB18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6E5822-BC34-4EEF-A2A4-144540E43B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C57EE9-C50B-4320-8C87-18D53640CF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33DA62-61D9-4DC4-B3DD-C6F6900EAE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A306A2-0D7C-4814-A3F9-219E82F410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22EEC9-5233-4813-A88B-B2D5FD6682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7F8E80-E572-4660-9E36-AE1A51AD6D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EAC74A-BC57-4F7F-8947-A395255AA6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2F19F00-7629-420E-B1D7-D4CD6380435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EB394-8340-45DA-9C73-522C6A712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57A9FF0-5F6F-4C8D-B4DB-4757A5781E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1D342DE-F07E-43F8-B2A5-88DBC14193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B15C61-2E5B-4EC7-B315-19FCEA39F6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A9C0C3-D683-49ED-8622-0A409BB3CE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9F6ED7-2370-47DD-A57D-F085666BDC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6A3878-E17A-4C45-AD28-F5E5C38115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1DD077-F60D-4527-A81C-31EBC7B711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01B158-E965-4A7D-BFCD-2CCA7E9610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055E32-DDDC-43DC-87E1-079AC148CF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020977-78BF-4637-8AA2-35D11EB648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697A6-6DF8-4E57-806B-070C291F4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A641DD-4495-4C8A-A48E-F4EB91814B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597B80C-399C-4931-809A-56B9DC6ADD9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7CB4974-8468-4B9C-A984-5B771D8AAAC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6DF617-BC43-4A63-B7A5-57291990394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7EE0DE-C06F-41A6-A6A3-5277CA1D59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0EC955-68BF-4F1F-BB43-F3C5455239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9AA2F1-28CF-4EF1-85A2-7B23D908DA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4C1145-9083-4C75-AC6F-17E87609C1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1E5C26-6DDD-47AE-9EE3-DD64E5301D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376186-D229-4BB3-AE71-4A77471998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4D634-2F33-4D2F-AFC3-A7C144D5C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532C80-0280-4F4D-BB46-EC6CCB5A58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A7ED2C-7967-4696-9EEE-229776558F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8FDE1C-B6D8-49F7-B46B-8A4B6D6559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8EEEDDD-FCE0-4B01-AE5B-0815EA53B39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4EB4EB-ADF7-4919-92FA-98A8698C6C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604EEA2-47BD-4427-8790-8ABDFCF8343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9AC86E-6ECD-4DA7-8DD1-C7EA85027B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D81B54-2D83-42DA-B6FD-45E1F9A2E8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B30094-166B-4E6A-B621-63453F78C7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6B7176-C37A-4DA7-8666-43E2576A90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1DFD6-0ECF-41A2-BC11-7BBA1A629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942AA2-3458-457B-A06B-F23AA9EAB2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50575B-CAE0-4C71-8CB8-47ADB52E85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8C8EB4-DB75-443E-B4BC-1272A38C60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2B7090-D0D8-4A38-9DC9-0367D240ED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29BA5A-1C4C-41A5-A0FB-BF9ED5BCB4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868B0D-3259-4577-A663-91D167AAC5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8F0194-6572-4D4D-98AA-C5D3757FDD5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0A870FB0-AC56-440E-B90B-E73E6AAB207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6A0D909B-2152-4815-AB24-46CA62956BB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68148928-89AD-403F-99ED-A5475E92B3D1}"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hthoe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 name="Rechthoe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 name="Rechthoe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 name="Rechthoe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 name="Rechthoe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7" name="Rechthoe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8" name="Rechte verbindingslijn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9" name="Ova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 name="Ova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FAA68-5319-42FF-9F82-EF25E20BD894}"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Rechte verbindingslijn 15"/>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455" name="Rechthoek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56" name="Rechthoek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57" name="Rechthoek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58" name="Rechthoek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59" name="Rechthoek 20"/>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60" name="Rechthoek 23"/>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61" name="Rechthoek 2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62" name="Ovaal 25"/>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63" name="Ovaal 26"/>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64" name="Rechthoek 27"/>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631AE-DFE2-4995-8113-A96348873654}"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hthoe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07" name="Rechthoe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08" name="Rechthoe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09" name="Rechthoe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0" name="Rechthoe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1" name="Rechthoe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2" name="Rechte verbindingslijn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513" name="Ova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4" name="Ova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A419E-2EE7-4690-B9B6-7122ADC3776A}"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hthoek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57" name="Rechthoek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58" name="Rechthoek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59" name="Rechthoek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60" name="Rechthoek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61" name="Rechthoek 20"/>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62" name="Rechte verbindingslijn 23"/>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563" name="Ovaal 24"/>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64" name="Ovaal 25"/>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40C2B-301C-43C7-B2C9-55D934B6DFDD}"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hthoek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 name="Rechthoek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2" name="Rechthoek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3" name="Rechthoek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4" name="Rechthoek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5" name="Rechte verbindingslijn 20"/>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56" name="Rechthoek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7" name="Ovaal 24"/>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8" name="Ovaal 25"/>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E4501-0AEC-41CC-AE10-61516A398E62}"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hthoe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1" name="Rechthoe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2" name="Rechthoe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3" name="Rechthoe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4" name="Rechthoe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5" name="Rechthoe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6" name="Rechte verbindingslijn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107" name="Ova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8" name="Ova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1E5F7-6528-4460-967D-E19891DC9E20}"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hthoek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1" name="Rechthoek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2" name="Rechthoek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3" name="Rechthoek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4" name="Rechthoek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5" name="Rechthoek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6" name="Rechthoek 23"/>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7" name="Rechthoek 24"/>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8" name="Rechte verbindingslijn 25"/>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159" name="Ovaal 26"/>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60" name="Ovaal 27"/>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151A0-A82F-4186-88AE-8C5A15144418}"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hthoe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03" name="Rechthoe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04" name="Rechthoe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05" name="Rechthoe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06" name="Rechthoe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07" name="Rechthoe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08" name="Rechte verbindingslijn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209" name="Ova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10" name="Ova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11" name="Rechte verbindingslijn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29578-586C-4E74-9B4F-74EC75C85077}"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Rechte verbindingslijn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254" name="Rechthoek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55" name="Rechthoek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56" name="Rechthoek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57" name="Rechthoek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58" name="Rechthoek 2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59" name="Rechthoek 23"/>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60" name="Rechte verbindingslijn 24"/>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261" name="Rechthoek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62" name="Ovaal 26"/>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63" name="Ovaal 27"/>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921FA-BE07-496A-9BF1-6D2E1CD529AF}"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hthoe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06" name="Rechthoe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07" name="Rechthoe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08" name="Rechthoe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09" name="Rechthoe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10" name="Rechthoe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11" name="Rechte verbindingslijn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312" name="Ova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13" name="Ova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8556D-DD0E-4363-809A-AB50224A8F60}"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hthoek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56" name="Rechthoek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57" name="Rechthoek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58" name="Rechthoek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59" name="Rechthoek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60" name="Rechthoek 20"/>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E2024-20E1-4161-A168-B571483B6A1C}" type="slidenum">
              <a:rPr b="0" lang="nl-NL"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hthoek 15"/>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03" name="Rechthoek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04" name="Rechthoek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05" name="Rechthoek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06" name="Rechthoek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07" name="Rechthoek 20"/>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08" name="Rechthoek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09" name="Rechte verbindingslijn 24"/>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410" name="Ovaal 25"/>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11" name="Ovaal 26"/>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12" name="Rechthoek 27"/>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32741-619B-4D05-8552-1F438CB5FE61}"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ubTitle"/>
          </p:nvPr>
        </p:nvSpPr>
        <p:spPr>
          <a:xfrm>
            <a:off x="1371600" y="2819520"/>
            <a:ext cx="6400800" cy="175248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1600" spc="-1" strike="noStrike">
              <a:solidFill>
                <a:srgbClr val="646b86"/>
              </a:solidFill>
              <a:latin typeface="Georgia"/>
            </a:endParaRPr>
          </a:p>
        </p:txBody>
      </p:sp>
      <p:sp>
        <p:nvSpPr>
          <p:cNvPr id="614"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d16349"/>
                </a:solidFill>
                <a:latin typeface="Georgia"/>
              </a:rPr>
              <a:t>Wratten (verrucae)</a:t>
            </a:r>
            <a:br>
              <a:rPr sz="4200"/>
            </a:br>
            <a:br>
              <a:rPr sz="4200"/>
            </a:br>
            <a:r>
              <a:rPr b="0" lang="nl-NL" sz="1100" spc="-1" strike="noStrike">
                <a:solidFill>
                  <a:srgbClr val="d16349"/>
                </a:solidFill>
                <a:latin typeface="Georgia"/>
              </a:rPr>
              <a:t>(bijgesteld :29-11-2017 Bouke Cuperus)</a:t>
            </a:r>
            <a:endParaRPr b="0" lang="en-US" sz="1100" spc="-1" strike="noStrike">
              <a:solidFill>
                <a:srgbClr val="7b9899"/>
              </a:solidFill>
              <a:latin typeface="Georgia"/>
            </a:endParaRPr>
          </a:p>
        </p:txBody>
      </p:sp>
      <p:pic>
        <p:nvPicPr>
          <p:cNvPr id="615" name="Picture 5" descr=""/>
          <p:cNvPicPr/>
          <p:nvPr/>
        </p:nvPicPr>
        <p:blipFill>
          <a:blip r:embed="rId1"/>
          <a:stretch/>
        </p:blipFill>
        <p:spPr>
          <a:xfrm>
            <a:off x="5408640" y="2836800"/>
            <a:ext cx="2511360" cy="1638360"/>
          </a:xfrm>
          <a:prstGeom prst="rect">
            <a:avLst/>
          </a:prstGeom>
          <a:ln w="0">
            <a:noFill/>
          </a:ln>
        </p:spPr>
      </p:pic>
      <p:pic>
        <p:nvPicPr>
          <p:cNvPr id="616" name="Picture 6" descr=""/>
          <p:cNvPicPr/>
          <p:nvPr/>
        </p:nvPicPr>
        <p:blipFill>
          <a:blip r:embed="rId2"/>
          <a:stretch/>
        </p:blipFill>
        <p:spPr>
          <a:xfrm>
            <a:off x="5435640" y="4475160"/>
            <a:ext cx="2521080" cy="1165320"/>
          </a:xfrm>
          <a:prstGeom prst="rect">
            <a:avLst/>
          </a:prstGeom>
          <a:ln w="0">
            <a:noFill/>
          </a:ln>
        </p:spPr>
      </p:pic>
      <p:pic>
        <p:nvPicPr>
          <p:cNvPr id="617" name="Picture 8" descr=""/>
          <p:cNvPicPr/>
          <p:nvPr/>
        </p:nvPicPr>
        <p:blipFill>
          <a:blip r:embed="rId3"/>
          <a:stretch/>
        </p:blipFill>
        <p:spPr>
          <a:xfrm>
            <a:off x="1041480" y="2803680"/>
            <a:ext cx="4292640" cy="2827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7b9899"/>
                </a:solidFill>
                <a:latin typeface="Verdana"/>
              </a:rPr>
              <a:t>Ouderdomswrat (Verrucae Seborrhoica / sensilis)</a:t>
            </a:r>
            <a:endParaRPr b="0" lang="en-US" sz="2400" spc="-1" strike="noStrike">
              <a:solidFill>
                <a:srgbClr val="7b9899"/>
              </a:solidFill>
              <a:latin typeface="Georgia"/>
            </a:endParaRPr>
          </a:p>
        </p:txBody>
      </p:sp>
      <p:sp>
        <p:nvSpPr>
          <p:cNvPr id="642" name=""/>
          <p:cNvSpPr txBox="1"/>
          <p:nvPr/>
        </p:nvSpPr>
        <p:spPr>
          <a:xfrm>
            <a:off x="301680" y="1371600"/>
            <a:ext cx="4038480" cy="4681440"/>
          </a:xfrm>
          <a:prstGeom prst="rect">
            <a:avLst/>
          </a:prstGeom>
          <a:noFill/>
          <a:ln w="0">
            <a:noFill/>
          </a:ln>
        </p:spPr>
        <p:txBody>
          <a:bodyPr anchor="t">
            <a:norm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Ouderdomswrat </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Niet besmettelijk</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Goedaardig</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onker bruin</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Ruwe structuur</a:t>
            </a:r>
            <a:endParaRPr b="0" lang="en-US" sz="2000" spc="-1" strike="noStrike">
              <a:solidFill>
                <a:srgbClr val="000000"/>
              </a:solidFill>
              <a:latin typeface="Georgia"/>
            </a:endParaRPr>
          </a:p>
        </p:txBody>
      </p:sp>
      <p:pic>
        <p:nvPicPr>
          <p:cNvPr id="643" name="Picture 6" descr=""/>
          <p:cNvPicPr/>
          <p:nvPr/>
        </p:nvPicPr>
        <p:blipFill>
          <a:blip r:embed="rId1"/>
          <a:stretch/>
        </p:blipFill>
        <p:spPr>
          <a:xfrm>
            <a:off x="4903920" y="1773360"/>
            <a:ext cx="3628800" cy="2803320"/>
          </a:xfrm>
          <a:prstGeom prst="rect">
            <a:avLst/>
          </a:prstGeom>
          <a:ln w="0">
            <a:noFill/>
          </a:ln>
        </p:spPr>
      </p:pic>
      <p:sp>
        <p:nvSpPr>
          <p:cNvPr id="644"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7b9899"/>
                </a:solidFill>
                <a:latin typeface="Verdana"/>
              </a:rPr>
              <a:t>Genitale wratten (condyloma acuminatum)</a:t>
            </a:r>
            <a:endParaRPr b="0" lang="en-US" sz="2800" spc="-1" strike="noStrike">
              <a:solidFill>
                <a:srgbClr val="7b9899"/>
              </a:solidFill>
              <a:latin typeface="Georgia"/>
            </a:endParaRPr>
          </a:p>
        </p:txBody>
      </p:sp>
      <p:sp>
        <p:nvSpPr>
          <p:cNvPr id="646"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Zeer besmettelijk&gt;SOA </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Bepaald type van Humaan Papilloma virus</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Bloemkoolachtig gesteeld vormsel</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Nestelt zich op de slijmvliezen</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Locatie: anus en/of geslachtsorganen man/vrouw</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In- of uitwendig</a:t>
            </a: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pic>
        <p:nvPicPr>
          <p:cNvPr id="647" name="Picture 5" descr=""/>
          <p:cNvPicPr/>
          <p:nvPr/>
        </p:nvPicPr>
        <p:blipFill>
          <a:blip r:embed="rId1"/>
          <a:stretch/>
        </p:blipFill>
        <p:spPr>
          <a:xfrm>
            <a:off x="6440400" y="4508640"/>
            <a:ext cx="2238480" cy="1671480"/>
          </a:xfrm>
          <a:prstGeom prst="rect">
            <a:avLst/>
          </a:prstGeom>
          <a:ln w="0">
            <a:noFill/>
          </a:ln>
        </p:spPr>
      </p:pic>
      <p:pic>
        <p:nvPicPr>
          <p:cNvPr id="648" name="Picture 6" descr=""/>
          <p:cNvPicPr/>
          <p:nvPr/>
        </p:nvPicPr>
        <p:blipFill>
          <a:blip r:embed="rId2"/>
          <a:stretch/>
        </p:blipFill>
        <p:spPr>
          <a:xfrm>
            <a:off x="6230880" y="1773360"/>
            <a:ext cx="2467080" cy="1584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Water wratjes (mollusca contagiosa)</a:t>
            </a:r>
            <a:endParaRPr b="0" lang="en-US" sz="3300" spc="-1" strike="noStrike">
              <a:solidFill>
                <a:srgbClr val="7b9899"/>
              </a:solidFill>
              <a:latin typeface="Georgia"/>
            </a:endParaRPr>
          </a:p>
        </p:txBody>
      </p:sp>
      <p:sp>
        <p:nvSpPr>
          <p:cNvPr id="650" name=""/>
          <p:cNvSpPr txBox="1"/>
          <p:nvPr/>
        </p:nvSpPr>
        <p:spPr>
          <a:xfrm>
            <a:off x="301320" y="1527120"/>
            <a:ext cx="8504280" cy="4572000"/>
          </a:xfrm>
          <a:prstGeom prst="rect">
            <a:avLst/>
          </a:prstGeom>
          <a:noFill/>
          <a:ln w="0">
            <a:noFill/>
          </a:ln>
        </p:spPr>
        <p:txBody>
          <a:bodyPr anchor="t">
            <a:normAutofit/>
          </a:bodyPr>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Oorzaak: Pokvirus</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Zeer besmettelijk door intensief huidcontact  (zwembad,gymzaal</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Vooral bij kinderen</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Doorschijnend of wit, bol, vast bultje met in het   midden vaak een inzinking</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Gevuld met substantie</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pic>
        <p:nvPicPr>
          <p:cNvPr id="651" name="Picture 2" descr=""/>
          <p:cNvPicPr/>
          <p:nvPr/>
        </p:nvPicPr>
        <p:blipFill>
          <a:blip r:embed="rId1"/>
          <a:stretch/>
        </p:blipFill>
        <p:spPr>
          <a:xfrm>
            <a:off x="4211640" y="3357720"/>
            <a:ext cx="2530440" cy="24746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7b9899"/>
                </a:solidFill>
                <a:latin typeface="Verdana"/>
              </a:rPr>
              <a:t>Diagnose: Wratten</a:t>
            </a:r>
            <a:endParaRPr b="0" lang="en-US" sz="2800" spc="-1" strike="noStrike">
              <a:solidFill>
                <a:srgbClr val="7b9899"/>
              </a:solidFill>
              <a:latin typeface="Georgia"/>
            </a:endParaRPr>
          </a:p>
        </p:txBody>
      </p:sp>
      <p:sp>
        <p:nvSpPr>
          <p:cNvPr id="653"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oe wordt diagnose gesteld?</a:t>
            </a: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oor de huisarts (anamnese)</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Kenmerkend, geen nader onderzoek nodig</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Soms biopt afnemen,voor aanvullend onderzoek</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Eerste behandeling</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Verdere behandeling evt delegeren naar assistente a.d.h.v. protocol (afhankelijk van aard, locatie, behandeling)</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Eventueel verwijzing dermatologie</a:t>
            </a: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Behandelingsmogelijkheden</a:t>
            </a:r>
            <a:endParaRPr b="0" lang="en-US" sz="3300" spc="-1" strike="noStrike">
              <a:solidFill>
                <a:srgbClr val="7b9899"/>
              </a:solidFill>
              <a:latin typeface="Georgia"/>
            </a:endParaRPr>
          </a:p>
        </p:txBody>
      </p:sp>
      <p:sp>
        <p:nvSpPr>
          <p:cNvPr id="655" name=""/>
          <p:cNvSpPr txBox="1"/>
          <p:nvPr/>
        </p:nvSpPr>
        <p:spPr>
          <a:xfrm>
            <a:off x="301320" y="1527120"/>
            <a:ext cx="8504280" cy="4572000"/>
          </a:xfrm>
          <a:prstGeom prst="rect">
            <a:avLst/>
          </a:prstGeom>
          <a:noFill/>
          <a:ln w="0">
            <a:noFill/>
          </a:ln>
        </p:spPr>
        <p:txBody>
          <a:bodyPr anchor="t">
            <a:normAutofit fontScale="97000"/>
          </a:bodyPr>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1. Afwachten (expectatief beleid)</a:t>
            </a:r>
            <a:endParaRPr b="0" lang="en-US" sz="2000" spc="-1" strike="noStrike">
              <a:solidFill>
                <a:srgbClr val="000000"/>
              </a:solidFill>
              <a:latin typeface="Georg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2. Aanstippen; patiënt kan zelf aanstipvloeistof bij de apotheek kopen</a:t>
            </a:r>
            <a:endParaRPr b="0" lang="en-US" sz="2000" spc="-1" strike="noStrike">
              <a:solidFill>
                <a:srgbClr val="000000"/>
              </a:solidFill>
              <a:latin typeface="Georg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3. Cryotherapie (bevriezing) , aanstippen met vloeibare stikstok  wrattenspreekuur.</a:t>
            </a: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 </a:t>
            </a:r>
            <a:r>
              <a:rPr b="0" lang="nl-NL" sz="2000" spc="-1" strike="noStrike">
                <a:solidFill>
                  <a:srgbClr val="000000"/>
                </a:solidFill>
                <a:latin typeface="Georgia"/>
              </a:rPr>
              <a:t>4. Uitlepelen </a:t>
            </a: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5. Wegsnijden</a:t>
            </a: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6.Wegbranden (coagulatie)….is pijnlijk daardoor  weinig toegepast</a:t>
            </a:r>
            <a:endParaRPr b="0" lang="en-US" sz="2000" spc="-1" strike="noStrike">
              <a:solidFill>
                <a:srgbClr val="000000"/>
              </a:solidFill>
              <a:latin typeface="Georgi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7b9899"/>
                </a:solidFill>
                <a:latin typeface="Verdana"/>
              </a:rPr>
              <a:t>Huidbiopsie</a:t>
            </a:r>
            <a:endParaRPr b="0" lang="en-US" sz="2400" spc="-1" strike="noStrike">
              <a:solidFill>
                <a:srgbClr val="7b9899"/>
              </a:solidFill>
              <a:latin typeface="Georgia"/>
            </a:endParaRPr>
          </a:p>
        </p:txBody>
      </p:sp>
      <p:sp>
        <p:nvSpPr>
          <p:cNvPr id="657"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et weghalen van een stukje huid onder lokale verdoving</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Indicatie:</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Zekerheid over “klinische diagnose” te krijgen.</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7b9899"/>
                </a:solidFill>
                <a:latin typeface="Verdana"/>
              </a:rPr>
              <a:t>Huidbiopsie</a:t>
            </a:r>
            <a:endParaRPr b="0" lang="en-US" sz="2400" spc="-1" strike="noStrike">
              <a:solidFill>
                <a:srgbClr val="7b9899"/>
              </a:solidFill>
              <a:latin typeface="Georgia"/>
            </a:endParaRPr>
          </a:p>
        </p:txBody>
      </p:sp>
      <p:sp>
        <p:nvSpPr>
          <p:cNvPr id="65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et ovaaltje:</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rmatoloog</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Bij verdenking melanoom</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Steriel onder verdoving</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Ovaalvormig gebied rondom huidafwijking uitgesneden</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echting na 7-14 dagen verwijderen bij huisarts</a:t>
            </a:r>
            <a:endParaRPr b="0" lang="en-US" sz="2000" spc="-1" strike="noStrike">
              <a:solidFill>
                <a:srgbClr val="000000"/>
              </a:solidFill>
              <a:latin typeface="Georgia"/>
            </a:endParaRPr>
          </a:p>
        </p:txBody>
      </p:sp>
      <p:pic>
        <p:nvPicPr>
          <p:cNvPr id="660" name="Picture 5" descr="melanoma_malign"/>
          <p:cNvPicPr/>
          <p:nvPr/>
        </p:nvPicPr>
        <p:blipFill>
          <a:blip r:embed="rId1"/>
          <a:stretch/>
        </p:blipFill>
        <p:spPr>
          <a:xfrm>
            <a:off x="5003640" y="2421000"/>
            <a:ext cx="1905120" cy="12762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Tip: Geen lesstof</a:t>
            </a:r>
            <a:endParaRPr b="0" lang="en-US" sz="3300" spc="-1" strike="noStrike">
              <a:solidFill>
                <a:srgbClr val="7b9899"/>
              </a:solidFill>
              <a:latin typeface="Georgia"/>
            </a:endParaRPr>
          </a:p>
        </p:txBody>
      </p:sp>
      <p:sp>
        <p:nvSpPr>
          <p:cNvPr id="66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Goede informatie over wratten spreekuur is te vinden in het boek</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Eigen spreekuur en chronische ziekten</a:t>
            </a:r>
            <a:endParaRPr b="0" lang="en-US" sz="2700" spc="-1" strike="noStrike">
              <a:solidFill>
                <a:srgbClr val="000000"/>
              </a:solidFill>
              <a:latin typeface="Georgi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7b9899"/>
                </a:solidFill>
                <a:latin typeface="Verdana"/>
              </a:rPr>
              <a:t>        </a:t>
            </a:r>
            <a:r>
              <a:rPr b="0" lang="nl-NL" sz="2800" spc="-1" strike="noStrike">
                <a:solidFill>
                  <a:srgbClr val="7b9899"/>
                </a:solidFill>
                <a:latin typeface="Verdana"/>
              </a:rPr>
              <a:t>Leerdoelen:</a:t>
            </a:r>
            <a:endParaRPr b="0" lang="en-US" sz="2800" spc="-1" strike="noStrike">
              <a:solidFill>
                <a:srgbClr val="7b9899"/>
              </a:solidFill>
              <a:latin typeface="Georgia"/>
            </a:endParaRPr>
          </a:p>
        </p:txBody>
      </p:sp>
      <p:sp>
        <p:nvSpPr>
          <p:cNvPr id="619"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Na afloop van deze  powerpoint kan je: </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verschillende soorten wratten benoemen</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enkele behandelmethoden beschrijven</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Wat zijn wratten?</a:t>
            </a:r>
            <a:endParaRPr b="0" lang="en-US" sz="3300" spc="-1" strike="noStrike">
              <a:solidFill>
                <a:srgbClr val="7b9899"/>
              </a:solidFill>
              <a:latin typeface="Georgia"/>
            </a:endParaRPr>
          </a:p>
        </p:txBody>
      </p:sp>
      <p:sp>
        <p:nvSpPr>
          <p:cNvPr id="621" name=""/>
          <p:cNvSpPr txBox="1"/>
          <p:nvPr/>
        </p:nvSpPr>
        <p:spPr>
          <a:xfrm>
            <a:off x="301320" y="1527120"/>
            <a:ext cx="8504280" cy="457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Georgia"/>
              </a:rPr>
              <a:t>Wratten zijn knobbeltjes die ruw en hard aanvoelen. Soms zien ze er een beetje bloemkoolachtig uit. Ze komen vooral voor op de handen en voeten, maar ze kunnen ook op andere plaatsen zitten. Door lopen worden voetwratten in het eelt van de voetzool gedrukt. Voetwratten doen soms pijn bij staan of lopen.</a:t>
            </a:r>
            <a:endParaRPr b="0" lang="en-US" sz="2400" spc="-1" strike="noStrike">
              <a:solidFill>
                <a:srgbClr val="000000"/>
              </a:solidFill>
              <a:latin typeface="Georgi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7b9899"/>
                </a:solidFill>
                <a:latin typeface="Verdana"/>
              </a:rPr>
              <a:t>Wratten (Verrucae)</a:t>
            </a:r>
            <a:endParaRPr b="0" lang="en-US" sz="2800" spc="-1" strike="noStrike">
              <a:solidFill>
                <a:srgbClr val="7b9899"/>
              </a:solidFill>
              <a:latin typeface="Georgia"/>
            </a:endParaRPr>
          </a:p>
        </p:txBody>
      </p:sp>
      <p:sp>
        <p:nvSpPr>
          <p:cNvPr id="623" name=""/>
          <p:cNvSpPr txBox="1"/>
          <p:nvPr/>
        </p:nvSpPr>
        <p:spPr>
          <a:xfrm>
            <a:off x="301320" y="1527120"/>
            <a:ext cx="8504280" cy="4572000"/>
          </a:xfrm>
          <a:prstGeom prst="rect">
            <a:avLst/>
          </a:prstGeom>
          <a:noFill/>
          <a:ln w="0">
            <a:noFill/>
          </a:ln>
        </p:spPr>
        <p:txBody>
          <a:bodyPr anchor="t">
            <a:normAutofit/>
          </a:bodyPr>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 </a:t>
            </a:r>
            <a:r>
              <a:rPr b="0" lang="nl-NL" sz="2000" spc="-1" strike="noStrike">
                <a:solidFill>
                  <a:srgbClr val="000000"/>
                </a:solidFill>
                <a:latin typeface="Verdana"/>
              </a:rPr>
              <a:t>Hoe ontstaan wratten?</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Oorzaak: Humane Papillomavirus (HPV-virus) van de huid</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Zijn besmettelijk</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Incubatietijd: 3-6 maanden of langer</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Na 1 jaar zijn de wratten bij ongeveer de helft van de mensen spontaan verdwenen.</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Verdana"/>
              </a:rPr>
              <a:t>Het is niet aangetoond dat u wratten krijgt van zwembaden, openbare douches, of van sporten op blote voeten. </a:t>
            </a:r>
            <a:endParaRPr b="0" lang="en-US" sz="2000" spc="-1" strike="noStrike">
              <a:solidFill>
                <a:srgbClr val="000000"/>
              </a:solidFill>
              <a:latin typeface="Georgi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Verschillende soorten wratten</a:t>
            </a:r>
            <a:endParaRPr b="0" lang="en-US" sz="3300" spc="-1" strike="noStrike">
              <a:solidFill>
                <a:srgbClr val="7b9899"/>
              </a:solidFill>
              <a:latin typeface="Georgia"/>
            </a:endParaRPr>
          </a:p>
        </p:txBody>
      </p:sp>
      <p:sp>
        <p:nvSpPr>
          <p:cNvPr id="62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gewone wrat (handen /vingers  (</a:t>
            </a:r>
            <a:r>
              <a:rPr b="0" i="1" lang="nl-NL" sz="2700" spc="-1" strike="noStrike">
                <a:solidFill>
                  <a:srgbClr val="000000"/>
                </a:solidFill>
                <a:latin typeface="Georgia"/>
              </a:rPr>
              <a:t>verrucae vulgaris</a:t>
            </a:r>
            <a:r>
              <a:rPr b="0" lang="nl-NL"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voetwratten   (</a:t>
            </a:r>
            <a:r>
              <a:rPr b="0" i="1" lang="nl-NL" sz="2700" spc="-1" strike="noStrike">
                <a:solidFill>
                  <a:srgbClr val="000000"/>
                </a:solidFill>
                <a:latin typeface="Georgia"/>
              </a:rPr>
              <a:t>verrucae plantaris</a:t>
            </a:r>
            <a:r>
              <a:rPr b="0" lang="nl-NL"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venerische wratten (</a:t>
            </a:r>
            <a:r>
              <a:rPr b="0" i="1" lang="nl-NL" sz="2700" spc="-1" strike="noStrike">
                <a:solidFill>
                  <a:srgbClr val="000000"/>
                </a:solidFill>
                <a:latin typeface="Georgia"/>
              </a:rPr>
              <a:t>condylomata acuminata </a:t>
            </a:r>
            <a:r>
              <a:rPr b="0" lang="nl-NL"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ouderdomswrat (</a:t>
            </a:r>
            <a:r>
              <a:rPr b="0" i="1" lang="nl-NL" sz="2700" spc="-1" strike="noStrike">
                <a:solidFill>
                  <a:srgbClr val="000000"/>
                </a:solidFill>
                <a:latin typeface="Georgia"/>
              </a:rPr>
              <a:t>verrrucae senilis</a:t>
            </a:r>
            <a:r>
              <a:rPr b="0" lang="nl-NL"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waterwratjes: (</a:t>
            </a:r>
            <a:r>
              <a:rPr b="0" i="1" lang="nl-NL" sz="2700" spc="-1" strike="noStrike">
                <a:solidFill>
                  <a:srgbClr val="000000"/>
                </a:solidFill>
                <a:latin typeface="Georgia"/>
              </a:rPr>
              <a:t>mollusca contagiosa</a:t>
            </a:r>
            <a:r>
              <a:rPr b="0" lang="nl-NL"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Verruca vulgaris (‘gewone wrat’)</a:t>
            </a:r>
            <a:endParaRPr b="0" lang="en-US" sz="3300" spc="-1" strike="noStrike">
              <a:solidFill>
                <a:srgbClr val="7b9899"/>
              </a:solidFill>
              <a:latin typeface="Georgia"/>
            </a:endParaRPr>
          </a:p>
        </p:txBody>
      </p:sp>
      <p:sp>
        <p:nvSpPr>
          <p:cNvPr id="627" name=""/>
          <p:cNvSpPr txBox="1"/>
          <p:nvPr/>
        </p:nvSpPr>
        <p:spPr>
          <a:xfrm>
            <a:off x="301320" y="1527120"/>
            <a:ext cx="8504280" cy="4572000"/>
          </a:xfrm>
          <a:prstGeom prst="rect">
            <a:avLst/>
          </a:prstGeom>
          <a:noFill/>
          <a:ln w="0">
            <a:noFill/>
          </a:ln>
        </p:spPr>
        <p:txBody>
          <a:bodyPr anchor="t">
            <a:norm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Rond, bloemkoolachtig</a:t>
            </a:r>
            <a:endParaRPr b="0" lang="en-US" sz="2700" spc="-1" strike="noStrike">
              <a:solidFill>
                <a:srgbClr val="000000"/>
              </a:solidFill>
              <a:latin typeface="Georgia"/>
            </a:endParaRPr>
          </a:p>
          <a:p>
            <a:pP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Scherp begrensd</a:t>
            </a:r>
            <a:endParaRPr b="0" lang="en-US" sz="2700" spc="-1" strike="noStrike">
              <a:solidFill>
                <a:srgbClr val="000000"/>
              </a:solidFill>
              <a:latin typeface="Georgia"/>
            </a:endParaRPr>
          </a:p>
          <a:p>
            <a:pP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Sterke verhoorning</a:t>
            </a:r>
            <a:endParaRPr b="0" lang="en-US" sz="2700" spc="-1" strike="noStrike">
              <a:solidFill>
                <a:srgbClr val="000000"/>
              </a:solidFill>
              <a:latin typeface="Georgia"/>
            </a:endParaRPr>
          </a:p>
          <a:p>
            <a:pP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Meestal meerdere</a:t>
            </a:r>
            <a:endParaRPr b="0" lang="en-US" sz="2700" spc="-1" strike="noStrike">
              <a:solidFill>
                <a:srgbClr val="000000"/>
              </a:solidFill>
              <a:latin typeface="Georgia"/>
            </a:endParaRPr>
          </a:p>
          <a:p>
            <a:pP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Locatie: handen, knieën,</a:t>
            </a:r>
            <a:endParaRPr b="0" lang="en-US" sz="2700" spc="-1" strike="noStrike">
              <a:solidFill>
                <a:srgbClr val="000000"/>
              </a:solidFill>
              <a:latin typeface="Georgia"/>
            </a:endParaRPr>
          </a:p>
          <a:p>
            <a:pP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ellebogen, gelaat</a:t>
            </a:r>
            <a:endParaRPr b="0" lang="en-US" sz="2700" spc="-1" strike="noStrike">
              <a:solidFill>
                <a:srgbClr val="000000"/>
              </a:solidFill>
              <a:latin typeface="Georgia"/>
            </a:endParaRPr>
          </a:p>
          <a:p>
            <a:pP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28" name="Picture 3" descr=""/>
          <p:cNvPicPr/>
          <p:nvPr/>
        </p:nvPicPr>
        <p:blipFill>
          <a:blip r:embed="rId1"/>
          <a:stretch/>
        </p:blipFill>
        <p:spPr>
          <a:xfrm>
            <a:off x="4932360" y="2205000"/>
            <a:ext cx="3511440" cy="1530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7b9899"/>
                </a:solidFill>
                <a:latin typeface="Verdana"/>
              </a:rPr>
              <a:t>Voetwrat (verruca plantaris)</a:t>
            </a:r>
            <a:endParaRPr b="0" lang="en-US" sz="2800" spc="-1" strike="noStrike">
              <a:solidFill>
                <a:srgbClr val="7b9899"/>
              </a:solidFill>
              <a:latin typeface="Georgia"/>
            </a:endParaRPr>
          </a:p>
        </p:txBody>
      </p:sp>
      <p:sp>
        <p:nvSpPr>
          <p:cNvPr id="630"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Verruca plantaris:  ligt verzonken in het eelt van de voetzoel</a:t>
            </a:r>
            <a:endParaRPr b="0" lang="en-US" sz="2000" spc="-1" strike="noStrike">
              <a:solidFill>
                <a:srgbClr val="000000"/>
              </a:solidFill>
              <a:latin typeface="Georg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  </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Mozaïekwrat: breidt zich oppervlakkig uit.</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   </a:t>
            </a:r>
            <a:r>
              <a:rPr b="0" lang="nl-NL" sz="1000" spc="-1" strike="noStrike">
                <a:solidFill>
                  <a:srgbClr val="000000"/>
                </a:solidFill>
                <a:latin typeface="Verdana"/>
              </a:rPr>
              <a:t>Bron:htt</a:t>
            </a:r>
            <a:r>
              <a:rPr b="0" lang="nl-NL" sz="1100" spc="-1" strike="noStrike">
                <a:solidFill>
                  <a:srgbClr val="000000"/>
                </a:solidFill>
                <a:latin typeface="Verdana"/>
              </a:rPr>
              <a:t>p://www.huidziekten.nl/zakboek/dermatosen/vtxt/VerrucaVulgaris.htm</a:t>
            </a:r>
            <a:endParaRPr b="0" lang="en-US" sz="11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601"/>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100000"/>
              </a:lnSpc>
              <a:spcBef>
                <a:spcPts val="601"/>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631" name="Picture 4" descr=""/>
          <p:cNvPicPr/>
          <p:nvPr/>
        </p:nvPicPr>
        <p:blipFill>
          <a:blip r:embed="rId1"/>
          <a:stretch/>
        </p:blipFill>
        <p:spPr>
          <a:xfrm>
            <a:off x="6372360" y="4292640"/>
            <a:ext cx="2303280" cy="1538280"/>
          </a:xfrm>
          <a:prstGeom prst="rect">
            <a:avLst/>
          </a:prstGeom>
          <a:ln w="0">
            <a:noFill/>
          </a:ln>
        </p:spPr>
      </p:pic>
      <p:pic>
        <p:nvPicPr>
          <p:cNvPr id="632" name="Picture 5" descr=""/>
          <p:cNvPicPr/>
          <p:nvPr/>
        </p:nvPicPr>
        <p:blipFill>
          <a:blip r:embed="rId2"/>
          <a:stretch/>
        </p:blipFill>
        <p:spPr>
          <a:xfrm>
            <a:off x="6364440" y="2060640"/>
            <a:ext cx="2208240" cy="1655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Verruca plana</a:t>
            </a:r>
            <a:endParaRPr b="0" lang="en-US" sz="3300" spc="-1" strike="noStrike">
              <a:solidFill>
                <a:srgbClr val="7b9899"/>
              </a:solidFill>
              <a:latin typeface="Georgia"/>
            </a:endParaRPr>
          </a:p>
        </p:txBody>
      </p:sp>
      <p:sp>
        <p:nvSpPr>
          <p:cNvPr id="63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Vlakke wr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Enkele millimeters groo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Huidkleurig of lichtbruin bobbeltj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Grote getale aanwezig</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Locatie: gelaat, armen en bene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35" name="Picture 2" descr=""/>
          <p:cNvPicPr/>
          <p:nvPr/>
        </p:nvPicPr>
        <p:blipFill>
          <a:blip r:embed="rId1"/>
          <a:stretch/>
        </p:blipFill>
        <p:spPr>
          <a:xfrm>
            <a:off x="6084720" y="1628640"/>
            <a:ext cx="2616480" cy="26496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Steelwrat (verruca filiformis)</a:t>
            </a:r>
            <a:endParaRPr b="0" lang="en-US" sz="3300" spc="-1" strike="noStrike">
              <a:solidFill>
                <a:srgbClr val="7b9899"/>
              </a:solidFill>
              <a:latin typeface="Georgia"/>
            </a:endParaRPr>
          </a:p>
        </p:txBody>
      </p:sp>
      <p:sp>
        <p:nvSpPr>
          <p:cNvPr id="637" name=""/>
          <p:cNvSpPr txBox="1"/>
          <p:nvPr/>
        </p:nvSpPr>
        <p:spPr>
          <a:xfrm>
            <a:off x="247320" y="145908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Locati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oksel,lippen, ooglede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38" name="Picture 4" descr=""/>
          <p:cNvPicPr/>
          <p:nvPr/>
        </p:nvPicPr>
        <p:blipFill>
          <a:blip r:embed="rId1"/>
          <a:stretch/>
        </p:blipFill>
        <p:spPr>
          <a:xfrm>
            <a:off x="4500720" y="1700280"/>
            <a:ext cx="3517920" cy="2314440"/>
          </a:xfrm>
          <a:prstGeom prst="rect">
            <a:avLst/>
          </a:prstGeom>
          <a:ln w="0">
            <a:noFill/>
          </a:ln>
        </p:spPr>
      </p:pic>
      <p:pic>
        <p:nvPicPr>
          <p:cNvPr id="639" name="Picture 5" descr=""/>
          <p:cNvPicPr/>
          <p:nvPr/>
        </p:nvPicPr>
        <p:blipFill>
          <a:blip r:embed="rId2"/>
          <a:stretch/>
        </p:blipFill>
        <p:spPr>
          <a:xfrm>
            <a:off x="826920" y="3833640"/>
            <a:ext cx="2903760" cy="2165400"/>
          </a:xfrm>
          <a:prstGeom prst="rect">
            <a:avLst/>
          </a:prstGeom>
          <a:ln w="0">
            <a:noFill/>
          </a:ln>
        </p:spPr>
      </p:pic>
      <p:pic>
        <p:nvPicPr>
          <p:cNvPr id="640" name="Picture 6" descr=""/>
          <p:cNvPicPr/>
          <p:nvPr/>
        </p:nvPicPr>
        <p:blipFill>
          <a:blip r:embed="rId3"/>
          <a:stretch/>
        </p:blipFill>
        <p:spPr>
          <a:xfrm>
            <a:off x="4500720" y="4403880"/>
            <a:ext cx="3517920" cy="1595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6T17:58:39Z</dcterms:created>
  <dc:creator>Gebruiker</dc:creator>
  <dc:description/>
  <dc:language>en-US</dc:language>
  <cp:lastModifiedBy>Uw naam</cp:lastModifiedBy>
  <dcterms:modified xsi:type="dcterms:W3CDTF">2017-11-29T10:20:39Z</dcterms:modified>
  <cp:revision>24</cp:revision>
  <dc:subject/>
  <dc:title>Dermatologie</dc:title>
</cp:coreProperties>
</file>